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34B-0375-4E6F-8B8C-76EFEF3D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707-DF88-4886-80F2-3CE7074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EC8-470A-43C5-BF6C-EBE7E376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85C-BCFA-42EC-8B2C-C01D67CE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764-9E1C-4742-9328-CFD067B0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96F-6EF1-4424-B9CD-18459C1E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86D-C5C3-46D3-A147-C8AC5CC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23C-553D-4828-BCF0-D6D15761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614-8933-4D06-8944-1FAE63A2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43F-3609-417F-BB8B-37419D4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733-A3C0-494A-8F51-3F8BC330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05C-3F30-412E-A291-21684C98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787D-2643-40BB-954B-3A2FF526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1_1" descr=""/>
          <p:cNvPicPr/>
          <p:nvPr/>
        </p:nvPicPr>
        <p:blipFill>
          <a:blip r:embed="rId1"/>
          <a:srcRect l="0" t="0" r="35355" b="0"/>
          <a:stretch/>
        </p:blipFill>
        <p:spPr>
          <a:xfrm>
            <a:off x="609480" y="228600"/>
            <a:ext cx="8534520" cy="550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762120"/>
            <a:ext cx="1676520" cy="78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da recta homóloga de CA, con punto doble mm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ar rectas lím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s directa o inver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1_2" descr=""/>
          <p:cNvPicPr/>
          <p:nvPr/>
        </p:nvPicPr>
        <p:blipFill>
          <a:blip r:embed="rId1"/>
          <a:srcRect l="0" t="0" r="16787" b="0"/>
          <a:stretch/>
        </p:blipFill>
        <p:spPr>
          <a:xfrm>
            <a:off x="457200" y="152280"/>
            <a:ext cx="8686800" cy="572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685800"/>
            <a:ext cx="1676520" cy="7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ac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1_3" descr=""/>
          <p:cNvPicPr/>
          <p:nvPr/>
        </p:nvPicPr>
        <p:blipFill>
          <a:blip r:embed="rId1"/>
          <a:srcRect l="0" t="0" r="15555" b="0"/>
          <a:stretch/>
        </p:blipFill>
        <p:spPr>
          <a:xfrm>
            <a:off x="457200" y="0"/>
            <a:ext cx="8686800" cy="5640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609480"/>
            <a:ext cx="16765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1_4" descr=""/>
          <p:cNvPicPr/>
          <p:nvPr/>
        </p:nvPicPr>
        <p:blipFill>
          <a:blip r:embed="rId1"/>
          <a:srcRect l="0" t="0" r="19719" b="0"/>
          <a:stretch/>
        </p:blipFill>
        <p:spPr>
          <a:xfrm>
            <a:off x="457200" y="0"/>
            <a:ext cx="8686800" cy="593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80880"/>
            <a:ext cx="1676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arrollo de la có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4:51:32Z</dcterms:modified>
  <cp:revision>9</cp:revision>
  <dc:subject/>
  <dc:title>Diapositiva 1</dc:title>
</cp:coreProperties>
</file>