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C49-B4D2-4D50-A48C-B3EC6C85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3C6-8F3B-47D9-9C0D-E15568F8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E03-97F1-4168-A60E-78E45C11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54E-6F05-49CA-9167-E8149436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249-60A2-41F0-9BAA-1E9BC737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B29-60DE-4ADF-AFE8-36BFC337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8F2-954C-49D1-97EA-4E577463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22D-5DE1-4FDB-93DE-4EE83687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981-2C9E-4C97-8FC9-9C7E080F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080-9E7A-4307-B2DF-C397CC5F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638-F35D-48B9-AC64-227BB83E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031-0726-45B4-A50A-A97E153A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DDAA-CCE9-402A-B9C5-37C0FA85C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5976720" cy="584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Geometría Proyec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587700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ometrí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y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Arial"/>
              </a:rPr>
              <a:t>cónicas/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ej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4:44:13Z</dcterms:created>
  <dc:creator>benja</dc:creator>
  <dc:description/>
  <dc:language>en-US</dc:language>
  <cp:lastModifiedBy>benja</cp:lastModifiedBy>
  <dcterms:modified xsi:type="dcterms:W3CDTF">2008-05-28T04:44:34Z</dcterms:modified>
  <cp:revision>1</cp:revision>
  <dc:subject/>
  <dc:title>Diapositiva 1</dc:title>
</cp:coreProperties>
</file>