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FA24-C745-40D0-8193-AD0E6921E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CFA4-C3B7-49BF-9BAB-56E1BEB9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7612-96BA-437A-A7B2-D173AD828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D163-5697-44DF-9AD4-56850AD5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8FCB-67F5-4B9B-B162-B943CC1B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D30C-640C-4903-BE87-6CBABE0A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83B7-8996-4671-B3AE-8DBE905E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4F87-3F26-461C-8C6C-988F0761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C206-3453-4465-95C0-8D582F88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DA90-2455-492D-BBD9-A8C3B141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A4A8-AB23-4891-A095-36B27BEF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92E2-829F-4916-9F74-A15F3324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CDBA-9468-49B5-BCFD-44396C81A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5976720" cy="5840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Geometría Proyecti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40360" y="5877000"/>
            <a:ext cx="2808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eometría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ye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c0c0"/>
                </a:solidFill>
                <a:latin typeface="Arial"/>
              </a:rPr>
              <a:t>cónicas/ </a:t>
            </a:r>
            <a:r>
              <a:rPr b="1" i="1" lang="en-US" sz="3200" spc="-1" strike="noStrike">
                <a:solidFill>
                  <a:srgbClr val="c0c0c0"/>
                </a:solidFill>
                <a:latin typeface="Arial"/>
              </a:rPr>
              <a:t>ej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04:44:13Z</dcterms:created>
  <dc:creator>benja</dc:creator>
  <dc:description/>
  <dc:language>en-US</dc:language>
  <cp:lastModifiedBy>benja</cp:lastModifiedBy>
  <dcterms:modified xsi:type="dcterms:W3CDTF">2008-05-28T04:44:34Z</dcterms:modified>
  <cp:revision>1</cp:revision>
  <dc:subject/>
  <dc:title>Diapositiva 1</dc:title>
</cp:coreProperties>
</file>