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215-668A-4C7A-8A11-4D7C9354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134-760A-4263-835D-982D3722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395-C591-407D-A8BA-903244A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D8B-FDEC-4632-B3B4-6CB92FAB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B32-7D57-4D31-BD38-22989DC9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55B-815B-4DA4-829A-3AC31BB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CDB-3541-4BA3-9C84-F5AA3B1E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4C4-67D8-4501-8A4F-A4D3236E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8E8-3E8D-4D63-B25B-05966A90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4F8-C54B-4A64-AF59-C4124FF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D7F-3062-4EA0-BE96-D435593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B49-7691-458C-B552-3F611C6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1C1-05EB-4713-B790-A5307FEC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36882" b="0"/>
          <a:stretch/>
        </p:blipFill>
        <p:spPr>
          <a:xfrm>
            <a:off x="468360" y="0"/>
            <a:ext cx="6624720" cy="574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189000"/>
            <a:ext cx="2665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468360" y="0"/>
            <a:ext cx="734364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38592" b="0"/>
          <a:stretch/>
        </p:blipFill>
        <p:spPr>
          <a:xfrm>
            <a:off x="468360" y="0"/>
            <a:ext cx="6408720" cy="571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14480" y="809640"/>
            <a:ext cx="5315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00160" y="905040"/>
            <a:ext cx="514368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36132" b="0"/>
          <a:stretch/>
        </p:blipFill>
        <p:spPr>
          <a:xfrm>
            <a:off x="611280" y="0"/>
            <a:ext cx="6767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5396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2723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7354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33560" y="357120"/>
            <a:ext cx="52768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34259" b="0"/>
          <a:stretch/>
        </p:blipFill>
        <p:spPr>
          <a:xfrm>
            <a:off x="468360" y="0"/>
            <a:ext cx="6983280" cy="581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42920" y="189000"/>
            <a:ext cx="2376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6-17T17:38:09Z</dcterms:modified>
  <cp:revision>10</cp:revision>
  <dc:subject/>
  <dc:title>Diapositiva 1</dc:title>
</cp:coreProperties>
</file>