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CCE-F678-47B8-8AB0-71A9ABC4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187-4F1E-4355-9464-2D673062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3B4-545C-405B-9C5A-EF20A613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140-06B4-4C62-A757-38109E6B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67A-F7B9-432C-A46E-FB1520F4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F60-2050-4FDD-93D6-7FD05CFC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770-426F-4012-B2D3-21B7FBAD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AD9-3997-48E5-BDA6-CF13F888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C3B-E937-4352-8483-8F96D531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9F6-9105-475E-9DBE-987A4BD2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0BD-AE1F-4323-A05E-B549828E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D9A-2AC5-4B8A-A275-0A0FB857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5506-1F8A-49E2-A7CE-90C7EC4C5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345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36882" b="0"/>
          <a:stretch/>
        </p:blipFill>
        <p:spPr>
          <a:xfrm>
            <a:off x="468360" y="0"/>
            <a:ext cx="6624720" cy="5748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6920" y="189000"/>
            <a:ext cx="26654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28126" b="0"/>
          <a:stretch/>
        </p:blipFill>
        <p:spPr>
          <a:xfrm>
            <a:off x="468360" y="0"/>
            <a:ext cx="734364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38592" b="0"/>
          <a:stretch/>
        </p:blipFill>
        <p:spPr>
          <a:xfrm>
            <a:off x="468360" y="0"/>
            <a:ext cx="6408720" cy="5713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14480" y="809640"/>
            <a:ext cx="53150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00160" y="905040"/>
            <a:ext cx="514368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36132" b="0"/>
          <a:stretch/>
        </p:blipFill>
        <p:spPr>
          <a:xfrm>
            <a:off x="611280" y="0"/>
            <a:ext cx="67672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5396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30749" b="0"/>
          <a:stretch/>
        </p:blipFill>
        <p:spPr>
          <a:xfrm>
            <a:off x="468360" y="0"/>
            <a:ext cx="727236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933480"/>
            <a:ext cx="73548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33560" y="357120"/>
            <a:ext cx="52768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34259" b="0"/>
          <a:stretch/>
        </p:blipFill>
        <p:spPr>
          <a:xfrm>
            <a:off x="468360" y="0"/>
            <a:ext cx="6983280" cy="581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42920" y="189000"/>
            <a:ext cx="2376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6-17T17:38:09Z</dcterms:modified>
  <cp:revision>10</cp:revision>
  <dc:subject/>
  <dc:title>Diapositiva 1</dc:title>
</cp:coreProperties>
</file>