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278-05CB-4C07-A8D6-1005B6FD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300-AD91-4F44-A5E6-FF8EBCFF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D1F-D79C-4080-86D8-FE64E454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A1F-5602-456A-B12D-07E6A775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240-58DB-4892-9772-2616856F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92C-A87A-4602-A3C7-6E5CCF3A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AD0-6C59-4FE1-B2E6-DC5A9A4F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868-60C1-4C1E-9299-28C7E2DD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4ED-74B3-43AD-B9DB-26BC8E8D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6EA-1781-450E-A34A-B61C3750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EF8-6F62-4BDA-B52B-11684C28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267-8528-4F91-A094-660CC4B2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871A-7AED-4801-A033-D7E6D7079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345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36882" b="0"/>
          <a:stretch/>
        </p:blipFill>
        <p:spPr>
          <a:xfrm>
            <a:off x="468360" y="0"/>
            <a:ext cx="6624720" cy="5748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6920" y="189000"/>
            <a:ext cx="26654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28126" b="0"/>
          <a:stretch/>
        </p:blipFill>
        <p:spPr>
          <a:xfrm>
            <a:off x="468360" y="0"/>
            <a:ext cx="734364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38592" b="0"/>
          <a:stretch/>
        </p:blipFill>
        <p:spPr>
          <a:xfrm>
            <a:off x="468360" y="0"/>
            <a:ext cx="6408720" cy="5713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14480" y="809640"/>
            <a:ext cx="53150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00160" y="905040"/>
            <a:ext cx="514368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36132" b="0"/>
          <a:stretch/>
        </p:blipFill>
        <p:spPr>
          <a:xfrm>
            <a:off x="611280" y="0"/>
            <a:ext cx="676728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53960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30749" b="0"/>
          <a:stretch/>
        </p:blipFill>
        <p:spPr>
          <a:xfrm>
            <a:off x="468360" y="0"/>
            <a:ext cx="727236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933480"/>
            <a:ext cx="73548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33560" y="357120"/>
            <a:ext cx="527688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19640" y="5445000"/>
            <a:ext cx="4033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os y Polares / ejercicio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219640" y="4508640"/>
            <a:ext cx="392436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6156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Geometría 1º Año / Diseño / </a:t>
            </a: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FAU 2008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8080"/>
                </a:solidFill>
                <a:latin typeface="Arial"/>
              </a:rPr>
              <a:t>Polos y Pol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Prof: Marcelo Valenzuela / Benjamín Leyton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165720"/>
            <a:ext cx="7380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34259" b="0"/>
          <a:stretch/>
        </p:blipFill>
        <p:spPr>
          <a:xfrm>
            <a:off x="468360" y="0"/>
            <a:ext cx="6983280" cy="581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42920" y="189000"/>
            <a:ext cx="23767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21:16:06Z</dcterms:created>
  <dc:creator>benja</dc:creator>
  <dc:description/>
  <dc:language>en-US</dc:language>
  <cp:lastModifiedBy>benja</cp:lastModifiedBy>
  <dcterms:modified xsi:type="dcterms:W3CDTF">2008-06-17T17:38:09Z</dcterms:modified>
  <cp:revision>10</cp:revision>
  <dc:subject/>
  <dc:title>Diapositiva 1</dc:title>
</cp:coreProperties>
</file>