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893-C072-4AEE-AE91-1B817402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BC1-D2C2-4330-9AED-3DE2368D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99B-41B8-44DC-95D3-4B416A74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8BF-19EE-4DAE-AA15-8CA181E8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F14-DB36-4088-A82C-945A5D30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561-E29C-47D6-9D3D-2A6CA49E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2B4-4D4A-48C6-BC7E-A6CD729A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CCA-8F10-4034-87DB-86B5A426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052-E68E-4293-8F8C-B18EFEA7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2A8-29FE-4707-A0D2-AC005118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06D-829B-411F-BAB8-85A21CBD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6F9-5041-41FC-B169-643CF71B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FDDA-BF4E-41B2-BB5C-538255894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2960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60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47800" y="514440"/>
            <a:ext cx="56484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7641" t="0" r="25502" b="0"/>
          <a:stretch/>
        </p:blipFill>
        <p:spPr>
          <a:xfrm>
            <a:off x="468360" y="0"/>
            <a:ext cx="723744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20256" b="0"/>
          <a:stretch/>
        </p:blipFill>
        <p:spPr>
          <a:xfrm>
            <a:off x="611280" y="101520"/>
            <a:ext cx="799128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5-13T00:49:40Z</dcterms:modified>
  <cp:revision>9</cp:revision>
  <dc:subject/>
  <dc:title>Diapositiva 1</dc:title>
</cp:coreProperties>
</file>