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7443-D290-4A28-B520-AB4E2B01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2B3-C58D-460C-93AA-74ECBBD3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1AF1-4CBE-4D0F-ACB9-0D5FB279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D778-01ED-434D-A384-A65ED3D7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77D-0802-4C11-BB27-AD872698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B0F5-16C7-49F0-A6AE-BFB7E62F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C16-45A5-47C0-A154-B5012163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930-AD16-40CA-9CC3-E1706FD5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5DE-4FE6-45F8-906A-C01B4A23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343A-F7A5-43AA-9889-F306A981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382-624C-4852-B420-968E3FB5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DF8-7B7E-46F5-9CB8-2AC1839F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E9D2-FE21-420B-A83C-6DC5C77FF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397160"/>
            <a:ext cx="8229600" cy="36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8424720" cy="4905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35129" b="2261"/>
          <a:stretch/>
        </p:blipFill>
        <p:spPr>
          <a:xfrm>
            <a:off x="468360" y="189000"/>
            <a:ext cx="6480000" cy="5976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9730" t="0" r="32505" b="0"/>
          <a:stretch/>
        </p:blipFill>
        <p:spPr>
          <a:xfrm>
            <a:off x="539640" y="0"/>
            <a:ext cx="6408720" cy="6075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27259" b="0"/>
          <a:stretch/>
        </p:blipFill>
        <p:spPr>
          <a:xfrm>
            <a:off x="468360" y="115920"/>
            <a:ext cx="7632720" cy="5746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40360" y="620640"/>
            <a:ext cx="403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ares cada 30º en toda la circunferenc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a prueba / fil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28126" b="0"/>
          <a:stretch/>
        </p:blipFill>
        <p:spPr>
          <a:xfrm>
            <a:off x="468360" y="115920"/>
            <a:ext cx="7559640" cy="5761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40360" y="620640"/>
            <a:ext cx="403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olares cada 15º en la semi circunferenc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Transformaciones euclidianas, inversiones circulare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</cp:lastModifiedBy>
  <dcterms:modified xsi:type="dcterms:W3CDTF">2008-05-13T00:44:11Z</dcterms:modified>
  <cp:revision>8</cp:revision>
  <dc:subject/>
  <dc:title>Diapositiva 1</dc:title>
</cp:coreProperties>
</file>