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C48-62DD-40CB-A432-96416B17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195-265F-468E-9F2F-2DB9969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22A-4CDB-400A-8970-2635AF8D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639-5A5A-4B6B-B478-DC7173B0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A32-CDAD-4B93-9802-1ED6C61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5EA-154B-4897-B5BB-9B08947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7A3-E2CC-44C7-85B5-2448CB0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FCC-FBB3-4003-BC42-B8A015E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2DB-2731-4BA8-ADD5-D1E06E0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0CF-ECF8-40C9-9902-1446906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41C-2FD8-40AF-86C4-6986D76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F37-E298-4DE7-8A5E-FF9C00F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A86-98A5-40C2-A636-2665CBE1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60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47800" y="514440"/>
            <a:ext cx="56484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7641" t="0" r="25502" b="0"/>
          <a:stretch/>
        </p:blipFill>
        <p:spPr>
          <a:xfrm>
            <a:off x="468360" y="0"/>
            <a:ext cx="72374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20256" b="0"/>
          <a:stretch/>
        </p:blipFill>
        <p:spPr>
          <a:xfrm>
            <a:off x="611280" y="101520"/>
            <a:ext cx="799128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13T00:49:40Z</dcterms:modified>
  <cp:revision>9</cp:revision>
  <dc:subject/>
  <dc:title>Diapositiva 1</dc:title>
</cp:coreProperties>
</file>