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F4A-D8DA-4514-8285-D036D5A7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9E6-6352-43BC-98DC-EC886037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CE3-90F5-4FAA-BF21-5B47E469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E0C-EF73-4EBE-AC3C-8F472F85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795-FB14-4512-AD0A-D3A657C9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782-C125-4F43-BDC0-6592FF90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C73-C53F-4C87-AA35-F4373E7F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EC2-0F24-4F0C-922B-FCFB7114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70B-BAB1-4387-88E9-33FA4F11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E06-88FF-4470-89C8-92C6016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7BB-B512-446A-91E9-C8D6E44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24E-62E3-4392-8455-40C983D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C8E0-411B-4F15-A072-CF1DB54F4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397160"/>
            <a:ext cx="822960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424720" cy="490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35129" b="2261"/>
          <a:stretch/>
        </p:blipFill>
        <p:spPr>
          <a:xfrm>
            <a:off x="468360" y="189000"/>
            <a:ext cx="6480000" cy="597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9730" t="0" r="32505" b="0"/>
          <a:stretch/>
        </p:blipFill>
        <p:spPr>
          <a:xfrm>
            <a:off x="539640" y="0"/>
            <a:ext cx="6408720" cy="6075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27259" b="0"/>
          <a:stretch/>
        </p:blipFill>
        <p:spPr>
          <a:xfrm>
            <a:off x="468360" y="115920"/>
            <a:ext cx="7632720" cy="5746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40360" y="620640"/>
            <a:ext cx="403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ares cada 30º en toda la circunferenc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28126" b="0"/>
          <a:stretch/>
        </p:blipFill>
        <p:spPr>
          <a:xfrm>
            <a:off x="468360" y="115920"/>
            <a:ext cx="7559640" cy="576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40360" y="620640"/>
            <a:ext cx="403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lares cada 15º en la semi circunferenc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5-13T00:44:11Z</dcterms:modified>
  <cp:revision>8</cp:revision>
  <dc:subject/>
  <dc:title>Diapositiva 1</dc:title>
</cp:coreProperties>
</file>