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92E-F031-430A-AD77-83CC4B34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8D5-20C9-4409-B5B7-0C9B3611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004-37F8-45BC-80F2-2D6C2DA3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2DB-04FF-4A28-A440-E399AC26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956-9735-41B4-9AF9-D99CA6A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3FA-9516-4A0F-8205-AD3C523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090-9C67-4391-A194-B3B969A2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AEF-D31B-429A-869F-1951DF42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E3D-BB22-4B19-ABBC-E0263867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474-60AD-4100-A0E6-2CE54F9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AC9-8646-4D24-937E-246088BE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056-200C-4FE5-94AE-9EA5CB3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5E9-F8CD-4AA1-BCFB-EAA01F65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30510" r="0" b="0"/>
          <a:stretch/>
        </p:blipFill>
        <p:spPr>
          <a:xfrm>
            <a:off x="0" y="0"/>
            <a:ext cx="6912000" cy="517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43868" b="7004"/>
          <a:stretch/>
        </p:blipFill>
        <p:spPr>
          <a:xfrm>
            <a:off x="468360" y="0"/>
            <a:ext cx="6480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0493" t="0" r="39508" b="17451"/>
          <a:stretch/>
        </p:blipFill>
        <p:spPr>
          <a:xfrm>
            <a:off x="1619280" y="0"/>
            <a:ext cx="58323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08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41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13581"/>
          <a:stretch/>
        </p:blipFill>
        <p:spPr>
          <a:xfrm>
            <a:off x="1276200" y="-328680"/>
            <a:ext cx="65916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12862"/>
          <a:stretch/>
        </p:blipFill>
        <p:spPr>
          <a:xfrm>
            <a:off x="1619280" y="0"/>
            <a:ext cx="44751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16551"/>
          <a:stretch/>
        </p:blipFill>
        <p:spPr>
          <a:xfrm>
            <a:off x="2695680" y="274680"/>
            <a:ext cx="44719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25502" b="0"/>
          <a:stretch/>
        </p:blipFill>
        <p:spPr>
          <a:xfrm>
            <a:off x="468360" y="0"/>
            <a:ext cx="79912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0" y="274680"/>
            <a:ext cx="4383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28993" b="0"/>
          <a:stretch/>
        </p:blipFill>
        <p:spPr>
          <a:xfrm>
            <a:off x="468360" y="0"/>
            <a:ext cx="85676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34259" b="14366"/>
          <a:stretch/>
        </p:blipFill>
        <p:spPr>
          <a:xfrm>
            <a:off x="468360" y="0"/>
            <a:ext cx="828036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4755" b="7004"/>
          <a:stretch/>
        </p:blipFill>
        <p:spPr>
          <a:xfrm>
            <a:off x="468360" y="0"/>
            <a:ext cx="64087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07T22:53:12Z</dcterms:modified>
  <cp:revision>7</cp:revision>
  <dc:subject/>
  <dc:title>Diapositiva 1</dc:title>
</cp:coreProperties>
</file>