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CD40-01D4-4B10-ACF0-DC1F4B89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5BE-5351-4E2B-A164-1491166B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390-D2F2-4F47-81BA-7FA2A191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FD3-1EA6-47B1-9238-FEE20554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C72-76C5-46EC-B95F-CCDDBFB0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A6A-7052-4B29-BF58-6BB235D9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308-3046-4F6A-9C3D-C56B3F2E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60B1-A318-4A50-96D1-9895DC35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864-BC9B-480B-A7E3-F0240DE7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E0D-FEBB-421B-8055-7AD4AE04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65A-C23A-48BB-8C04-F53F33BB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350-0DFF-472A-99BC-27C8BA41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0000-E23E-46E8-AD3F-B6CDB2AF4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grayscl/>
          </a:blip>
          <a:srcRect l="0" t="30510" r="0" b="0"/>
          <a:stretch/>
        </p:blipFill>
        <p:spPr>
          <a:xfrm>
            <a:off x="0" y="0"/>
            <a:ext cx="6912000" cy="5178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 M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0" r="43868" b="7004"/>
          <a:stretch/>
        </p:blipFill>
        <p:spPr>
          <a:xfrm>
            <a:off x="468360" y="0"/>
            <a:ext cx="648000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10493" t="0" r="39508" b="17451"/>
          <a:stretch/>
        </p:blipFill>
        <p:spPr>
          <a:xfrm>
            <a:off x="1619280" y="0"/>
            <a:ext cx="583236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273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273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08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30749" b="0"/>
          <a:stretch/>
        </p:blipFill>
        <p:spPr>
          <a:xfrm>
            <a:off x="468360" y="0"/>
            <a:ext cx="7416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13581"/>
          <a:stretch/>
        </p:blipFill>
        <p:spPr>
          <a:xfrm>
            <a:off x="1276200" y="-328680"/>
            <a:ext cx="659160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0" r="0" b="12862"/>
          <a:stretch/>
        </p:blipFill>
        <p:spPr>
          <a:xfrm>
            <a:off x="1619280" y="0"/>
            <a:ext cx="44751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16551"/>
          <a:stretch/>
        </p:blipFill>
        <p:spPr>
          <a:xfrm>
            <a:off x="2695680" y="274680"/>
            <a:ext cx="447192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25502" b="0"/>
          <a:stretch/>
        </p:blipFill>
        <p:spPr>
          <a:xfrm>
            <a:off x="468360" y="0"/>
            <a:ext cx="799128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79600" y="274680"/>
            <a:ext cx="4383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28993" b="0"/>
          <a:stretch/>
        </p:blipFill>
        <p:spPr>
          <a:xfrm>
            <a:off x="468360" y="0"/>
            <a:ext cx="85676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34259" b="14366"/>
          <a:stretch/>
        </p:blipFill>
        <p:spPr>
          <a:xfrm>
            <a:off x="468360" y="0"/>
            <a:ext cx="828036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44755" b="7004"/>
          <a:stretch/>
        </p:blipFill>
        <p:spPr>
          <a:xfrm>
            <a:off x="468360" y="0"/>
            <a:ext cx="640872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</cp:lastModifiedBy>
  <dcterms:modified xsi:type="dcterms:W3CDTF">2008-05-07T22:53:12Z</dcterms:modified>
  <cp:revision>7</cp:revision>
  <dc:subject/>
  <dc:title>Diapositiva 1</dc:title>
</cp:coreProperties>
</file>