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164-80AD-4ADD-9E21-D1FC555F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AA8-8363-4B38-B52D-C32D48E6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73F-F13E-469F-9576-A30AF7A3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700-4D10-48F0-81FD-2699F29F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C8D-466D-402E-AA02-E207F1B9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489-E215-4049-81F6-88840261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C88-241B-48DE-A747-FF3FF2F1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A32-3A80-4AA0-882E-BCFA272F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A3E-E2A7-4E8D-BB2C-62B53E3B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05D-99E1-4E26-B0DB-CD658A95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F46-F05A-46E6-B8D9-9A2E5FEA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6F5-EE7E-44C2-9615-469D507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857E-B5A7-469D-BA2F-43129EA9E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grayscl/>
          </a:blip>
          <a:srcRect l="0" t="30510" r="0" b="0"/>
          <a:stretch/>
        </p:blipFill>
        <p:spPr>
          <a:xfrm>
            <a:off x="0" y="0"/>
            <a:ext cx="6912000" cy="5178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 M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43868" b="7004"/>
          <a:stretch/>
        </p:blipFill>
        <p:spPr>
          <a:xfrm>
            <a:off x="468360" y="0"/>
            <a:ext cx="64800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10493" t="0" r="39508" b="17451"/>
          <a:stretch/>
        </p:blipFill>
        <p:spPr>
          <a:xfrm>
            <a:off x="1619280" y="0"/>
            <a:ext cx="583236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27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27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08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30749" b="0"/>
          <a:stretch/>
        </p:blipFill>
        <p:spPr>
          <a:xfrm>
            <a:off x="468360" y="0"/>
            <a:ext cx="7416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13581"/>
          <a:stretch/>
        </p:blipFill>
        <p:spPr>
          <a:xfrm>
            <a:off x="1276200" y="-328680"/>
            <a:ext cx="659160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12862"/>
          <a:stretch/>
        </p:blipFill>
        <p:spPr>
          <a:xfrm>
            <a:off x="1619280" y="0"/>
            <a:ext cx="44751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16551"/>
          <a:stretch/>
        </p:blipFill>
        <p:spPr>
          <a:xfrm>
            <a:off x="2695680" y="274680"/>
            <a:ext cx="447192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25502" b="0"/>
          <a:stretch/>
        </p:blipFill>
        <p:spPr>
          <a:xfrm>
            <a:off x="468360" y="0"/>
            <a:ext cx="799128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79600" y="274680"/>
            <a:ext cx="4383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28993" b="0"/>
          <a:stretch/>
        </p:blipFill>
        <p:spPr>
          <a:xfrm>
            <a:off x="468360" y="0"/>
            <a:ext cx="85676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34259" b="14366"/>
          <a:stretch/>
        </p:blipFill>
        <p:spPr>
          <a:xfrm>
            <a:off x="468360" y="0"/>
            <a:ext cx="828036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44755" b="7004"/>
          <a:stretch/>
        </p:blipFill>
        <p:spPr>
          <a:xfrm>
            <a:off x="468360" y="0"/>
            <a:ext cx="640872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5-07T22:53:12Z</dcterms:modified>
  <cp:revision>7</cp:revision>
  <dc:subject/>
  <dc:title>Diapositiva 1</dc:title>
</cp:coreProperties>
</file>