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703-DCB9-4BC4-B993-E88050D2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307-C216-4A28-BAD0-B249F147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F5C-590F-4BA4-AFD1-CDAC3725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27F-9ABF-4323-B09D-B3DFB5A6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446-9621-4C0B-93F0-DF05B46C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42A8-4402-4E12-8E26-DF2356AE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8AC1-258E-48A3-AD5F-D1614D3F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B80-708D-4F23-98E5-50245C44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C31-6B9D-4733-A465-BAAED285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190-122A-40DF-9F56-35AAF6C5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A2B-FE93-4BB3-9CBC-56C67DC2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E95-9255-4C92-8CC0-FDE06450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B29B-BDFA-478D-BFFE-176B7CC9C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grayscl/>
          </a:blip>
          <a:srcRect l="0" t="0" r="52096" b="0"/>
          <a:stretch/>
        </p:blipFill>
        <p:spPr>
          <a:xfrm>
            <a:off x="0" y="0"/>
            <a:ext cx="9144000" cy="578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28 a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328680"/>
            <a:ext cx="86868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5027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645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33509" b="0"/>
          <a:stretch/>
        </p:blipFill>
        <p:spPr>
          <a:xfrm>
            <a:off x="539640" y="189000"/>
            <a:ext cx="684072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49134" b="5844"/>
          <a:stretch/>
        </p:blipFill>
        <p:spPr>
          <a:xfrm>
            <a:off x="468360" y="0"/>
            <a:ext cx="5783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57546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82296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1748" t="8029" r="16743" b="13059"/>
          <a:stretch/>
        </p:blipFill>
        <p:spPr>
          <a:xfrm>
            <a:off x="539640" y="476280"/>
            <a:ext cx="76327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0630" t="253" r="17632" b="0"/>
          <a:stretch/>
        </p:blipFill>
        <p:spPr>
          <a:xfrm>
            <a:off x="539640" y="620640"/>
            <a:ext cx="76327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760" t="0" r="17632" b="0"/>
          <a:stretch/>
        </p:blipFill>
        <p:spPr>
          <a:xfrm>
            <a:off x="611280" y="0"/>
            <a:ext cx="813744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19370" b="0"/>
          <a:stretch/>
        </p:blipFill>
        <p:spPr>
          <a:xfrm>
            <a:off x="468360" y="476280"/>
            <a:ext cx="84963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0" b="15329"/>
          <a:stretch/>
        </p:blipFill>
        <p:spPr>
          <a:xfrm>
            <a:off x="684360" y="260280"/>
            <a:ext cx="801036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4309" b="16551"/>
          <a:stretch/>
        </p:blipFill>
        <p:spPr>
          <a:xfrm>
            <a:off x="611280" y="189000"/>
            <a:ext cx="835344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4-29T07:16:31Z</dcterms:modified>
  <cp:revision>6</cp:revision>
  <dc:subject/>
  <dc:title>Diapositiva 1</dc:title>
</cp:coreProperties>
</file>