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28D-BC87-460D-9BF1-12028335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17A-8AE3-4BBF-B4BA-230CDB42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E88-46DB-4572-8746-788DBEFA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AB01-47E8-4B27-A48B-2D82FFDC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48A4-D705-45F5-9AD3-E1EFF999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C42E-A4BA-48CB-B1F0-74918A28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6C0-E942-44CD-997D-683B689F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E1E-30D8-4BE4-9CD3-E0D8628B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277-BEE9-4F41-8248-C6F44535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B0F-B127-4684-A64E-E49B7540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6F9-6D59-41F6-8FA0-54B34CEC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F48-4C3E-432D-8AB6-297362EA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79A2-8CAE-42D5-8AD9-3359433A8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grayscl/>
          </a:blip>
          <a:srcRect l="0" t="0" r="52096" b="0"/>
          <a:stretch/>
        </p:blipFill>
        <p:spPr>
          <a:xfrm>
            <a:off x="0" y="0"/>
            <a:ext cx="9144000" cy="578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28 a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328680"/>
            <a:ext cx="86868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5027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645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33509" b="0"/>
          <a:stretch/>
        </p:blipFill>
        <p:spPr>
          <a:xfrm>
            <a:off x="539640" y="189000"/>
            <a:ext cx="684072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49134" b="5844"/>
          <a:stretch/>
        </p:blipFill>
        <p:spPr>
          <a:xfrm>
            <a:off x="468360" y="0"/>
            <a:ext cx="5783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57546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82296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1748" t="8029" r="16743" b="13059"/>
          <a:stretch/>
        </p:blipFill>
        <p:spPr>
          <a:xfrm>
            <a:off x="539640" y="476280"/>
            <a:ext cx="76327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0630" t="253" r="17632" b="0"/>
          <a:stretch/>
        </p:blipFill>
        <p:spPr>
          <a:xfrm>
            <a:off x="539640" y="620640"/>
            <a:ext cx="76327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760" t="0" r="17632" b="0"/>
          <a:stretch/>
        </p:blipFill>
        <p:spPr>
          <a:xfrm>
            <a:off x="611280" y="0"/>
            <a:ext cx="813744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19370" b="0"/>
          <a:stretch/>
        </p:blipFill>
        <p:spPr>
          <a:xfrm>
            <a:off x="468360" y="476280"/>
            <a:ext cx="849636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0" r="0" b="15329"/>
          <a:stretch/>
        </p:blipFill>
        <p:spPr>
          <a:xfrm>
            <a:off x="684360" y="260280"/>
            <a:ext cx="801036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4309" b="16551"/>
          <a:stretch/>
        </p:blipFill>
        <p:spPr>
          <a:xfrm>
            <a:off x="611280" y="189000"/>
            <a:ext cx="835344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</cp:lastModifiedBy>
  <dcterms:modified xsi:type="dcterms:W3CDTF">2008-04-29T07:16:31Z</dcterms:modified>
  <cp:revision>6</cp:revision>
  <dc:subject/>
  <dc:title>Diapositiva 1</dc:title>
</cp:coreProperties>
</file>