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067-B74A-4856-92F9-36014775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4D7-B01D-41E7-94CD-60C7A76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AB5-A682-432A-B579-F7DF573E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CE6-D02B-4B0C-A9A1-B5231D4F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999-0175-4EDB-AF73-E15C4B38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5F9-A688-4172-9C39-2C161A5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0AF-77A2-43B4-B864-C4D3673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BA7-8689-4C20-8B52-678F3412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086-4B79-485D-9AF7-1974DC74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AC0-0A34-4AE2-BB0B-E446C474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0B2-2994-40BF-B657-BBA2E0AB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645-862D-454F-9302-19F7287F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B13-D467-4622-8060-E350FA7C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rcRect l="0" t="0" r="52096" b="0"/>
          <a:stretch/>
        </p:blipFill>
        <p:spPr>
          <a:xfrm>
            <a:off x="0" y="0"/>
            <a:ext cx="9144000" cy="578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28 a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328680"/>
            <a:ext cx="86868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502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645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33509" b="0"/>
          <a:stretch/>
        </p:blipFill>
        <p:spPr>
          <a:xfrm>
            <a:off x="539640" y="189000"/>
            <a:ext cx="684072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49134" b="5844"/>
          <a:stretch/>
        </p:blipFill>
        <p:spPr>
          <a:xfrm>
            <a:off x="468360" y="0"/>
            <a:ext cx="578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7546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82296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1748" t="8029" r="16743" b="13059"/>
          <a:stretch/>
        </p:blipFill>
        <p:spPr>
          <a:xfrm>
            <a:off x="539640" y="476280"/>
            <a:ext cx="7632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0630" t="253" r="17632" b="0"/>
          <a:stretch/>
        </p:blipFill>
        <p:spPr>
          <a:xfrm>
            <a:off x="539640" y="620640"/>
            <a:ext cx="7632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760" t="0" r="17632" b="0"/>
          <a:stretch/>
        </p:blipFill>
        <p:spPr>
          <a:xfrm>
            <a:off x="611280" y="0"/>
            <a:ext cx="81374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9370" b="0"/>
          <a:stretch/>
        </p:blipFill>
        <p:spPr>
          <a:xfrm>
            <a:off x="468360" y="476280"/>
            <a:ext cx="84963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15329"/>
          <a:stretch/>
        </p:blipFill>
        <p:spPr>
          <a:xfrm>
            <a:off x="684360" y="260280"/>
            <a:ext cx="80103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4309" b="16551"/>
          <a:stretch/>
        </p:blipFill>
        <p:spPr>
          <a:xfrm>
            <a:off x="611280" y="189000"/>
            <a:ext cx="83534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4-29T07:16:31Z</dcterms:modified>
  <cp:revision>6</cp:revision>
  <dc:subject/>
  <dc:title>Diapositiva 1</dc:title>
</cp:coreProperties>
</file>