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127-CCA9-4513-B49F-65CD1FE7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88B-8395-41D7-8EC8-6B31CC5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D52-F98E-4A36-8977-C0BF14DB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B77-CE2B-48A8-AAA9-E5902EC1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D7F-186A-4E1B-B4AD-E1242631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C63-E53F-48ED-A75D-B39EE6A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91D-AC39-41E4-89C8-61FFBAAD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6BA-4212-49ED-9AA8-3F06CA91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619-7355-4488-8336-61ED6F42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E02-B645-4C10-A5B2-5BB0D04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DBD-0C22-4A1A-BDF3-C0B8639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B59-DCD9-46C0-9C7A-26A7F82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2BC2-B77C-4200-A88A-8D0FDDE7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746" b="0"/>
          <a:stretch/>
        </p:blipFill>
        <p:spPr>
          <a:xfrm>
            <a:off x="0" y="0"/>
            <a:ext cx="9144000" cy="500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00720" y="5445000"/>
            <a:ext cx="2952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59633" b="30656"/>
          <a:stretch/>
        </p:blipFill>
        <p:spPr>
          <a:xfrm>
            <a:off x="1547640" y="260280"/>
            <a:ext cx="6193080" cy="582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52625" b="24132"/>
          <a:stretch/>
        </p:blipFill>
        <p:spPr>
          <a:xfrm>
            <a:off x="1332000" y="189000"/>
            <a:ext cx="6769080" cy="593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5761080" cy="532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189000"/>
            <a:ext cx="8675640" cy="589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33372" b="5443"/>
          <a:stretch/>
        </p:blipFill>
        <p:spPr>
          <a:xfrm>
            <a:off x="755640" y="260280"/>
            <a:ext cx="7561440" cy="587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23746" b="0"/>
          <a:stretch/>
        </p:blipFill>
        <p:spPr>
          <a:xfrm>
            <a:off x="539640" y="0"/>
            <a:ext cx="8353440" cy="599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684360" y="115920"/>
            <a:ext cx="7920000" cy="603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26370" b="0"/>
          <a:stretch/>
        </p:blipFill>
        <p:spPr>
          <a:xfrm>
            <a:off x="539640" y="54000"/>
            <a:ext cx="8136000" cy="60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7T21:25:00Z</dcterms:modified>
  <cp:revision>3</cp:revision>
  <dc:subject/>
  <dc:title>Diapositiva 1</dc:title>
</cp:coreProperties>
</file>