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29B-6154-42A7-8499-936AF43C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67D-C85D-40E4-BDEA-D2D6153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076-D88F-4900-BCE3-ED0A7316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8E2-5C9A-4D47-AC0E-5EEBB7E6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A59-2DE4-4B7D-AB0D-38E40EC1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626-B624-4DFC-B18F-773BFD22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528-4E33-4E42-B3D0-1AB8D1FD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088-B0ED-462B-BD80-9F6574F2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E4E-D484-4F61-88BB-5C8E68D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EFE-FD71-405D-8849-3DF6C21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46A-425E-4BDD-BAD4-3FA5467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A16-E00C-47A8-A448-418452A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D30E-15C8-4DDF-95B2-9B01E8932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3746" b="0"/>
          <a:stretch/>
        </p:blipFill>
        <p:spPr>
          <a:xfrm>
            <a:off x="0" y="0"/>
            <a:ext cx="9144000" cy="500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00720" y="5445000"/>
            <a:ext cx="2952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59633" b="30656"/>
          <a:stretch/>
        </p:blipFill>
        <p:spPr>
          <a:xfrm>
            <a:off x="1547640" y="260280"/>
            <a:ext cx="6193080" cy="582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52625" b="24132"/>
          <a:stretch/>
        </p:blipFill>
        <p:spPr>
          <a:xfrm>
            <a:off x="1332000" y="189000"/>
            <a:ext cx="6769080" cy="5937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5761080" cy="5321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19370" b="0"/>
          <a:stretch/>
        </p:blipFill>
        <p:spPr>
          <a:xfrm>
            <a:off x="468360" y="189000"/>
            <a:ext cx="8675640" cy="5892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33372" b="5443"/>
          <a:stretch/>
        </p:blipFill>
        <p:spPr>
          <a:xfrm>
            <a:off x="755640" y="260280"/>
            <a:ext cx="7561440" cy="5877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23746" b="0"/>
          <a:stretch/>
        </p:blipFill>
        <p:spPr>
          <a:xfrm>
            <a:off x="539640" y="0"/>
            <a:ext cx="8353440" cy="5999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28126" b="0"/>
          <a:stretch/>
        </p:blipFill>
        <p:spPr>
          <a:xfrm>
            <a:off x="684360" y="115920"/>
            <a:ext cx="7920000" cy="603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26370" b="0"/>
          <a:stretch/>
        </p:blipFill>
        <p:spPr>
          <a:xfrm>
            <a:off x="539640" y="54000"/>
            <a:ext cx="8136000" cy="605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4-27T21:25:00Z</dcterms:modified>
  <cp:revision>3</cp:revision>
  <dc:subject/>
  <dc:title>Diapositiva 1</dc:title>
</cp:coreProperties>
</file>