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5BBE-9B14-4D22-9F25-968A0FD2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7423-0E33-47DA-9E9D-BB4FA740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690-C6D3-46FB-85FE-86E32630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ECEC-A7B4-4CBB-AB32-C171893F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2AD5-0583-4DD5-9B0A-7FB4A128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D7AC-E963-46CB-A396-F130C7A4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C064-A0A6-4D8B-A5BD-2C32400D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A229-9281-4676-B0D7-7C0B49CD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FB3F-CB43-437B-82D6-362D0670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B960-44D0-432C-8556-0C9C83BE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0124-CC48-42BB-983B-DD73611E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213-DA58-4AC1-A5CE-BB4AFE27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E9D1-3F6F-4BCB-B1CC-F0AF6F2E5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42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UNIVERSIDAD DE CH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FACULTAD DE ARQUITECTURA Y URBANIS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ESCUELA DE 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TALLER DE 2do AÑO DISEÑO INDUST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TÍTULO DEL PROYEC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INTEGRANTES: (EN ORDEN ALFABÉTICO X APELLID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PROFESORES: FELIPE ABALLAY M. – REBECCA SILVA 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SANTIAGO, NOVIEMBRE DE 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PLANTEAMIENTO DEL PROB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SÍNTESIS DESCRIPTIVA DE LA SITU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BREVES ENUNCIADOS FUNDAMENTADOS EN L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OBSERVACIONES  </a:t>
              </a: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ERTINENTES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A LAS DECIS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DEL PROYECT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1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2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3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4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GUIÓ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(ES ACONSEJABLE PAUTEAR 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EXPOSICIÓN ORAL CON INFORM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MPLEMENTARIA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 A LA DIAPOSITIVA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NO REDUNDANTE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. CADA GRUPO DEBE HA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SU “GUIÓN” DE ACUERDO A SU PROYEC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SE EXPONE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BREVEMENTE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LO 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HAYA QUE DECIR SOBRE LO CONSTAT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IN SITU DURANTE LA VISITA, OBSERV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Y TESTIMONIOS DE LA GENTE DEL LUGA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1 -  LÁMINAS 1 Y 2 (LA PARTE SUPERIOR CORRESPONDE A LA DIAPOSITI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O LÁMINA, EL RECUADRO ROJO INFERIOR CORRESPONDE AL “GUIÓN” QUE CA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GRUPO DEBERÍA PAUTEAR PARA OPTIMIZAR SU PRESENTACIÓN. EL TIEMPO 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EXPOSICIÓN POR EQUIPO </a:t>
            </a:r>
            <a:r>
              <a:rPr b="1" lang="es-CL" sz="1700" spc="-1" strike="noStrike" u="sng">
                <a:solidFill>
                  <a:srgbClr val="000000"/>
                </a:solidFill>
                <a:uFillTx/>
                <a:latin typeface="Arial"/>
              </a:rPr>
              <a:t>NO DEBE EXCEDER LOS 15 MINU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 – LÁMINAS 3 Y 4 (PRESENTACIÓN DE ANTECEDE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49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MATERIAL DE APOYO GRÁFICO, ILUSTRATIVO 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COHERENTE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CON LA SÍNTESIS DESCRIPTIVA PRE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IDEALMENTE, RESEÑAR UNA O DOS LÍNEAS 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REFUERCEN EL SENTIDO DE LO DICHO PREVIAMENT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IDENTIFICACIÓN DEL PROBL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(ENUNCIAR EL PROBLEMA QUE 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ORIGEN A LA RESPUESTA DE DISEÑ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OBJETIVO GENE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- (OBJETIVO GENE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OBJETIVOS ESPECÍFI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OBJETIVO ESPECÍFICO 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OBJETIVO ESPECÍFICO 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- (OBJETIVO ESPECÍFICO 3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L MOMENTO DE PRESENT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L MATERIAL DE APOYO VISUAL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BEN EXPLICARSE SÓLO AQUELL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SAS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NO EXPRESAM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MOSTRADAS EN LA IMAGE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PROCURAR EXPLICAR CON NUESTR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PROPIAS PALABRAS, Y MU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SUCINTAMENTE, LOS OBJE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CRETOS Y PUNTUALES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A QUE ASPI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 PROPUESTA DE DISEÑ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4000" y="1125360"/>
              <a:ext cx="194436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4000" y="2278080"/>
              <a:ext cx="194436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11280" y="1125360"/>
              <a:ext cx="194472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11280" y="2278080"/>
              <a:ext cx="194472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 – LÁMINAS 5 (CONCEPTUALIZACIÓN) Y 6 (REPRESENTACIÓN PRELIMIN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59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DESARROLLO DE PROPUESTA FORM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1 - CONFIGURACIÓN DEL PRODU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2 - (PRESENTACIÓN DEL PRODU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MODELAMIEN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DEBEN EXPLICARSE DE M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IRECTO Y CONCISO LOS CRITE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AJO LOS CUALES FUERON TOM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S DECISIONES PARA LA CONFIGUR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ORMAL; SON PREEMINENTEMENTE BOCE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Y CROQUIS DE ESTUDIO QUE DAN CUENT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 EVOLUCIÓN DE LA ID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SE MUESTRA LA PRIMERA VERSIÓN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O QUE SERÍA EL PRODUCTO TERMIN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MO </a:t>
              </a: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OBJETO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(FORMA, MATERIALIDAD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STRUCTURA), PERO NO HAY QUE OLVIDAR 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ADA PROPUESTA TIENE UN </a:t>
              </a: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TEX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ESPECÍFICO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Y SÓLO EN ESE CONTEXTO 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VISLUMBRA SU REAL  POTENCI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5280" y="1125360"/>
              <a:ext cx="12240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90560" y="1125360"/>
              <a:ext cx="12240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87640" y="1125360"/>
              <a:ext cx="12240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2133720"/>
              <a:ext cx="122400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90560" y="2133720"/>
              <a:ext cx="122400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87640" y="2133720"/>
              <a:ext cx="122400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19640" y="1125360"/>
              <a:ext cx="1513080" cy="165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91280" y="1125360"/>
              <a:ext cx="1513080" cy="165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4 – LÁMINAS 7 Y 8 (REPRESENTACIÓN TÉCN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73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3- PLANIMETR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 ACOTADA Y CON ESCALA GRÁFIC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4 – DETALLES CONSTRUC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 LO MENOS 1 – ACOTADO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N ESCALA Y MATERIALIDAD INDICAD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CON LA PLANIMETRÍA SE EXPLICA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IMENSIONAMIENTO, PARTES O PIEZAS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ISPOSICIÓN ESPACIAL Y ES EL PREÁMB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 LOS TEMAS DE CONSTRUCCIÓN Y/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ABRICACIÓN DEL PRODUC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SE EXPONE TODO 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RELACIONADO A LA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STRU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L PRODUCTO: MATERIALIDAD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STO, VENTAJAS COMPARATIV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FICIENCIA DEL PROCESO, ET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5280" y="907920"/>
              <a:ext cx="165564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VI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5280" y="2131920"/>
              <a:ext cx="165564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VI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RO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56000" y="2133720"/>
              <a:ext cx="165564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VI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TE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 LO MENOS 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59280" y="2133720"/>
              <a:ext cx="403236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VIÑETA MATERIALES EMPLE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ORDENADOS POR PREDOMINACIA 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CONFIGURACIÓN DE PIEZA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MATERIAL – DIMENSIONES – CANTIDAD – CO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EJ: PLETINA Fe – 500x30x3mm – (x3) - $150 m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 – LÁMINAS 9 Y 10 (REPRESENTACIÓN DE USO Y CONTEX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83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5 – RELACIONES DE U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ESQUEMAS, CROQUIS U OTRA FORM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REPRESENTACIÓN RIGUROSA QUE INVOLUC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L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USUARIO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HACIENDO USO DIARIO Y CAS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L PRODUCTO COMO ASÍ MISMO VINCUL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 SU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EMPLAZAMIENTO EN EL LUGAR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6 – IMAGEN DESCRIPTIVA DEL PRODU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FOTOMONTAJ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NINGÚN PRODUCTO ESTÁ “EN EL AIRE”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TODOS TIENEN UN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TEXTO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EN SU US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LLO DEBE MANIFESTARSE COMO PAR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IMPORTANTE INTEGRADA AL PROCES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JEMPLO: SI ESTÁ EN EL BAÑO, EL BAÑO DEB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HABER SIDO ESTUDIADO Y ANALIZ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QUÍ TAMBIÉN SE EXPONEN LOS TEM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UNCIONALES, ERGONÓMICOS Y COGNITIV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CIERRE DE LA PRESENT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N UNA BREVE SENTENCIA SOBRE L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SPIRACIONES DEL PROYEC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000" y="2060640"/>
              <a:ext cx="187164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84360" y="2060640"/>
              <a:ext cx="187164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59280" y="1052640"/>
              <a:ext cx="194472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43640" y="1773360"/>
              <a:ext cx="2376360" cy="151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9:51:39Z</dcterms:created>
  <dc:creator>Alex Hurtado</dc:creator>
  <dc:description/>
  <dc:language>en-US</dc:language>
  <cp:lastModifiedBy>Alex Hurtado</cp:lastModifiedBy>
  <dcterms:modified xsi:type="dcterms:W3CDTF">2008-10-18T03:46:37Z</dcterms:modified>
  <cp:revision>42</cp:revision>
  <dc:subject/>
  <dc:title>Diapositiva 1</dc:title>
</cp:coreProperties>
</file>