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1EF0-D1F2-4528-BFEE-F8B9E8C46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D5CA-8F34-45DF-A08B-CA461279D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F32D-E4A4-4DB5-9B16-45D0331B9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D5D1-3359-45B4-8FFC-8EDB1523C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2313-A285-42FD-8ED2-7888F42C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2D6-8AE2-4F68-93FB-1093A4D3A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47E-1616-4399-B566-33B90C9A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4179-1652-426D-ACEA-F6BB413CD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065B-1AA7-4432-9652-2239CB9AD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EFCB-0712-4845-856C-85EC43E4E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E66-3383-44CA-B926-16192453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4904-3DEA-4426-8B6E-0E386D39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3EC7-672A-4175-B3FE-930C24528E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2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UNIVERSIDAD DE CHI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SCUELA DE DISEÑ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TALLER DE 2do AÑO DISEÑO INDUSTRI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TÍTULO DEL PROYEC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NTEGRANTES: (EN ORDEN ALFABÉTICO X APELLID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PROFESORES: FELIPE ABALLAY M. – REBECCA SILVA 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ANTIAGO, NOVIEMBRE DE 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PLANTEAMIENTO DEL PROBLE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SÍNTESIS DESCRIPTIVA DE LA SITUACIÓ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BREVES ENUNCIADOS FUNDAMENTADOS EN L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BSERVACIONES  </a:t>
              </a: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PERTINENTES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A LAS DECISION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DEL PROYECTO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1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2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3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4 - (…..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800" spc="-1" strike="noStrike" u="sng">
                  <a:solidFill>
                    <a:srgbClr val="ff0000"/>
                  </a:solidFill>
                  <a:uFillTx/>
                  <a:latin typeface="Arial"/>
                </a:rPr>
                <a:t>GUIÓN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S ACONSEJABLE PAUTEAR L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EXPOSICIÓN ORAL CON INFORM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MPLEMENTARIA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A LA DIAPOSITIVA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REDUNDANTE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. CADA GRUPO DEBE HA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SU “GUIÓN” DE ACUERDO A SU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BREVEMENTE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LO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YA QUE DECIR SOBRE LO CONSTAT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N SITU DURANTE LA VISITA, OBSERVA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TESTIMONIOS DE LA GENTE DEL LUGA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1 -  LÁMINAS 1 Y 2 (LA PARTE SUPERIOR CORRESPONDE A LA DIAPOSITIV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O LÁMINA, EL RECUADRO ROJO INFERIOR CORRESPONDE AL “GUIÓN” QUE CA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GRUPO DEBERÍA PAUTEAR PARA OPTIMIZAR SU PRESENTACIÓN. EL TIEMPO 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700" spc="-1" strike="noStrike">
                <a:solidFill>
                  <a:srgbClr val="000000"/>
                </a:solidFill>
                <a:latin typeface="Arial"/>
              </a:rPr>
              <a:t>EXPOSICIÓN POR EQUIPO </a:t>
            </a:r>
            <a:r>
              <a:rPr b="1" lang="es-CL" sz="1700" spc="-1" strike="noStrike" u="sng">
                <a:solidFill>
                  <a:srgbClr val="000000"/>
                </a:solidFill>
                <a:uFillTx/>
                <a:latin typeface="Arial"/>
              </a:rPr>
              <a:t>NO DEBE EXCEDER LOS 15 MINU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2 – LÁMINAS 3 Y 4 (PRESENTACIÓN DE ANTECEDENT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4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MATERIAL DE APOYO GRÁFICO, ILUSTRATIVO 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HERENTE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CON LA SÍNTESIS DESCRIPTIVA PREV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IDEALMENTE, RESEÑAR UNA O DOS LÍNEAS QU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REFUERCEN EL SENTIDO DE LO DICHO PREVIAMENTE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IDENTIFICACIÓN DEL PROBLEM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(ENUNCIAR EL PROBLEMA QUE D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ORIGEN A LA RES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 GENER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GENERAL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OBJETIVOS ESPECÍFIC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1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OBJETIVO ESPECÍFICO 2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- (OBJETIVO ESPECÍFICO 3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L MOMENTO DE PRESENT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 MATERIAL DE APOYO VISUAL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BEN EXPLICARSE SÓLO AQUEL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AS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NO EXPRESAMEN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MOSTRADAS EN LA IMAGEN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PROCURAR EXPLICAR CON NUEST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PROPIAS PALABRAS, Y MU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CINTAMENTE, LOS OBJE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CRETOS Y PUNTUALES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A QUE ASPI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PROPUESTA DE DISEÑ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24000" y="112536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24000" y="2278080"/>
              <a:ext cx="194436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11280" y="112536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11280" y="2278080"/>
              <a:ext cx="1944720" cy="10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3 – LÁMINAS 5 (CONCEPTUALIZACIÓN) Y 6 (REPRESENTACIÓN PRELIMINA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59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DESARROLLO DE PROPUESTA FORM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1 - CONFIGUR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2 - (PRESENTACIÓN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MODELAMIEN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DEBEN EXPLICARSE DE MO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RECTO Y CONCISO LOS CRITE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BAJO LOS CUALES FUERON TOMA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S DECISIONES PARA LA CONFIGUR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ORMAL; SON PREEMINENTEMENTE BOCE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Y CROQUIS DE ESTUDIO QUE DAN CUENT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 EVOLUCIÓN DE LA ID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MUESTRA LA PRIMERA VERSIÓN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O QUE SERÍA EL PRODUCTO TERMIN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MO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OBJE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(FORMA,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STRUCTURA), PERO NO HAY QUE OLVIDAR Q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ADA PROPUESTA TIENE UN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SPECÍFICO</a:t>
              </a: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Y SÓLO EN ESE CONTEXTO 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VISLUMBRA SU REAL  POTENCIAL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9528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69056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987640" y="1125360"/>
              <a:ext cx="12240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9528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69056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987640" y="2133720"/>
              <a:ext cx="122400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21964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091280" y="1125360"/>
              <a:ext cx="1513080" cy="165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4 – LÁMINAS 7 Y 8 (REPRESENTACIÓN TÉCN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7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3- PLANIMETR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( ACOTADA Y CON ESCALA GRÁFICA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4 – DETALLES CONSTRUC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 – ACOTADO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ESCALA Y MATERIALIDAD INDICAD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ON LA PLANIMETRÍA SE EXPLICA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MENSIONAMIENTO, PARTES O PIEZAS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ISPOSICIÓN ESPACIAL Y ES EL PREÁMBU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LOS TEMAS DE CONSTRUCCIÓN Y/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ABRICACIÓN DEL PRODU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QUÍ SE EXPONE TODO L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LACIONADO A LA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STRUC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: MATERIALIDAD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STO, VENTAJAS COMPAR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FICIENCIA DEL PROCESO, ETC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5280" y="907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SUPERI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95280" y="2131920"/>
              <a:ext cx="1655640" cy="86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RONT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556000" y="2133720"/>
              <a:ext cx="1655640" cy="86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VIS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LATER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A LO MENOS 1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59280" y="2133720"/>
              <a:ext cx="403236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VIÑETA MATERIALES EMPLEADO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ORDENADOS POR PREDOMINACIA E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CONFIGURACIÓN DE PIEZAS: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MATERIAL – DIMENSIONES – CANTIDAD – COS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000000"/>
                  </a:solidFill>
                  <a:latin typeface="Arial"/>
                </a:rPr>
                <a:t>EJ: PLETINA Fe – 500x30x3mm – (x3) - $150 m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08000" y="5472000"/>
            <a:ext cx="8893080" cy="119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5 – LÁMINAS 9 Y 10 (REPRESENTACIÓN DE USO Y CONTEXT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79280" y="179280"/>
            <a:ext cx="8817120" cy="5146920"/>
            <a:chOff x="179280" y="179280"/>
            <a:chExt cx="8817120" cy="5146920"/>
          </a:xfrm>
        </p:grpSpPr>
        <p:sp>
          <p:nvSpPr>
            <p:cNvPr id="83" name=""/>
            <p:cNvSpPr/>
            <p:nvPr/>
          </p:nvSpPr>
          <p:spPr>
            <a:xfrm>
              <a:off x="17928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5 – RELACIONES DE US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ESQUEMAS, CROQUIS U OTRA FORMA D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REPRESENTACIÓN RIGUROSA QUE INVOLUCR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L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USUARI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HACIENDO USO DIARIO Y CASU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DEL PRODUCTO COMO ASÍ MISMO VINCULAD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 SU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EMPLAZAMIENTO EN EL LUGAR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678200" y="179280"/>
              <a:ext cx="4318200" cy="3238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000000"/>
                  </a:solidFill>
                  <a:latin typeface="Arial"/>
                </a:rPr>
                <a:t>6 – IMAGEN DESCRIPTIVA DEL PRO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FOTOMONTAJE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7928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NINGÚN PRODUCTO ESTÁ “EN EL AIRE”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TODOS TIENEN UN </a:t>
              </a:r>
              <a:r>
                <a:rPr b="0" lang="es-CL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CONTEXTO</a:t>
              </a: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 EN SU USO 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LLO DEBE MANIFESTARSE COMO PART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IMPORTANTE INTEGRADA AL PROCES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EJEMPLO: SI ESTÁ EN EL BAÑO, EL BAÑO DEB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HABER SIDO ESTUDIADO Y ANALIZADO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QUÍ TAMBIÉN SE EXPONEN LOS TEM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FUNCIONALES, ERGONÓMICOS Y COGNITIVO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78200" y="3525840"/>
              <a:ext cx="4318200" cy="18003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(CIERRE DE LA PRESENTACIÓ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CON UNA BREVE SENTENCIA SOBRE L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Arial"/>
                </a:rPr>
                <a:t>ASPIRACIONES DEL PROYECTO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84360" y="2060640"/>
              <a:ext cx="1871640" cy="115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859280" y="1052640"/>
              <a:ext cx="1944720" cy="1224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443640" y="1773360"/>
              <a:ext cx="2376360" cy="151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1T19:51:39Z</dcterms:created>
  <dc:creator>Alex Hurtado</dc:creator>
  <dc:description/>
  <dc:language>en-US</dc:language>
  <cp:lastModifiedBy>Alex Hurtado</cp:lastModifiedBy>
  <dcterms:modified xsi:type="dcterms:W3CDTF">2008-10-18T03:46:37Z</dcterms:modified>
  <cp:revision>42</cp:revision>
  <dc:subject/>
  <dc:title>Diapositiva 1</dc:title>
</cp:coreProperties>
</file>