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30616-C7FC-4584-937E-8CAE78294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F848B-C83F-4091-B92B-28EFC9FAD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F7EC4-967A-4351-9081-BDFDAF22E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4E5A9-4278-41AF-8B88-2928D54DA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E6479-DE76-4DF4-B1C3-C0EB97B96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7C3A3-0F95-4737-8B21-56B97A31C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698EE-77E8-445A-AE46-64C1448C3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AC2E9-C9EB-4846-8D31-7B23D0FAC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7042D-2918-44F5-8C90-774C0DA20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3BBC0-FF03-4AEF-AC45-855C9039F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7AEDC-9D12-4CA5-9177-2C5A3BBC5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627E-733E-42FE-827F-6711902D0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98E77-B01F-4F2E-A848-AA7C75C34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FEC46-7F96-43E9-ABBC-7A687C239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B6A46-BE44-4F7F-9B2B-2DFC5042C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35350-4D0E-40E1-AD53-5AD34C93D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9E116-4C92-4C73-86C1-2860666B0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BF85-D0EB-4443-83BE-2ED65EEFE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8576A-EFE3-47BA-951A-68690642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E1A5-FEEB-4C59-A47D-6207F374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95F0A-5CD6-4BF8-B30F-ABC74EE3A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ECBA-AC4A-46F0-ABFE-8AD09479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9F0E-D82D-44E2-9620-A78057F0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76C4-48D5-4E71-8480-E9C6B2F2C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5774-E1E4-4B8C-8A2C-CE841F2BE9F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6EC1-6558-49BD-AF21-7C8E35E1FA53}"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KUHN </a:t>
            </a:r>
            <a:r>
              <a:rPr b="0" lang="es-CL" sz="1600" spc="-1" strike="noStrike">
                <a:solidFill>
                  <a:srgbClr val="000000"/>
                </a:solidFill>
                <a:latin typeface="Verdana"/>
              </a:rPr>
              <a:t>02 DE ABRIL DE 2008</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 descr=""/>
          <p:cNvPicPr/>
          <p:nvPr/>
        </p:nvPicPr>
        <p:blipFill>
          <a:blip r:embed="rId2"/>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1"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fontScale="97000"/>
          </a:bodyPr>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 B.</cp:lastModifiedBy>
  <dcterms:modified xsi:type="dcterms:W3CDTF">2008-04-02T12:27:10Z</dcterms:modified>
  <cp:revision>19</cp:revision>
  <dc:subject/>
  <dc:title>TEORIA DE LA ARQUITECTURA I</dc:title>
</cp:coreProperties>
</file>