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AE8-2B41-4095-906C-7BB7EE9B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B3F-6962-4C54-8A56-D5E2C887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DB8-5636-4CA3-9019-FD269D25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2A9-DF2B-4B44-9855-85D4A12F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344-5232-4843-AD2E-D5556DEC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AF0-998D-4B91-8DD6-75FAE620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FE2-4C9B-41BA-9A69-6C096FA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763-3090-4960-AF42-3A36ABBE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14C-28B2-46BB-82E9-713F8BDE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350-A974-4D4F-B6AD-20161CB1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C1E-D241-4FA1-9076-3B122444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F6C-78F6-4953-B6E1-71FDFA79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D1E9-E753-4F08-AEE5-50969866E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75232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5120" y="765000"/>
            <a:ext cx="30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*ejercicio califi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72200" y="765000"/>
            <a:ext cx="3620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Ex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n diseñar y fabricar un soporte para la transparencia que contiene a la figura orig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simismo, deberán desarrollar un indicador que asegure la ubicación del espectador, es decir ‘V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 estar debidamente señalizado el eje EE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016600" cy="376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0200" y="193356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3640" y="35892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8720" y="1717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74920" y="31575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6560" y="40942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07640" y="1285920"/>
            <a:ext cx="86364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4160" y="99684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 figura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867120" y="32778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98720" y="3925800"/>
            <a:ext cx="141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gura homólo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n el p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98560" y="1357200"/>
            <a:ext cx="288720" cy="505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7840" y="925560"/>
            <a:ext cx="178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Punto V anclad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72200" y="765000"/>
            <a:ext cx="36208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Ani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341360"/>
            <a:ext cx="6985080" cy="45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 Nº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rea planteada se desarrollará en dos et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a de ellas será calif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ª etapa: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 determinar la homóloga de una forma dada escogida por ustedes que se desarrollará en Sketch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tapa: Gru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seleccionarán, de la primera etapa, algunos trabajos los que serán reproducidos espaci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5724360" cy="539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765000"/>
            <a:ext cx="471636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1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da una figura plana, por ejemplo sus mosaicos, deben determinar la figura homóloga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Sketchp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atos del ejercicio deberán estar relacionados con las características del entorno donde será reproducida (lugar por confirm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sos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 Determinar la forma a homol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 Determinar el lugar donde será reproducida la figura homolog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 Establecer las medidas y posición de los datos que definirán la hom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orma a homologar, Eje de homología, Centro de Homología, Recta Límit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635040"/>
            <a:ext cx="3621240" cy="56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Procedimiento para determinar la forma a homolog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1.- Escoger al menos 5 imágenes para correc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Escoger 3 posibles lugares dentro de la FAU y mandar fo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Subir a U-cursos carpeta de cada alumno con sus alternativas, plazo 11 de julio hasta 18:00hrs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La alternativa definitiva deberá ser re dibujada en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sketchpad 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teniendo como límite de dibujo las siguientes dimensiones: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27cm de largo x 21cm de anc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(Atención: El tamaño se refiere a la figura original y no al resultado de la homologí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9771" t="17506" r="32439" b="50548"/>
          <a:stretch/>
        </p:blipFill>
        <p:spPr>
          <a:xfrm>
            <a:off x="684360" y="1773360"/>
            <a:ext cx="4363920" cy="33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1773360"/>
            <a:ext cx="439236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4680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8360" y="1773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5230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32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626" t="26597" r="10747" b="25828"/>
          <a:stretch/>
        </p:blipFill>
        <p:spPr>
          <a:xfrm>
            <a:off x="539640" y="765000"/>
            <a:ext cx="8280360" cy="309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860640"/>
            <a:ext cx="8424720" cy="25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3.- Una vez que tengan inscrita la figura en el formato ‘carta’, deberán realizar la homología teniendo en cuenta estas re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figura original está apoyada en el plano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se plano está inclinado con respecto a  //’ que será el su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V corresponde al espectador, el cual en ese único punto verá la figura homóloga sin distorsión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76560" y="56545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0920" y="59436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0629" t="3691" r="10629" b="4014"/>
          <a:stretch/>
        </p:blipFill>
        <p:spPr>
          <a:xfrm>
            <a:off x="250920" y="907920"/>
            <a:ext cx="648000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72200" y="765000"/>
            <a:ext cx="362088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l abatir el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or 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4.- Para desarrollar la homología determinan  la distancia desde EE’ a L = 120cm; y desde EE’ a V= 155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recta que contiene a V y el punto A puede ser perpendicular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Si ustedes desean pueden ubicar V en otra posición como lo indica la siguiente  figura (ejemplo en la página siguie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1800" y="357336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924280"/>
            <a:ext cx="0" cy="3313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0629" t="0" r="10629" b="3548"/>
          <a:stretch/>
        </p:blipFill>
        <p:spPr>
          <a:xfrm>
            <a:off x="250920" y="1197000"/>
            <a:ext cx="6480000" cy="4962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2200" y="765000"/>
            <a:ext cx="362088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l segmento VA’ rotado 75º con respecto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6745" t="0" r="15876" b="3456"/>
          <a:stretch/>
        </p:blipFill>
        <p:spPr>
          <a:xfrm>
            <a:off x="755640" y="1413000"/>
            <a:ext cx="5545080" cy="4967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72200" y="765000"/>
            <a:ext cx="362088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Obtención de la figura homóloga correspondiente a la hoja tamaño c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600000" y="3824280"/>
            <a:ext cx="2808360" cy="2160360"/>
          </a:xfrm>
          <a:custGeom>
            <a:avLst/>
            <a:gdLst>
              <a:gd name="textAreaLeft" fmla="*/ 702360 w 2808360"/>
              <a:gd name="textAreaRight" fmla="*/ 2106000 w 2808360"/>
              <a:gd name="textAreaTop" fmla="*/ 540360 h 2160360"/>
              <a:gd name="textAreaBottom" fmla="*/ 16200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23" y="21600"/>
                </a:lnTo>
                <a:lnTo>
                  <a:pt x="6577" y="21600"/>
                </a:lnTo>
                <a:close/>
              </a:path>
            </a:pathLst>
          </a:cu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15385" r="0" b="11229"/>
          <a:stretch/>
        </p:blipFill>
        <p:spPr>
          <a:xfrm>
            <a:off x="324000" y="1916280"/>
            <a:ext cx="4895640" cy="391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72200" y="765000"/>
            <a:ext cx="3620880" cy="61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Una vez desarrollado todo este procedimiento en Sketchpad y obtener una figura similar a la de la izquierda, se escogerán las mejores piezas para pasar a la etapa de representación a ‘escala human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sta aquí todo el proceso se desarrolla en Sketchpa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rmina la primera eta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rega: 4 Ag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ubir archivo en Sketchpad a U-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- Entregar Imagen impresa de la figura homologad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2:22:33Z</dcterms:created>
  <dc:creator>benja</dc:creator>
  <dc:description/>
  <dc:language>en-US</dc:language>
  <cp:lastModifiedBy>benjamin</cp:lastModifiedBy>
  <dcterms:modified xsi:type="dcterms:W3CDTF">2008-07-08T01:47:17Z</dcterms:modified>
  <cp:revision>11</cp:revision>
  <dc:subject/>
  <dc:title>Diapositiva 1</dc:title>
</cp:coreProperties>
</file>