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6A69-0109-4195-82B6-9E1759673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DC16-1A2F-460D-8491-86EE8C56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B6C5-14C1-4954-8221-8D9533E9A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10CC-9689-4F80-9797-9F59F05A6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E686-40A8-4417-B682-2227D4C2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C2F4-555D-4C69-88F0-E4EC7B27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1BCE-25FA-499E-9A00-5A5108F5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BCF4-D29D-483C-A61A-101A74FF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639A-754A-408C-A980-01F96342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5F61-8077-4E4B-A64E-36A70A9A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4A80-DE34-4697-9E1A-483515CF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C8EB-7E1E-491C-BD0C-DCEDA57E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2771-6FB5-4AA3-9E4A-1B3450D80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7727" t="0" r="0" b="7546"/>
          <a:stretch/>
        </p:blipFill>
        <p:spPr>
          <a:xfrm>
            <a:off x="0" y="692280"/>
            <a:ext cx="7523280" cy="616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57240" y="63360"/>
            <a:ext cx="347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Departamento de Ciencias de la Construcción 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Mirtha Pallarés 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Elisabeth Ávalos 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985520" y="90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Julio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45120" y="765000"/>
            <a:ext cx="307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*ejercicio calific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57240" y="63360"/>
            <a:ext cx="347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Departamento de Ciencias de la Construcción 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Mirtha Pallarés 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Elisabeth Ávalos 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985520" y="90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Julio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72200" y="765000"/>
            <a:ext cx="362088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Medium"/>
              </a:rPr>
              <a:t>Ext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Deberán diseñar y fabricar un soporte para la transparencia que contiene a la figura origi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Asimismo, deberán desarrollar un indicador que asegure la ubicación del espectador, es decir ‘V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Deberá estar debidamente señalizado el eje EE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5016600" cy="3762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330200" y="1933560"/>
            <a:ext cx="73080" cy="71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3640" y="3589200"/>
            <a:ext cx="42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EE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88720" y="171756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474920" y="3157560"/>
            <a:ext cx="2156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86560" y="4094280"/>
            <a:ext cx="180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oporte transpar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907640" y="1285920"/>
            <a:ext cx="863640" cy="647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4160" y="99684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ranspar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on figura orig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3867120" y="3277800"/>
            <a:ext cx="720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98720" y="3925800"/>
            <a:ext cx="141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Figura homólo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en el pi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98560" y="1357200"/>
            <a:ext cx="288720" cy="5050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7840" y="925560"/>
            <a:ext cx="178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Punto V anclado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soporte transpar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57240" y="63360"/>
            <a:ext cx="347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Departamento de Ciencias de la Construcción 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Mirtha Pallarés 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Elisabeth Ávalos 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85520" y="90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Julio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72200" y="765000"/>
            <a:ext cx="362088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Medium"/>
              </a:rPr>
              <a:t>Ani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19280" y="285264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57240" y="63360"/>
            <a:ext cx="347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Departamento de Ciencias de la Construcción 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Mirtha Pallarés 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Elisabeth Ávalos 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985520" y="90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Julio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03280" y="1341360"/>
            <a:ext cx="6985080" cy="45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area Nº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tarea planteada se desarrollará en dos etap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da una de ellas será calific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ª etapa: Indivi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siste en determinar la homóloga de una forma dada escogida por ustedes que se desarrollará en Sketchp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ª etapa: Gru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seleccionarán, de la primera etapa, algunos trabajos los que serán reproducidos espacial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17727" t="0" r="0" b="7546"/>
          <a:stretch/>
        </p:blipFill>
        <p:spPr>
          <a:xfrm>
            <a:off x="0" y="692280"/>
            <a:ext cx="5724360" cy="5398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57240" y="63360"/>
            <a:ext cx="347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Departamento de Ciencias de la Construcción 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Mirtha Pallarés 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Elisabeth Ávalos 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85520" y="90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Julio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27640" y="765000"/>
            <a:ext cx="4716360" cy="53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Medium"/>
              </a:rPr>
              <a:t>1ª Et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da una figura plana, por ejemplo sus mosaicos, deben determinar la figura homóloga (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Sketchp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datos del ejercicio deberán estar relacionados con las características del entorno donde será reproducida (lugar por confirma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sos a segui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.- Determinar la forma a homolo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- Determinar el lugar donde será reproducida la figura homolog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.- Establecer las medidas y posición de los datos que definirán la homolog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Forma a homologar, Eje de homología, Centro de Homología, Recta Límite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57240" y="63360"/>
            <a:ext cx="347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Departamento de Ciencias de la Construcción 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Mirtha Pallarés 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Elisabeth Ávalos 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985520" y="90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Julio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92720" y="635040"/>
            <a:ext cx="3621240" cy="560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Franklin Gothic Medium"/>
              </a:rPr>
              <a:t>Procedimiento para determinar la forma a homolog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Franklin Gothic Medium"/>
              </a:rPr>
              <a:t>1.- Escoger al menos 5 imágenes para correcció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Franklin Gothic Medium"/>
              </a:rPr>
              <a:t>2.- Escoger 3 posibles lugares dentro de la FAU y mandar fot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Franklin Gothic Medium"/>
              </a:rPr>
              <a:t>Subir a U-cursos carpeta de cada alumno con sus alternativas, plazo 11 de julio hasta 18:00hrs</a:t>
            </a:r>
            <a:r>
              <a:rPr b="0" lang="es-ES" sz="1400" spc="-1" strike="noStrike">
                <a:solidFill>
                  <a:srgbClr val="000000"/>
                </a:solidFill>
                <a:latin typeface="Franklin Gothic Medium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Franklin Gothic Medium"/>
              </a:rPr>
              <a:t>2.- La alternativa definitiva deberá ser re dibujada en </a:t>
            </a:r>
            <a:r>
              <a:rPr b="1" lang="es-ES" sz="1400" spc="-1" strike="noStrike">
                <a:solidFill>
                  <a:srgbClr val="000000"/>
                </a:solidFill>
                <a:latin typeface="Franklin Gothic Medium"/>
              </a:rPr>
              <a:t>sketchpad </a:t>
            </a:r>
            <a:r>
              <a:rPr b="0" lang="es-ES" sz="1400" spc="-1" strike="noStrike">
                <a:solidFill>
                  <a:srgbClr val="000000"/>
                </a:solidFill>
                <a:latin typeface="Franklin Gothic Medium"/>
              </a:rPr>
              <a:t>teniendo como límite de dibujo las siguientes dimensiones:</a:t>
            </a:r>
            <a:r>
              <a:rPr b="0" i="1" lang="es-ES" sz="14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Franklin Gothic Medium"/>
              </a:rPr>
              <a:t>27cm de largo x 21cm de anch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Franklin Gothic Medium"/>
              </a:rPr>
              <a:t>(Atención: El tamaño se refiere a la figura original y no al resultado de la homologí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29771" t="17506" r="32439" b="50548"/>
          <a:stretch/>
        </p:blipFill>
        <p:spPr>
          <a:xfrm>
            <a:off x="684360" y="1773360"/>
            <a:ext cx="4363920" cy="3384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4360" y="1773360"/>
            <a:ext cx="439236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5446800"/>
            <a:ext cx="4392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68360" y="1773000"/>
            <a:ext cx="0" cy="338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52308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0" y="3286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9626" t="26597" r="10747" b="25828"/>
          <a:stretch/>
        </p:blipFill>
        <p:spPr>
          <a:xfrm>
            <a:off x="539640" y="765000"/>
            <a:ext cx="8280360" cy="3092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57240" y="63360"/>
            <a:ext cx="347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Departamento de Ciencias de la Construcción 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Mirtha Pallarés 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Elisabeth Ávalos 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985520" y="90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Julio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3860640"/>
            <a:ext cx="8424720" cy="257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Medium"/>
              </a:rPr>
              <a:t>Proced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</a:rPr>
              <a:t>3.- Una vez que tengan inscrita la figura en el formato ‘carta’, deberán realizar la homología teniendo en cuenta estas relacio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</a:rPr>
              <a:t>La figura original está apoyada en el plano 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</a:rPr>
              <a:t>Ese plano está inclinado con respecto a  //’ que será el suel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</a:rPr>
              <a:t>V corresponde al espectador, el cual en ese único punto verá la figura homóloga sin distorsión</a:t>
            </a: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76560" y="565452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60920" y="594360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10629" t="3691" r="10629" b="4014"/>
          <a:stretch/>
        </p:blipFill>
        <p:spPr>
          <a:xfrm>
            <a:off x="250920" y="907920"/>
            <a:ext cx="6480000" cy="5400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57240" y="63360"/>
            <a:ext cx="347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Departamento de Ciencias de la Construcción 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Mirtha Pallarés 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Elisabeth Ávalos 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85520" y="90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Julio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72200" y="765000"/>
            <a:ext cx="3620880" cy="55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Al abatir el pl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Medium"/>
              </a:rPr>
              <a:t>Por ejem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</a:rPr>
              <a:t>4.- Para desarrollar la homología determinan  la distancia desde EE’ a L = 120cm; y desde EE’ a V= 155c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</a:rPr>
              <a:t>La recta que contiene a V y el punto A puede ser perpendicular a E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</a:rPr>
              <a:t>Si ustedes desean pueden ubicar V en otra posición como lo indica la siguiente  figura (ejemplo en la página siguien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1800" y="3573360"/>
            <a:ext cx="29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2924280"/>
            <a:ext cx="0" cy="331308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10629" t="0" r="10629" b="3548"/>
          <a:stretch/>
        </p:blipFill>
        <p:spPr>
          <a:xfrm>
            <a:off x="250920" y="1197000"/>
            <a:ext cx="6480000" cy="49626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57240" y="63360"/>
            <a:ext cx="347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Departamento de Ciencias de la Construcción 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Mirtha Pallarés 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Elisabeth Ávalos 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985520" y="90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Julio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72200" y="765000"/>
            <a:ext cx="362088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Medium"/>
              </a:rPr>
              <a:t>Proced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</a:rPr>
              <a:t>El segmento VA’ rotado 75º con respecto a E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16745" t="0" r="15876" b="3456"/>
          <a:stretch/>
        </p:blipFill>
        <p:spPr>
          <a:xfrm>
            <a:off x="755640" y="1413000"/>
            <a:ext cx="5545080" cy="4967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57240" y="63360"/>
            <a:ext cx="347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Departamento de Ciencias de la Construcción 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Mirtha Pallarés 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Elisabeth Ávalos 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85520" y="90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Julio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72200" y="765000"/>
            <a:ext cx="3620880" cy="20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Medium"/>
              </a:rPr>
              <a:t>Proced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</a:rPr>
              <a:t>Obtención de la figura homóloga correspondiente a la hoja tamaño car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3600000" y="3824280"/>
            <a:ext cx="2808360" cy="2160360"/>
          </a:xfrm>
          <a:custGeom>
            <a:avLst/>
            <a:gdLst>
              <a:gd name="textAreaLeft" fmla="*/ 702360 w 2808360"/>
              <a:gd name="textAreaRight" fmla="*/ 2106000 w 2808360"/>
              <a:gd name="textAreaTop" fmla="*/ 540360 h 2160360"/>
              <a:gd name="textAreaBottom" fmla="*/ 1620000 h 21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023" y="21600"/>
                </a:lnTo>
                <a:lnTo>
                  <a:pt x="6577" y="21600"/>
                </a:lnTo>
                <a:close/>
              </a:path>
            </a:pathLst>
          </a:custGeom>
          <a:solidFill>
            <a:srgbClr val="99cc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15385" r="0" b="11229"/>
          <a:stretch/>
        </p:blipFill>
        <p:spPr>
          <a:xfrm>
            <a:off x="324000" y="1916280"/>
            <a:ext cx="4895640" cy="3916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57240" y="63360"/>
            <a:ext cx="347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Departamento de Ciencias de la Construcción 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Mirtha Pallarés 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Elisabeth Ávalos 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985520" y="90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Julio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72200" y="765000"/>
            <a:ext cx="3620880" cy="61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Franklin Gothic Medium"/>
              </a:rPr>
              <a:t>Result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Franklin Gothic Medium"/>
              </a:rPr>
              <a:t>Una vez desarrollado todo este procedimiento en Sketchpad y obtener una figura similar a la de la izquierda, se escogerán las mejores piezas para pasar a la etapa de representación a ‘escala humana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Hasta aquí todo el proceso se desarrolla en Sketchpad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ermina la primera etap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Entrega: 4 Ago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Condicion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Subir archivo en Sketchpad a U-Cur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- Entregar Imagen impresa de la figura homologada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4T02:22:33Z</dcterms:created>
  <dc:creator>benja</dc:creator>
  <dc:description/>
  <dc:language>en-US</dc:language>
  <cp:lastModifiedBy>benjamin</cp:lastModifiedBy>
  <dcterms:modified xsi:type="dcterms:W3CDTF">2008-07-08T01:47:17Z</dcterms:modified>
  <cp:revision>11</cp:revision>
  <dc:subject/>
  <dc:title>Diapositiva 1</dc:title>
</cp:coreProperties>
</file>