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EDA-F03E-4849-A0FE-0EF8711E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DF6-21C6-4C3A-A845-A11E9F83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653-5916-41C0-BD73-E522E4D0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3D7-0518-48B0-8C7C-8EBEFC6E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74C-C9AB-4860-BCEF-2C59C703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FBC-7B8A-49C0-AF54-860F8DAD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57F-2E32-4F1B-893A-F532FA5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9BF-1A94-4376-80FA-6715D9C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BBF-F4B1-4497-A4F2-59A0BB85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371-E227-4603-982D-330207B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C06-ED1F-4372-8635-0575C8F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FC2-0F51-49EC-B578-901652D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9C18-D573-46C8-827E-E47B6D5D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2200" y="765000"/>
            <a:ext cx="3620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n diseñar y fabricar un soporte para la transparencia que contiene a la figura orig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simismo, deberán desarrollar un indicador que asegure la ubicación del espectador, es decir ‘V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 estar debidamente señalizado el eje EE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01660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0200" y="19335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35892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8720" y="1717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4920" y="31575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560" y="4094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7640" y="1285920"/>
            <a:ext cx="86364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4160" y="99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 figura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67120" y="32778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98720" y="3925800"/>
            <a:ext cx="14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a homólo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 el p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1357200"/>
            <a:ext cx="288720" cy="505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" y="925560"/>
            <a:ext cx="17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unto V anclad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2200" y="765000"/>
            <a:ext cx="36208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An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341360"/>
            <a:ext cx="6985080" cy="45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 N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rea planteada se desarrollará en dos 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a de ellas será cal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ª etapa: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determinar la homóloga de una forma dada escogida por ustedes que se desarrollará en Sketch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tapa: 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seleccionarán, de la primera etapa, algunos trabajos los que serán reproducidos espac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5724360" cy="539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765000"/>
            <a:ext cx="4716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una figura plana, por ejemplo sus mosaicos, deben determinar la figura homólog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Sketchp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atos del ejercicio deberán estar relacionados con las características del entorno donde será reproducida (lugar por confirm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s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 Determinar la forma a homol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 Determinar el lugar donde será reproducida la figura homolo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 Establecer las medidas y posición de los datos que definirán la hom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 a homologar, Eje de homología, Centro de Homología, Recta Límit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635040"/>
            <a:ext cx="3621240" cy="56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Procedimiento para determinar la forma a homol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1.- Escoger al menos 5 imágenes para correc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Escoger 3 posibles lugares dentro de la FAU y mandar 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Subir a U-cursos carpeta de cada alumno con sus alternativas, plazo 11 de julio hasta 18:00hrs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La alternativa definitiva deberá ser re dibujada en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sketchpad 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teniendo como límite de dibujo las siguientes dimensiones: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27cm de largo x 21cm de an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(Atención: El tamaño se refiere a la figura original y no al resultado de la hom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9771" t="17506" r="32439" b="50548"/>
          <a:stretch/>
        </p:blipFill>
        <p:spPr>
          <a:xfrm>
            <a:off x="684360" y="1773360"/>
            <a:ext cx="4363920" cy="33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773360"/>
            <a:ext cx="439236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68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8360" y="1773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230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32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626" t="26597" r="10747" b="25828"/>
          <a:stretch/>
        </p:blipFill>
        <p:spPr>
          <a:xfrm>
            <a:off x="539640" y="765000"/>
            <a:ext cx="8280360" cy="309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3.- Una vez que tengan inscrita la figura en el formato ‘carta’, deberán realizar la homología teniendo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2200" y="765000"/>
            <a:ext cx="362088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4.- 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Si ustedes desean pueden ubicar V en otra posición como lo indica la siguiente  figura (ejemplo en la página sigu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29" t="0" r="10629" b="3548"/>
          <a:stretch/>
        </p:blipFill>
        <p:spPr>
          <a:xfrm>
            <a:off x="250920" y="1197000"/>
            <a:ext cx="6480000" cy="49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765000"/>
            <a:ext cx="362088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l segmento VA’ rotado 75º con respecto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72200" y="765000"/>
            <a:ext cx="36208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Obtención de la figura homóloga correspondiente a la hoja tamaño c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765000"/>
            <a:ext cx="3620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Una vez desarrollado todo este procedimiento en Sketchpad y obtener una figura similar a la de la izquierda, se escogerán las mejores piezas para pasar a la etapa de representación a ‘escala human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sta aquí todo el proceso se desarrolla en Sketchp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rmina la primera eta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rega: 4 Ag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ir archivo en Sketchpad a U-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Entregar Imagen impresa de la figura homologad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8-07-08T01:47:17Z</dcterms:modified>
  <cp:revision>11</cp:revision>
  <dc:subject/>
  <dc:title>Diapositiva 1</dc:title>
</cp:coreProperties>
</file>