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D5C-431B-4EB9-8433-D305B1FC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372-F7B1-4FAD-B578-6953C713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06F3-0D50-4C47-8D41-344FF39D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9954-B95F-43A2-AD6F-5941CA6C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2FBC-27CA-46A8-A3CB-71ED08E5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EF7-400F-4662-97C2-57178923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1C90-FD75-4C54-8BBB-FF1927AB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63D4-4865-4B03-B80C-0B826424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8125-4523-4482-89E9-EFCC6A5D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962E-5410-4C9E-99A3-894FE611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8DF1-8BA8-4A79-A7A5-5E28C5CB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CED3-55C2-4AEE-A81B-1A4B5809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7E29-F5AD-4F1D-8307-4E07D32A9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539720"/>
            <a:ext cx="2608200" cy="21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15920"/>
            <a:ext cx="200052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i="1" lang="es-ES" sz="800" spc="-1" strike="noStrike">
                <a:solidFill>
                  <a:srgbClr val="000000"/>
                </a:solidFill>
                <a:latin typeface="Arial"/>
              </a:rPr>
              <a:t>Geometría asistida por Computad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sarrollo de mosa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"/>
              </a:rPr>
              <a:t>FAU 2008  /  Departamento de  Construcció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"/>
              </a:rPr>
              <a:t>Prof: Mirtha Pallares 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"/>
              </a:rPr>
              <a:t>Ayud: Elisabeth Ávalos / Benjamín Leyt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447840"/>
            <a:ext cx="8064720" cy="6410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611280" y="1341360"/>
            <a:ext cx="50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611280" y="2492280"/>
            <a:ext cx="50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292428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611280" y="335772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611280" y="3860640"/>
            <a:ext cx="50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29600" cy="4494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5157720"/>
            <a:ext cx="8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29600" cy="4314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5229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29600" cy="4316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522936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29600" cy="5064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734080"/>
            <a:ext cx="1152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365040"/>
            <a:ext cx="8964720" cy="6118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59640" y="4076640"/>
            <a:ext cx="936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32720" y="3429000"/>
            <a:ext cx="115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6T00:58:08Z</dcterms:created>
  <dc:creator>benja</dc:creator>
  <dc:description/>
  <dc:language>en-US</dc:language>
  <cp:lastModifiedBy>benja</cp:lastModifiedBy>
  <dcterms:modified xsi:type="dcterms:W3CDTF">2008-04-26T01:32:26Z</dcterms:modified>
  <cp:revision>3</cp:revision>
  <dc:subject/>
  <dc:title>Diapositiva 1</dc:title>
</cp:coreProperties>
</file>