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274-792C-491D-A0BB-E23EDFCD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BB3-432D-4975-83A5-7BA03ADF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FFD-454E-42AA-BDDD-890BDC97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D921-DEB2-4A51-A177-31EBC4A1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8683-FE04-4D8C-B9CA-675053CC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3E5-F761-4879-BFEF-18AF3D80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0A1E-4EB1-4505-8646-AD550497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0B34-4751-4DE1-9D29-A666ACB5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FE1-CA87-48C6-B237-5402DA7D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C22-1799-4C5C-9A82-49AE8A78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2269-AD33-4BD4-8D21-05E604FD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462-53D7-46A3-A6CF-36333B04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6A0D-F2EF-4EC3-ACDB-5065401B1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539720"/>
            <a:ext cx="2608200" cy="21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15920"/>
            <a:ext cx="200052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i="1" lang="es-ES" sz="800" spc="-1" strike="noStrike">
                <a:solidFill>
                  <a:srgbClr val="000000"/>
                </a:solidFill>
                <a:latin typeface="Arial"/>
              </a:rPr>
              <a:t>Geometría asistida por Computad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sarrollo de mosa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"/>
              </a:rPr>
              <a:t>FAU 2008  /  Departamento de  Construcció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"/>
              </a:rPr>
              <a:t>Prof: Mirtha Pallares 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"/>
              </a:rPr>
              <a:t>Ayud: Elisabeth Ávalos / Benjamín Leyt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447840"/>
            <a:ext cx="8064720" cy="6410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611280" y="1341360"/>
            <a:ext cx="50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611280" y="2492280"/>
            <a:ext cx="50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292428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611280" y="335772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611280" y="3860640"/>
            <a:ext cx="50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29600" cy="4494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5157720"/>
            <a:ext cx="8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29600" cy="4314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5229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29600" cy="4316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522936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29600" cy="5064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734080"/>
            <a:ext cx="1152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365040"/>
            <a:ext cx="8964720" cy="6118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59640" y="4076640"/>
            <a:ext cx="936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3429000"/>
            <a:ext cx="115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6T00:58:08Z</dcterms:created>
  <dc:creator>benja</dc:creator>
  <dc:description/>
  <dc:language>en-US</dc:language>
  <cp:lastModifiedBy>benja</cp:lastModifiedBy>
  <dcterms:modified xsi:type="dcterms:W3CDTF">2008-04-26T01:32:26Z</dcterms:modified>
  <cp:revision>3</cp:revision>
  <dc:subject/>
  <dc:title>Diapositiva 1</dc:title>
</cp:coreProperties>
</file>