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4CF3-F68D-40E2-A82E-C51776085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904D-6ABD-4579-8B78-68E1D7520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EA24-EA22-4224-A64A-8F5580675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7D6B8-1B66-422E-BE69-DE9B86CFA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8E75-8A8A-4884-810D-06B86DA7A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255C-F6AE-448B-AD1F-151255A87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5C64-9CA7-4AF5-95E9-CC58055E7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CD125-51E0-4635-93A6-8D4EE209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DE55-DFD7-45A5-9797-32A17D02C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84A-8697-41F5-ADFD-CBAFC5F6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A6FA-104E-447A-A97C-9B99003B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D503-BDAD-4B1D-91B6-61452CEC7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766C2-1239-4D00-AFA8-F260782A44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539720"/>
            <a:ext cx="2608200" cy="21654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15920"/>
            <a:ext cx="200052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000" rIns="63000" tIns="31680" bIns="31680" anchor="t">
            <a:spAutoFit/>
          </a:bodyPr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i="1" lang="es-ES" sz="800" spc="-1" strike="noStrike">
                <a:solidFill>
                  <a:srgbClr val="000000"/>
                </a:solidFill>
                <a:latin typeface="Arial"/>
              </a:rPr>
              <a:t>                                                </a:t>
            </a:r>
            <a:r>
              <a:rPr b="1" i="1" lang="es-ES" sz="800" spc="-1" strike="noStrike">
                <a:solidFill>
                  <a:srgbClr val="000000"/>
                </a:solidFill>
                <a:latin typeface="Arial"/>
              </a:rPr>
              <a:t>Geometría asistida por Computado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esarrollo de mosa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751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624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"/>
              </a:rPr>
              <a:t>FAU 2008  /  Departamento de  Construcció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"/>
              </a:rPr>
              <a:t>Prof: Mirtha Pallares /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r>
              <a:rPr b="1" lang="es-ES" sz="700" spc="-1" strike="noStrike">
                <a:solidFill>
                  <a:srgbClr val="000000"/>
                </a:solidFill>
                <a:latin typeface="Arial"/>
              </a:rPr>
              <a:t>Ayud: Elisabeth Ávalos / Benjamín Leyto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37"/>
              </a:spcBef>
              <a:tabLst>
                <a:tab algn="l" pos="0"/>
                <a:tab algn="l" pos="630360"/>
                <a:tab algn="l" pos="1260360"/>
                <a:tab algn="l" pos="1890720"/>
                <a:tab algn="l" pos="2521080"/>
                <a:tab algn="l" pos="3151080"/>
                <a:tab algn="l" pos="3781440"/>
                <a:tab algn="l" pos="4411800"/>
                <a:tab algn="l" pos="5041800"/>
                <a:tab algn="l" pos="5672160"/>
                <a:tab algn="l" pos="6302520"/>
                <a:tab algn="l" pos="6932520"/>
                <a:tab algn="l" pos="7562880"/>
                <a:tab algn="l" pos="8193240"/>
                <a:tab algn="l" pos="8823240"/>
                <a:tab algn="l" pos="9453600"/>
                <a:tab algn="l" pos="10083960"/>
                <a:tab algn="l" pos="1071396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539640" y="447840"/>
            <a:ext cx="8064720" cy="641016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 action="ppaction://hlinksldjump"/>
          </p:cNvPr>
          <p:cNvSpPr/>
          <p:nvPr/>
        </p:nvSpPr>
        <p:spPr>
          <a:xfrm>
            <a:off x="611280" y="1341360"/>
            <a:ext cx="50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>
            <a:hlinkClick r:id="rId3" action="ppaction://hlinksldjump"/>
          </p:cNvPr>
          <p:cNvSpPr/>
          <p:nvPr/>
        </p:nvSpPr>
        <p:spPr>
          <a:xfrm>
            <a:off x="611280" y="2492280"/>
            <a:ext cx="50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292428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611280" y="3357720"/>
            <a:ext cx="50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>
            <a:hlinkClick r:id="rId5" action="ppaction://hlinksldjump"/>
          </p:cNvPr>
          <p:cNvSpPr/>
          <p:nvPr/>
        </p:nvSpPr>
        <p:spPr>
          <a:xfrm>
            <a:off x="611280" y="3860640"/>
            <a:ext cx="504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29600" cy="44942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5157720"/>
            <a:ext cx="8636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229600" cy="431496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8000" y="522936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68360" y="1268280"/>
            <a:ext cx="8229600" cy="4316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5229360"/>
            <a:ext cx="1008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468360" y="981000"/>
            <a:ext cx="8229600" cy="5064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5734080"/>
            <a:ext cx="1152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365040"/>
            <a:ext cx="8964720" cy="61182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0"/>
            <a:ext cx="2608200" cy="406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659640" y="4076640"/>
            <a:ext cx="936720" cy="2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732720" y="3429000"/>
            <a:ext cx="1152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6T00:58:08Z</dcterms:created>
  <dc:creator>benja</dc:creator>
  <dc:description/>
  <dc:language>en-US</dc:language>
  <cp:lastModifiedBy>benja</cp:lastModifiedBy>
  <dcterms:modified xsi:type="dcterms:W3CDTF">2008-04-26T01:32:26Z</dcterms:modified>
  <cp:revision>3</cp:revision>
  <dc:subject/>
  <dc:title>Diapositiva 1</dc:title>
</cp:coreProperties>
</file>