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1F6-9C9A-477B-A8CE-7162303A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D73-219A-4537-8015-041D19D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E55-9740-4BEB-AB4E-EF076B20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6DF-EAC5-49AC-964D-B2F04BE5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C33-6683-4DEE-9B68-9CD0606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F56-A90C-465C-B010-24B26717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229-378F-4F19-9FCD-3E8CE49C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908-F884-4842-B117-5D39EAAF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E6E-F35E-4A6D-977C-3AC41443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0E1-138F-484F-97A3-E203CFA2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6EB-FEC8-43BD-90C1-2D8C052B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EFD-6DAC-4795-86D8-16A9016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EA8E-D3DE-448A-96CE-9D40146BC1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1747800" y="2000160"/>
            <a:ext cx="540072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7 Rectángulo"/>
          <p:cNvSpPr/>
          <p:nvPr/>
        </p:nvSpPr>
        <p:spPr>
          <a:xfrm>
            <a:off x="5716440" y="2000160"/>
            <a:ext cx="144000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8 Rectángulo"/>
          <p:cNvSpPr/>
          <p:nvPr/>
        </p:nvSpPr>
        <p:spPr>
          <a:xfrm>
            <a:off x="1755720" y="2000160"/>
            <a:ext cx="395928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39 CuadroTexto"/>
          <p:cNvSpPr/>
          <p:nvPr/>
        </p:nvSpPr>
        <p:spPr>
          <a:xfrm>
            <a:off x="1714680" y="2143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 Manzi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unidad    -    ejercic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0 CuadroTexto"/>
          <p:cNvSpPr/>
          <p:nvPr/>
        </p:nvSpPr>
        <p:spPr>
          <a:xfrm>
            <a:off x="1785960" y="28828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1 Rectángulo"/>
          <p:cNvSpPr/>
          <p:nvPr/>
        </p:nvSpPr>
        <p:spPr>
          <a:xfrm>
            <a:off x="4994280" y="2725560"/>
            <a:ext cx="720720" cy="72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42 CuadroTexto"/>
          <p:cNvSpPr/>
          <p:nvPr/>
        </p:nvSpPr>
        <p:spPr>
          <a:xfrm>
            <a:off x="6143760" y="257184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0:02:19Z</dcterms:created>
  <dc:creator>Talo</dc:creator>
  <dc:description/>
  <dc:language>en-US</dc:language>
  <cp:lastModifiedBy>Talo</cp:lastModifiedBy>
  <dcterms:modified xsi:type="dcterms:W3CDTF">2008-04-04T23:22:56Z</dcterms:modified>
  <cp:revision>19</cp:revision>
  <dc:subject/>
  <dc:title>Diapositiva 1</dc:title>
</cp:coreProperties>
</file>