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65E-9CF1-421F-BA6A-E33FFA38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BB6-56A2-4A50-90DD-3EA64B75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F0C-BE68-4DE9-9A26-E72BCC12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A1A-9FC3-497B-BA2A-10283939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BD5-B346-4E3B-AFAB-F229881E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4D4-E93B-45A5-8325-DD818FFF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3CA-77DA-43AF-BE51-EFEA8F4C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A90-1E69-45A9-8AB5-2B5E715C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CE7-B8F0-4842-B6A9-96F4C53C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F7E-4CB8-4DCD-A752-03FAB125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FC6-7A18-4C34-8F89-62B575C4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38F-C61D-4239-BC10-863C4360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00E-B2FE-44D5-A38E-4DF5A5ABD80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1747800" y="2000160"/>
            <a:ext cx="5400720" cy="14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7 Rectángulo"/>
          <p:cNvSpPr/>
          <p:nvPr/>
        </p:nvSpPr>
        <p:spPr>
          <a:xfrm>
            <a:off x="5716440" y="2000160"/>
            <a:ext cx="1440000" cy="144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8 Rectángulo"/>
          <p:cNvSpPr/>
          <p:nvPr/>
        </p:nvSpPr>
        <p:spPr>
          <a:xfrm>
            <a:off x="1755720" y="2000160"/>
            <a:ext cx="395928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39 CuadroTexto"/>
          <p:cNvSpPr/>
          <p:nvPr/>
        </p:nvSpPr>
        <p:spPr>
          <a:xfrm>
            <a:off x="1714680" y="2143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aller Manzi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 unidad    -    ejercic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40 CuadroTexto"/>
          <p:cNvSpPr/>
          <p:nvPr/>
        </p:nvSpPr>
        <p:spPr>
          <a:xfrm>
            <a:off x="1785960" y="28828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1 Rectángulo"/>
          <p:cNvSpPr/>
          <p:nvPr/>
        </p:nvSpPr>
        <p:spPr>
          <a:xfrm>
            <a:off x="4994280" y="2725560"/>
            <a:ext cx="720720" cy="72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42 CuadroTexto"/>
          <p:cNvSpPr/>
          <p:nvPr/>
        </p:nvSpPr>
        <p:spPr>
          <a:xfrm>
            <a:off x="6143760" y="257184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0:02:19Z</dcterms:created>
  <dc:creator>Talo</dc:creator>
  <dc:description/>
  <dc:language>en-US</dc:language>
  <cp:lastModifiedBy>Talo</cp:lastModifiedBy>
  <dcterms:modified xsi:type="dcterms:W3CDTF">2008-04-04T23:22:56Z</dcterms:modified>
  <cp:revision>19</cp:revision>
  <dc:subject/>
  <dc:title>Diapositiva 1</dc:title>
</cp:coreProperties>
</file>