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6B94-7748-4B09-836A-AFD1F6C1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B6E-AB17-42B2-AB42-AD972753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504-965C-400A-9D45-861BAFED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6ED7-0EB9-4814-A2D7-6E293D50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D60-C979-470C-BD2F-57B1B1A1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52DB-C914-43FF-8176-179F28BC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139-0347-4D22-89B9-655666A9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ED9-E1E7-4BBB-8BA3-1CEBF6B9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BB3-E963-4012-B755-30F62887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2A8-622C-4097-9116-392BE8FE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1B1-AEF8-4B11-BD3A-92C5C5C3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7E5D-A339-4670-916C-E8B6F65A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1471-DA34-4565-9F68-962C5BBDD2A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"/>
          <p:cNvSpPr/>
          <p:nvPr/>
        </p:nvSpPr>
        <p:spPr>
          <a:xfrm>
            <a:off x="1747800" y="2000160"/>
            <a:ext cx="5400720" cy="14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37 Rectángulo"/>
          <p:cNvSpPr/>
          <p:nvPr/>
        </p:nvSpPr>
        <p:spPr>
          <a:xfrm>
            <a:off x="5716440" y="2000160"/>
            <a:ext cx="1440000" cy="1440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8 Rectángulo"/>
          <p:cNvSpPr/>
          <p:nvPr/>
        </p:nvSpPr>
        <p:spPr>
          <a:xfrm>
            <a:off x="1755720" y="2000160"/>
            <a:ext cx="395928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39 CuadroTexto"/>
          <p:cNvSpPr/>
          <p:nvPr/>
        </p:nvSpPr>
        <p:spPr>
          <a:xfrm>
            <a:off x="1714680" y="21430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aller Manzi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 unidad    -    ejercici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40 CuadroTexto"/>
          <p:cNvSpPr/>
          <p:nvPr/>
        </p:nvSpPr>
        <p:spPr>
          <a:xfrm>
            <a:off x="1785960" y="28828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mb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41 Rectángulo"/>
          <p:cNvSpPr/>
          <p:nvPr/>
        </p:nvSpPr>
        <p:spPr>
          <a:xfrm>
            <a:off x="4994280" y="2725560"/>
            <a:ext cx="720720" cy="72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42 CuadroTexto"/>
          <p:cNvSpPr/>
          <p:nvPr/>
        </p:nvSpPr>
        <p:spPr>
          <a:xfrm>
            <a:off x="6143760" y="257184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20:02:19Z</dcterms:created>
  <dc:creator>Talo</dc:creator>
  <dc:description/>
  <dc:language>en-US</dc:language>
  <cp:lastModifiedBy>Talo</cp:lastModifiedBy>
  <dcterms:modified xsi:type="dcterms:W3CDTF">2008-04-04T23:22:56Z</dcterms:modified>
  <cp:revision>19</cp:revision>
  <dc:subject/>
  <dc:title>Diapositiva 1</dc:title>
</cp:coreProperties>
</file>