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6AA-39B7-4828-BB3C-1955A73C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13A-42F5-4B96-8E8E-8F3A2F29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7FA-E248-484D-A845-355CAF28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C16-217C-4D2F-ADAD-BE2889AC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792-2E99-40D7-A9E6-709E262F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F15-A925-462C-92A2-B48E78BA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638-533E-4B41-9810-471348DE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CF4-BDEF-4CA5-881B-F6E2034F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B03-6275-4C81-A07F-0E9CFB34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3F1-8163-4CA5-9111-F938CFA1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9B5-AF58-4972-A548-99D3010E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931-FAE1-4E39-BE23-BCDEE3BE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4473-6827-4688-8216-4FEA1306FB1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Rectángulo"/>
          <p:cNvSpPr/>
          <p:nvPr/>
        </p:nvSpPr>
        <p:spPr>
          <a:xfrm>
            <a:off x="1747800" y="2000160"/>
            <a:ext cx="5400720" cy="14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37 Rectángulo"/>
          <p:cNvSpPr/>
          <p:nvPr/>
        </p:nvSpPr>
        <p:spPr>
          <a:xfrm>
            <a:off x="5716440" y="2000160"/>
            <a:ext cx="1440000" cy="144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8 Rectángulo"/>
          <p:cNvSpPr/>
          <p:nvPr/>
        </p:nvSpPr>
        <p:spPr>
          <a:xfrm>
            <a:off x="1755720" y="2000160"/>
            <a:ext cx="395928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39 CuadroTexto"/>
          <p:cNvSpPr/>
          <p:nvPr/>
        </p:nvSpPr>
        <p:spPr>
          <a:xfrm>
            <a:off x="1714680" y="21430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aller Manzi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- unidad    -    ejercici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40 CuadroTexto"/>
          <p:cNvSpPr/>
          <p:nvPr/>
        </p:nvSpPr>
        <p:spPr>
          <a:xfrm>
            <a:off x="1785960" y="2882880"/>
            <a:ext cx="42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mbr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1 Rectángulo"/>
          <p:cNvSpPr/>
          <p:nvPr/>
        </p:nvSpPr>
        <p:spPr>
          <a:xfrm>
            <a:off x="4994280" y="2725560"/>
            <a:ext cx="720720" cy="72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42 CuadroTexto"/>
          <p:cNvSpPr/>
          <p:nvPr/>
        </p:nvSpPr>
        <p:spPr>
          <a:xfrm>
            <a:off x="6143760" y="257184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4T20:02:19Z</dcterms:created>
  <dc:creator>Talo</dc:creator>
  <dc:description/>
  <dc:language>en-US</dc:language>
  <cp:lastModifiedBy>Talo</cp:lastModifiedBy>
  <dcterms:modified xsi:type="dcterms:W3CDTF">2008-04-04T23:22:56Z</dcterms:modified>
  <cp:revision>19</cp:revision>
  <dc:subject/>
  <dc:title>Diapositiva 1</dc:title>
</cp:coreProperties>
</file>