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C38C-6FA9-42F9-8661-F2C378293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0BFA-C811-41B2-8D2A-0D47F66D9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6CDD-3512-464B-8EB8-10E890BF1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ACE8-D2FE-4D19-B55F-33B89EA6A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CBE1-49BE-416A-AFC0-ED3C157A6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1C1A-1F9A-490B-9674-02BB01087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A522-403C-48B4-B96B-61632E49F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D555-DA5E-407E-BCC7-0A3224444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2CF2-E8EC-4E38-9969-01870E48F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6AA4-F002-4E48-9F4C-29DA73EC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5242-2818-4B76-84A7-1755E95A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2E3F-8FE2-4813-AF00-B1AB59C9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B0762-B508-42F2-A325-563FBC59F1C4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3 Rectángulo"/>
          <p:cNvSpPr/>
          <p:nvPr/>
        </p:nvSpPr>
        <p:spPr>
          <a:xfrm>
            <a:off x="1747800" y="2000160"/>
            <a:ext cx="5400720" cy="14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37 Rectángulo"/>
          <p:cNvSpPr/>
          <p:nvPr/>
        </p:nvSpPr>
        <p:spPr>
          <a:xfrm>
            <a:off x="5716440" y="2000160"/>
            <a:ext cx="1440000" cy="1440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38 Rectángulo"/>
          <p:cNvSpPr/>
          <p:nvPr/>
        </p:nvSpPr>
        <p:spPr>
          <a:xfrm>
            <a:off x="1755720" y="2000160"/>
            <a:ext cx="3959280" cy="720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39 CuadroTexto"/>
          <p:cNvSpPr/>
          <p:nvPr/>
        </p:nvSpPr>
        <p:spPr>
          <a:xfrm>
            <a:off x="1714680" y="2143080"/>
            <a:ext cx="428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Taller Manzi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- unidad    -    ejercici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40 CuadroTexto"/>
          <p:cNvSpPr/>
          <p:nvPr/>
        </p:nvSpPr>
        <p:spPr>
          <a:xfrm>
            <a:off x="1785960" y="2882880"/>
            <a:ext cx="428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Nombr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41 Rectángulo"/>
          <p:cNvSpPr/>
          <p:nvPr/>
        </p:nvSpPr>
        <p:spPr>
          <a:xfrm>
            <a:off x="4994280" y="2725560"/>
            <a:ext cx="720720" cy="72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42 CuadroTexto"/>
          <p:cNvSpPr/>
          <p:nvPr/>
        </p:nvSpPr>
        <p:spPr>
          <a:xfrm>
            <a:off x="6143760" y="2571840"/>
            <a:ext cx="56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o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4T20:02:19Z</dcterms:created>
  <dc:creator>Talo</dc:creator>
  <dc:description/>
  <dc:language>en-US</dc:language>
  <cp:lastModifiedBy>Talo</cp:lastModifiedBy>
  <dcterms:modified xsi:type="dcterms:W3CDTF">2008-04-04T23:22:56Z</dcterms:modified>
  <cp:revision>19</cp:revision>
  <dc:subject/>
  <dc:title>Diapositiva 1</dc:title>
</cp:coreProperties>
</file>