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74560-7AC4-4691-87C0-6A1B7F8E27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83A93-3C64-4974-8C98-61B194DE5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B0EFA-A0D6-4EB1-B364-12EDD74C1D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B5349-E6A7-4715-93E7-39E545E76B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0675CA-8AAC-442A-89C3-044624A77C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C8E488-35E2-4DC1-90D2-9707ABF6C4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A1BB36-3DF2-4DE6-9779-11FCAC8440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326C06-6678-45EC-B16D-E1E7B40FA4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E37419-DB6F-4A42-8AFD-C73603A983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15CF7C-EE22-4050-B2CA-95BFF10F7D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E036E-2CE3-43EA-A827-2127EC0F9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1EB0C-F4C6-49D5-A69F-AEBB88589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D4121-D8EC-4333-8A10-9330C3DE7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D1881-CD8D-4EA5-84DA-E7475F5F5B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E9E346-D2F5-423F-A2D8-4C6F7A79EB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7D3C49-B4FD-4500-9695-912618921F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7EBBD8-CD50-4AD6-B0D1-3B1AF72854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5F807-D6B7-4F32-A612-B720362F1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FB50D-CBD7-4E83-925C-26FCEDE6C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A4DF2-2141-47B6-990B-19538B54E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A349C-1C99-47E3-BB33-D1FD53B3E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9B3B6-F202-4FA7-BB75-DBD4F985C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6DBC0-8694-4E7F-8E2E-2BF508F32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AFD84-A7E7-40ED-A5CE-4266F2342F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A406D-FFDC-4F13-89A1-2B4BFE596B1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717F9-068C-41C3-B090-511E0247FDA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30788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ahoma"/>
              </a:rPr>
              <a:t>Curso Electivo de Geografía Humana</a:t>
            </a:r>
            <a:br>
              <a:rPr sz="2000"/>
            </a:br>
            <a:r>
              <a:rPr b="1" lang="es-ES_tradnl" sz="3600" spc="-1" strike="noStrike">
                <a:solidFill>
                  <a:srgbClr val="003366"/>
                </a:solidFill>
                <a:latin typeface="Tahoma"/>
              </a:rPr>
              <a:t>INSTRUMENTOS DE GESTIÓN AMBIENTAL</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470480" cy="1822320"/>
          </a:xfrm>
          <a:prstGeom prst="rect">
            <a:avLst/>
          </a:prstGeom>
          <a:noFill/>
          <a:ln w="0">
            <a:noFill/>
          </a:ln>
        </p:spPr>
        <p:txBody>
          <a:bodyPr lIns="90000" rIns="90000" tIns="46800" bIns="46800" anchor="b">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66"/>
                </a:solidFill>
                <a:latin typeface="Tahoma"/>
              </a:rPr>
              <a:t>Prof. Enrique Aliste Almuna</a:t>
            </a:r>
            <a:endParaRPr b="0" lang="en-US" sz="2800" spc="-1" strike="noStrike">
              <a:solidFill>
                <a:srgbClr val="006666"/>
              </a:solidFill>
              <a:latin typeface="Arial"/>
            </a:endParaRPr>
          </a:p>
        </p:txBody>
      </p:sp>
      <p:grpSp>
        <p:nvGrpSpPr>
          <p:cNvPr id="97" name=""/>
          <p:cNvGrpSpPr/>
          <p:nvPr/>
        </p:nvGrpSpPr>
        <p:grpSpPr>
          <a:xfrm>
            <a:off x="106200" y="189000"/>
            <a:ext cx="5905440" cy="1184400"/>
            <a:chOff x="106200" y="189000"/>
            <a:chExt cx="5905440" cy="1184400"/>
          </a:xfrm>
        </p:grpSpPr>
        <p:pic>
          <p:nvPicPr>
            <p:cNvPr id="98" name="" descr=""/>
            <p:cNvPicPr/>
            <p:nvPr/>
          </p:nvPicPr>
          <p:blipFill>
            <a:blip r:embed="rId1"/>
            <a:stretch/>
          </p:blipFill>
          <p:spPr>
            <a:xfrm>
              <a:off x="106200" y="189000"/>
              <a:ext cx="622080" cy="1076040"/>
            </a:xfrm>
            <a:prstGeom prst="rect">
              <a:avLst/>
            </a:prstGeom>
            <a:ln w="0">
              <a:noFill/>
            </a:ln>
          </p:spPr>
        </p:pic>
        <p:sp>
          <p:nvSpPr>
            <p:cNvPr id="99" name=""/>
            <p:cNvSpPr/>
            <p:nvPr/>
          </p:nvSpPr>
          <p:spPr>
            <a:xfrm>
              <a:off x="865440" y="264960"/>
              <a:ext cx="5146200" cy="1108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Tahoma"/>
                </a:rPr>
                <a:t>UNIVERSIDAD DE CHILE</a:t>
              </a:r>
              <a:r>
                <a:rPr b="1" lang="es-ES_tradnl" sz="2400" spc="-1" strike="noStrike">
                  <a:solidFill>
                    <a:srgbClr val="003366"/>
                  </a:solidFill>
                  <a:latin typeface="Tahoma"/>
                </a:rPr>
                <a:t> </a:t>
              </a:r>
              <a:endParaRPr b="0" lang="en-US" sz="2400" spc="-1" strike="noStrike">
                <a:solidFill>
                  <a:srgbClr val="0033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ahoma"/>
                </a:rPr>
                <a:t>FACULTAD DE ARQUITECTURA Y URBANISMO</a:t>
              </a:r>
              <a:endParaRPr b="0" lang="en-US" sz="1400" spc="-1" strike="noStrike">
                <a:solidFill>
                  <a:srgbClr val="0033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ahoma"/>
                </a:rPr>
                <a:t>Escuela de Geografía</a:t>
              </a:r>
              <a:endParaRPr b="0" lang="en-US" sz="1400" spc="-1" strike="noStrike">
                <a:solidFill>
                  <a:srgbClr val="003366"/>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Tahoma"/>
              </a:rPr>
              <a:t>CONTENIDOS</a:t>
            </a:r>
            <a:endParaRPr b="1" lang="en-US" sz="3600" spc="-1" strike="noStrike">
              <a:solidFill>
                <a:srgbClr val="006666"/>
              </a:solidFill>
              <a:latin typeface="Arial"/>
            </a:endParaRPr>
          </a:p>
        </p:txBody>
      </p:sp>
      <p:sp>
        <p:nvSpPr>
          <p:cNvPr id="10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609480" indent="-60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Instrumentos de gestión: alcances conceptuales</a:t>
            </a:r>
            <a:endParaRPr b="0" lang="en-US" sz="20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Qué es un instrumento de gestión?</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a Ley 19300 de Bases Generales del Medio Ambiente </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a gestión ambiental y sus objetivos</a:t>
            </a:r>
            <a:endParaRPr b="0" lang="en-US" sz="1900" spc="-1" strike="noStrike">
              <a:solidFill>
                <a:srgbClr val="003366"/>
              </a:solidFill>
              <a:latin typeface="Arial"/>
            </a:endParaRPr>
          </a:p>
          <a:p>
            <a:pPr marL="609480" indent="-60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Uso de instrumentos de gestión ambiental</a:t>
            </a:r>
            <a:endParaRPr b="0" lang="en-US" sz="20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El Sistema de Evaluación de Impacto Ambiental (SEIA)</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as normas de emisión y de calidad</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os planes de prevención de la contaminación</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Evaluación Ambiental Estratégica (EAE)</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Sistemas de Gestión Ambiental (ISO 14000)</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Acuerdos de Producción Limpia</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Instrumentos económicos</a:t>
            </a:r>
            <a:endParaRPr b="0" lang="en-US" sz="19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Tahoma"/>
              </a:rPr>
              <a:t>OBJETIVOS DEL CURSO</a:t>
            </a:r>
            <a:endParaRPr b="1" lang="en-US" sz="3600" spc="-1" strike="noStrike">
              <a:solidFill>
                <a:srgbClr val="006666"/>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Presentar a los alumnos, distintos instrumentos actualmente en uso para llevar a cabo la gestión ambiental de proyectos en los ámbitos públicos y privado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Proponer a los alumnos, el uso de instrumentos de gestión ambiental de acuerdo con distintos ámbitos de acción y diversos escenario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Explorar distintas metodologías aplicables en el diseño de nuevos instrumentos de gestión ambiental.</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Incentivar en los alumnos el abordaje multi y transdisciplinario de problemas contingentes y la pertinencia en el uso de distintos instrumentos de gestión ambiental.</a:t>
            </a:r>
            <a:endParaRPr b="0" lang="en-US" sz="20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Tahoma"/>
              </a:rPr>
              <a:t>Generalidades</a:t>
            </a:r>
            <a:r>
              <a:rPr b="1" lang="es-ES_tradnl" sz="3600" spc="-1" strike="noStrike">
                <a:solidFill>
                  <a:srgbClr val="006666"/>
                </a:solidFill>
                <a:latin typeface="Arial"/>
              </a:rPr>
              <a:t> </a:t>
            </a: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Tahoma"/>
              </a:rPr>
              <a:t>En la actualidad, la gestión ambiental se ha instalado como un tema transversal con una amplia presencia en diversas actividades propias de la gestión pública y privada. Desde las municipalidades, ministerios, organismos sectoriales, organismos no gubernamentales y empresas privadas, entre otras organizaciones, la gestión ambiental es un tema contingente que requiere del apoyo profesional.</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Tahoma"/>
              </a:rPr>
              <a:t>Los geógrafos, como profesionales de los temas territoriales, requieren de conocimientos en las áreas asociadas a la gestión ambiental, toda vez que la sociedad hoy en día demanda de nuevas respuestas al modo de enfrentar los diversos desafíos que plantea la temática del desarrollo en sus diversas variantes.</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Tahoma"/>
              </a:rPr>
              <a:t>En virtud de lo anterior, el presente curso se propone abordar y conocer tanto los ámbitos de aplicación de distintos instrumentos de gestión ambiental existentes, como así también su conocimiento a modo general y sus distintos grados de aplicabilidad.</a:t>
            </a:r>
            <a:endParaRPr b="0" lang="en-US" sz="1800" spc="-1" strike="noStrike">
              <a:solidFill>
                <a:srgbClr val="0033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66"/>
                </a:solidFill>
                <a:latin typeface="Tahoma"/>
              </a:rPr>
              <a:t>Propósitos y objetivos de los Instrumentos de Gestión Ambiental</a:t>
            </a:r>
            <a:endParaRPr b="1" lang="en-US" sz="3200" spc="-1" strike="noStrike">
              <a:solidFill>
                <a:srgbClr val="006666"/>
              </a:solidFill>
              <a:latin typeface="Arial"/>
            </a:endParaRPr>
          </a:p>
        </p:txBody>
      </p:sp>
      <p:sp>
        <p:nvSpPr>
          <p:cNvPr id="10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ahoma"/>
              </a:rPr>
              <a:t>Propósitos perseguidos al poner en marcha los instrumentos de gestión</a:t>
            </a:r>
            <a:endParaRPr b="0" lang="en-US" sz="24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Fijación de condiciones ambientales</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Impulso de procesos de prevención</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Concientización de los ciudadanos mediante una educación</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Cambio del comportamiento de los actores económicos</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Mejoramiento de los procesos de formulación de las políticas ambientales, su puesta en marcha y evaluación</a:t>
            </a:r>
            <a:endParaRPr b="0" lang="en-US" sz="2000" spc="-1" strike="noStrike">
              <a:solidFill>
                <a:srgbClr val="0033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66"/>
                </a:solidFill>
                <a:latin typeface="Tahoma"/>
              </a:rPr>
              <a:t>Clasificación y tipos de instrumentos de gestión</a:t>
            </a:r>
            <a:endParaRPr b="1" lang="en-US" sz="3200" spc="-1" strike="noStrike">
              <a:solidFill>
                <a:srgbClr val="006666"/>
              </a:solidFill>
              <a:latin typeface="Arial"/>
            </a:endParaRPr>
          </a:p>
        </p:txBody>
      </p:sp>
      <p:sp>
        <p:nvSpPr>
          <p:cNvPr id="10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Los instrumentos se clasifican en cuatro grandes categorías:</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os instrumentos de regulación directa</a:t>
            </a:r>
            <a:r>
              <a:rPr b="0" lang="en-US" sz="1600" spc="-1" strike="noStrike">
                <a:solidFill>
                  <a:srgbClr val="003366"/>
                </a:solidFill>
                <a:latin typeface="Tahoma"/>
              </a:rPr>
              <a:t>, denominados de comando y control, basados en la promulgación de normas y en la ecuación coerción sanción; es decir, se trata de la forma tradicional de hacer cumplir la ley llevada al campo de la conducta ambiental.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os instrumentos administrativos</a:t>
            </a:r>
            <a:r>
              <a:rPr b="0" lang="en-US" sz="1600" spc="-1" strike="noStrike">
                <a:solidFill>
                  <a:srgbClr val="003366"/>
                </a:solidFill>
                <a:latin typeface="Tahoma"/>
              </a:rPr>
              <a:t> consistentes en el otorgamiento de licencias permisos y demás modos de adquirir el derecho a usar los recursos naturales previstos en las diferentes legislaciones. La licencia ambiental ha sido el instrumento predominante dentro de esta categoría.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os instrumentos económicos</a:t>
            </a:r>
            <a:r>
              <a:rPr b="0" lang="en-US" sz="1600" spc="-1" strike="noStrike">
                <a:solidFill>
                  <a:srgbClr val="003366"/>
                </a:solidFill>
                <a:latin typeface="Tahoma"/>
              </a:rPr>
              <a:t> que están dirigidos a hacer que las fuerzas del mercado sean las principales propiciadoras del cumplimiento de las metas ambientales de la sociedad.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a educación, la investigación, la asistencia técnica y la información ambiental</a:t>
            </a:r>
            <a:r>
              <a:rPr b="0" lang="en-US" sz="1600" spc="-1" strike="noStrike">
                <a:solidFill>
                  <a:srgbClr val="003366"/>
                </a:solidFill>
                <a:latin typeface="Tahoma"/>
              </a:rPr>
              <a:t> conforman la cuarta categoría</a:t>
            </a:r>
            <a:r>
              <a:rPr b="0" lang="en-US" sz="1600" spc="-1" strike="noStrike">
                <a:solidFill>
                  <a:srgbClr val="003366"/>
                </a:solidFill>
                <a:latin typeface="Arial"/>
              </a:rPr>
              <a:t>. </a:t>
            </a:r>
            <a:endParaRPr b="0" lang="en-US" sz="1600" spc="-1" strike="noStrike">
              <a:solidFill>
                <a:srgbClr val="0033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0T02:39:16Z</dcterms:created>
  <dc:creator>Enrique Aliste Almuna</dc:creator>
  <dc:description/>
  <dc:language>en-US</dc:language>
  <cp:lastModifiedBy>Enrique Aliste Almuna</cp:lastModifiedBy>
  <dcterms:modified xsi:type="dcterms:W3CDTF">2006-03-10T02:54:36Z</dcterms:modified>
  <cp:revision>8</cp:revision>
  <dc:subject/>
  <dc:title>Diapositiva 1</dc:title>
</cp:coreProperties>
</file>