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BBDD2-18D6-4297-8A1F-1EAA095858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BE6CE-A01B-4E29-8942-572AAE9A4A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E7E0E-3220-46F4-967A-97FD015CA7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8C487-127A-4548-AE0A-87DE39A677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7E13D1-379A-4F6C-88E6-805BCBC8C6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1A8C79-A1FC-4671-90F1-B0C792106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5CBFF-13A9-4FA4-8BE4-D0B7516B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53E2A-DC4F-4F15-85D1-D9094A345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525567-BC9D-43B4-B685-D72B4F50D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76C1C3-12E5-4EFF-84AE-801286B5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170EE2-8C81-486F-97B2-9AD463246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16F11-8D56-45C2-86CC-2D5A5E2E5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841BC1-19E1-4CB0-A549-F86938F48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AB03-5DFC-474D-8EF9-1D9C96276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69DE4-84F5-4CE1-A28E-D86F9A384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FB4A25-D672-4E26-9A33-677100B84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5BCD9C-203C-4CC9-9FD0-BEE645C0B4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5075-DB0A-4BA6-B6FC-E8DD4FE08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6E596-93B1-41C4-BE23-D23DF263D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B2670-F2A4-467D-98CA-EE7A08846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F4F43-830A-4E0D-BA6B-5913EEFBF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86A84-413D-46D3-BC90-6AA7C8E86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640D-BD9F-4B3E-8300-738392BED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175E-470D-4F48-AE7C-F1F5267A6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661B-127F-4511-BC9B-2E0E541990F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1FFB98-67BD-45B6-BB2D-5AFC9BEB996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D:/Cursos%20&amp;%20Charlas/Curso%20Riles/art-11.ppt" TargetMode="External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110040" y="4940280"/>
            <a:ext cx="3146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99"/>
                </a:solidFill>
                <a:latin typeface="DIN-Medium"/>
              </a:rPr>
              <a:t>Prof. Enrique Aliste Almun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Departamento de Geografí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000099"/>
                </a:solidFill>
                <a:latin typeface="DIN-Medium"/>
              </a:rPr>
              <a:t>Universidad de Ch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106200" y="189000"/>
            <a:ext cx="5905440" cy="1076040"/>
            <a:chOff x="106200" y="189000"/>
            <a:chExt cx="5905440" cy="1076040"/>
          </a:xfrm>
        </p:grpSpPr>
        <p:pic>
          <p:nvPicPr>
            <p:cNvPr id="92" name="" descr=""/>
            <p:cNvPicPr/>
            <p:nvPr/>
          </p:nvPicPr>
          <p:blipFill>
            <a:blip r:embed="rId1"/>
            <a:stretch/>
          </p:blipFill>
          <p:spPr>
            <a:xfrm>
              <a:off x="106200" y="189000"/>
              <a:ext cx="622080" cy="107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"/>
            <p:cNvSpPr/>
            <p:nvPr/>
          </p:nvSpPr>
          <p:spPr>
            <a:xfrm>
              <a:off x="865440" y="264960"/>
              <a:ext cx="5146200" cy="99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2400" spc="-1" strike="noStrike">
                  <a:solidFill>
                    <a:srgbClr val="000000"/>
                  </a:solidFill>
                  <a:latin typeface="Tahoma"/>
                </a:rPr>
                <a:t>UNIVERSIDAD DE CHILE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Tahoma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FACULTAD DE ARQUITECTURA Y URBANISMO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1400" spc="-1" strike="noStrike">
                  <a:solidFill>
                    <a:srgbClr val="000000"/>
                  </a:solidFill>
                  <a:latin typeface="Tahoma"/>
                </a:rPr>
                <a:t>Escuela de Geografí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684360" y="2171880"/>
            <a:ext cx="7848360" cy="1904760"/>
          </a:xfrm>
          <a:prstGeom prst="roundRect">
            <a:avLst>
              <a:gd name="adj" fmla="val 5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6666cc"/>
                </a:solidFill>
                <a:latin typeface="Tahoma"/>
              </a:rPr>
              <a:t>Curso Electivo de Geografía Humana</a:t>
            </a:r>
            <a:br>
              <a:rPr sz="4600"/>
            </a:br>
            <a:r>
              <a:rPr b="0" lang="es-ES_tradnl" sz="4600" spc="-1" strike="noStrike">
                <a:solidFill>
                  <a:srgbClr val="6666cc"/>
                </a:solidFill>
                <a:latin typeface="Tahoma"/>
              </a:rPr>
              <a:t>INSTRUMENTOS DE GESTIÓN AMBIENTAL</a:t>
            </a:r>
            <a:endParaRPr b="0" lang="en-US" sz="4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igencia de la Resolución de Impacto Ambiental.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indefinida de las RCA genera distorciones y dificultades para la evaluación posterior de otros proyectos (variaciones en componentes ambientales y en las LB). Por ello se incorporará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zo de vigencia de la RCA (caducidad de ésta y de permisos ambient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rangos de vigencia para las RCA según proyectos (no serán plazos únicos ni idénticos), dependiendo de su naturalez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odrán revisarse y actualizarse plazos de las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 procedimiento para aplicación de caducidad de R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 la necesidad de perfeccionar el mecanismo de PC dentro del SEIA (plazos e instancias de participación y derecho a reclamo). Las modificaciones propuestas van en la siguiente línea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temprana, previa al ingreso al SEIA (etapa de diseño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condiciones y requisitos de P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C en todo el proceso de evaluación, extendiéndose a las aden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stablecerán causales que autorizan reclam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Homologación de procedimientos de recla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corporación de audiencias públicas  como función permanente de las COREM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9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5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78" dur="500"/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1" dur="500"/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6" dur="500"/>
                                        <p:tgtEl>
                                          <p:spTgt spid="11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89" dur="500"/>
                                        <p:tgtEl>
                                          <p:spTgt spid="11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2" dur="500"/>
                                        <p:tgtEl>
                                          <p:spTgt spid="11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5" dur="500"/>
                                        <p:tgtEl>
                                          <p:spTgt spid="11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1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1" dur="500"/>
                                        <p:tgtEl>
                                          <p:spTgt spid="11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4" dur="500"/>
                                        <p:tgtEl>
                                          <p:spTgt spid="11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5" name=""/>
          <p:cNvGrpSpPr/>
          <p:nvPr/>
        </p:nvGrpSpPr>
        <p:grpSpPr>
          <a:xfrm>
            <a:off x="466560" y="1125360"/>
            <a:ext cx="7634520" cy="5547960"/>
            <a:chOff x="466560" y="1125360"/>
            <a:chExt cx="7634520" cy="5547960"/>
          </a:xfrm>
        </p:grpSpPr>
        <p:pic>
          <p:nvPicPr>
            <p:cNvPr id="116" name="" descr=""/>
            <p:cNvPicPr/>
            <p:nvPr/>
          </p:nvPicPr>
          <p:blipFill>
            <a:blip r:embed="rId1"/>
            <a:srcRect l="0" t="0" r="0" b="10002"/>
            <a:stretch/>
          </p:blipFill>
          <p:spPr>
            <a:xfrm>
              <a:off x="466560" y="1125360"/>
              <a:ext cx="7634520" cy="5547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1993320" y="1125360"/>
              <a:ext cx="2498400" cy="6447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646280" y="1443600"/>
              <a:ext cx="28458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9" name=""/>
          <p:cNvSpPr/>
          <p:nvPr/>
        </p:nvSpPr>
        <p:spPr>
          <a:xfrm>
            <a:off x="533520" y="260280"/>
            <a:ext cx="778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Institucionalidad de la Comisión Nacional del Medio Ambi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4581360"/>
            <a:ext cx="7989840" cy="163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DS 30/97, modificado por DS 95/02, MINSEGPRES, Establece Reglamento del Sistema de Evalu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Se refiere a la manera de llevar adelante el procedimiento de Evaluación de Impacto Ambiental de proyectos y actividades, conforme con los principios establecidos en la ley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09480" y="1600200"/>
            <a:ext cx="8000640" cy="2819160"/>
            <a:chOff x="609480" y="1600200"/>
            <a:chExt cx="8000640" cy="2819160"/>
          </a:xfrm>
        </p:grpSpPr>
        <p:grpSp>
          <p:nvGrpSpPr>
            <p:cNvPr id="123" name=""/>
            <p:cNvGrpSpPr/>
            <p:nvPr/>
          </p:nvGrpSpPr>
          <p:grpSpPr>
            <a:xfrm>
              <a:off x="609480" y="1600200"/>
              <a:ext cx="8000640" cy="2819160"/>
              <a:chOff x="609480" y="1600200"/>
              <a:chExt cx="8000640" cy="2819160"/>
            </a:xfrm>
          </p:grpSpPr>
          <p:sp>
            <p:nvSpPr>
              <p:cNvPr id="124" name=""/>
              <p:cNvSpPr/>
              <p:nvPr/>
            </p:nvSpPr>
            <p:spPr>
              <a:xfrm>
                <a:off x="609480" y="1600200"/>
                <a:ext cx="1906920" cy="88668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LEY Nº19.30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927520" y="2344320"/>
                <a:ext cx="1420200" cy="482760"/>
              </a:xfr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Art. 10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526920" y="1953720"/>
                <a:ext cx="232740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125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800" spc="-1" strike="noStrike">
                    <a:solidFill>
                      <a:srgbClr val="000000"/>
                    </a:solidFill>
                    <a:latin typeface="Tahoma"/>
                  </a:rPr>
                  <a:t>Ingreso SEIA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4572360" y="2899440"/>
                <a:ext cx="2687040" cy="69084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2661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umple 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7786440" y="2830320"/>
                <a:ext cx="7538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E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572360" y="3728880"/>
                <a:ext cx="2687040" cy="690480"/>
              </a:xfrm>
              <a:custGeom>
                <a:avLst/>
                <a:gdLst/>
                <a:ahLst/>
                <a:rect l="l" t="t" r="r" b="b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21600" y="21600"/>
                    </a:lnTo>
                    <a:lnTo>
                      <a:pt x="0" y="21600"/>
                    </a:lnTo>
                    <a:close/>
                  </a:path>
                  <a:path w="21600" h="21600">
                    <a:moveTo>
                      <a:pt x="25206" y="3247"/>
                    </a:moveTo>
                    <a:lnTo>
                      <a:pt x="22201" y="3247"/>
                    </a:lnTo>
                  </a:path>
                  <a:path w="21600" h="21600">
                    <a:moveTo>
                      <a:pt x="22201" y="0"/>
                    </a:moveTo>
                    <a:lnTo>
                      <a:pt x="22201" y="21600"/>
                    </a:lnTo>
                  </a:path>
                </a:pathLst>
              </a:custGeom>
              <a:gradFill rotWithShape="0">
                <a:gsLst>
                  <a:gs pos="0">
                    <a:srgbClr val="00cc66"/>
                  </a:gs>
                  <a:gs pos="50000">
                    <a:srgbClr val="336699"/>
                  </a:gs>
                  <a:gs pos="100000">
                    <a:srgbClr val="00cc66"/>
                  </a:gs>
                </a:gsLst>
                <a:lin ang="13500000"/>
              </a:gradFill>
              <a:ln w="572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360" rIns="90360" tIns="44280" bIns="4428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No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 </a:t>
                </a: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aplican </a:t>
                </a:r>
                <a:r>
                  <a:rPr b="1" lang="es-ES_tradnl" sz="1600" spc="-1" strike="noStrike">
                    <a:solidFill>
                      <a:srgbClr val="ffffff"/>
                    </a:solidFill>
                    <a:latin typeface="Tahoma"/>
                  </a:rPr>
                  <a:t>criterios Art. 11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7713000" y="3658320"/>
                <a:ext cx="89712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600" spc="-1" strike="noStrike">
                    <a:solidFill>
                      <a:srgbClr val="cc0000"/>
                    </a:solidFill>
                    <a:latin typeface="Tahoma"/>
                  </a:rPr>
                  <a:t>DIA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31" name="">
              <a:hlinkClick r:id="rId1"/>
            </p:cNvPr>
            <p:cNvSpPr/>
            <p:nvPr/>
          </p:nvSpPr>
          <p:spPr>
            <a:xfrm>
              <a:off x="5638680" y="3276720"/>
              <a:ext cx="609840" cy="228600"/>
            </a:xfrm>
            <a:custGeom>
              <a:avLst/>
              <a:gdLst>
                <a:gd name="textAreaLeft" fmla="*/ 14760 w 609840"/>
                <a:gd name="textAreaRight" fmla="*/ 595080 w 609840"/>
                <a:gd name="textAreaTop" fmla="*/ 14760 h 228600"/>
                <a:gd name="textAreaBottom" fmla="*/ 213840 h 228600"/>
              </a:gdLst>
              <a:ahLst/>
              <a:rect l="textAreaLeft" t="textAreaTop" r="textAreaRight" b="textAreaBottom"/>
              <a:pathLst>
                <a:path w="57566" h="21600">
                  <a:moveTo>
                    <a:pt x="0" y="0"/>
                  </a:moveTo>
                  <a:lnTo>
                    <a:pt x="57566" y="0"/>
                  </a:lnTo>
                  <a:lnTo>
                    <a:pt x="57566" y="21600"/>
                  </a:lnTo>
                  <a:lnTo>
                    <a:pt x="0" y="21600"/>
                  </a:lnTo>
                  <a:close/>
                </a:path>
                <a:path fill="lightenLess" w="57566" h="21600">
                  <a:moveTo>
                    <a:pt x="0" y="0"/>
                  </a:moveTo>
                  <a:lnTo>
                    <a:pt x="57566" y="0"/>
                  </a:lnTo>
                  <a:lnTo>
                    <a:pt x="56166" y="1400"/>
                  </a:lnTo>
                  <a:lnTo>
                    <a:pt x="1400" y="1400"/>
                  </a:lnTo>
                  <a:close/>
                </a:path>
                <a:path fill="darken" w="57566" h="21600">
                  <a:moveTo>
                    <a:pt x="57566" y="0"/>
                  </a:moveTo>
                  <a:lnTo>
                    <a:pt x="57566" y="21600"/>
                  </a:lnTo>
                  <a:lnTo>
                    <a:pt x="56166" y="20200"/>
                  </a:lnTo>
                  <a:lnTo>
                    <a:pt x="56166" y="1400"/>
                  </a:lnTo>
                  <a:close/>
                </a:path>
                <a:path fill="darkenLess" w="57566" h="21600">
                  <a:moveTo>
                    <a:pt x="57566" y="21600"/>
                  </a:moveTo>
                  <a:lnTo>
                    <a:pt x="0" y="21600"/>
                  </a:lnTo>
                  <a:lnTo>
                    <a:pt x="1400" y="20200"/>
                  </a:lnTo>
                  <a:lnTo>
                    <a:pt x="56166" y="20200"/>
                  </a:lnTo>
                  <a:close/>
                </a:path>
                <a:path fill="lighten" w="57566" h="21600">
                  <a:moveTo>
                    <a:pt x="0" y="21600"/>
                  </a:moveTo>
                  <a:lnTo>
                    <a:pt x="0" y="0"/>
                  </a:lnTo>
                  <a:lnTo>
                    <a:pt x="1400" y="1400"/>
                  </a:lnTo>
                  <a:lnTo>
                    <a:pt x="1400" y="20200"/>
                  </a:lnTo>
                  <a:close/>
                </a:path>
                <a:path fill="darken" w="57566" h="21600">
                  <a:moveTo>
                    <a:pt x="21777" y="3794"/>
                  </a:moveTo>
                  <a:lnTo>
                    <a:pt x="35790" y="10800"/>
                  </a:lnTo>
                  <a:lnTo>
                    <a:pt x="21777" y="17806"/>
                  </a:lnTo>
                  <a:close/>
                </a:path>
              </a:pathLst>
            </a:cu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5" dur="indefinite" restart="never" nodeType="tmRoot">
          <p:childTnLst>
            <p:seq>
              <p:cTn id="426" dur="indefinite" nodeType="mainSeq">
                <p:childTnLst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395280" y="765000"/>
            <a:ext cx="813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a Declaración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3" name=""/>
          <p:cNvGrpSpPr/>
          <p:nvPr/>
        </p:nvGrpSpPr>
        <p:grpSpPr>
          <a:xfrm>
            <a:off x="971640" y="1341360"/>
            <a:ext cx="6768000" cy="4919040"/>
            <a:chOff x="971640" y="1341360"/>
            <a:chExt cx="6768000" cy="4919040"/>
          </a:xfrm>
        </p:grpSpPr>
        <p:grpSp>
          <p:nvGrpSpPr>
            <p:cNvPr id="134" name=""/>
            <p:cNvGrpSpPr/>
            <p:nvPr/>
          </p:nvGrpSpPr>
          <p:grpSpPr>
            <a:xfrm>
              <a:off x="971640" y="1341360"/>
              <a:ext cx="6768000" cy="4895280"/>
              <a:chOff x="971640" y="1341360"/>
              <a:chExt cx="6768000" cy="4895280"/>
            </a:xfrm>
          </p:grpSpPr>
          <p:sp>
            <p:nvSpPr>
              <p:cNvPr id="135" name=""/>
              <p:cNvSpPr/>
              <p:nvPr/>
            </p:nvSpPr>
            <p:spPr>
              <a:xfrm>
                <a:off x="6206760" y="13413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NA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6206760" y="1676160"/>
                <a:ext cx="1172160" cy="2329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80280" rIns="80280" tIns="39240" bIns="392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660240"/>
                    <a:tab algn="l" pos="1320840"/>
                    <a:tab algn="l" pos="1981080"/>
                    <a:tab algn="l" pos="2641680"/>
                    <a:tab algn="l" pos="3301920"/>
                    <a:tab algn="l" pos="3962520"/>
                    <a:tab algn="l" pos="4622760"/>
                    <a:tab algn="l" pos="5283360"/>
                    <a:tab algn="l" pos="5943600"/>
                    <a:tab algn="l" pos="6603840"/>
                    <a:tab algn="l" pos="7264440"/>
                    <a:tab algn="l" pos="7924680"/>
                    <a:tab algn="l" pos="8585280"/>
                    <a:tab algn="l" pos="9245520"/>
                    <a:tab algn="l" pos="9906120"/>
                    <a:tab algn="l" pos="1056636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COREM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3768840" y="2466000"/>
                <a:ext cx="1792800" cy="372600"/>
              </a:xfrm>
              <a:prstGeom prst="roundRect">
                <a:avLst>
                  <a:gd name="adj" fmla="val 16667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spacho de ejemplare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de la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971640" y="3020040"/>
                <a:ext cx="1616400" cy="5194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PRIMER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3859200" y="3767760"/>
                <a:ext cx="1714680" cy="744480"/>
              </a:xfrm>
              <a:custGeom>
                <a:avLst/>
                <a:gdLst>
                  <a:gd name="textAreaLeft" fmla="*/ 0 w 1714680"/>
                  <a:gd name="textAreaRight" fmla="*/ 1715040 w 1714680"/>
                  <a:gd name="textAreaTop" fmla="*/ 96480 h 744480"/>
                  <a:gd name="textAreaBottom" fmla="*/ 648000 h 7444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1400"/>
                    </a:moveTo>
                    <a:cubicBezTo>
                      <a:pt x="7200" y="-3560"/>
                      <a:pt x="14400" y="6360"/>
                      <a:pt x="21600" y="1400"/>
                    </a:cubicBezTo>
                    <a:lnTo>
                      <a:pt x="21600" y="20200"/>
                    </a:lnTo>
                    <a:cubicBezTo>
                      <a:pt x="14400" y="25160"/>
                      <a:pt x="7200" y="15240"/>
                      <a:pt x="0" y="20200"/>
                    </a:cubicBezTo>
                    <a:close/>
                  </a:path>
                </a:pathLst>
              </a:cu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Informe Técnico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3047760" y="3081240"/>
                <a:ext cx="3338640" cy="43848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forme de los Órganos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Administración del Estado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3636000" y="1904400"/>
                <a:ext cx="2119320" cy="351000"/>
              </a:xfrm>
              <a:prstGeom prst="octagon">
                <a:avLst>
                  <a:gd name="adj" fmla="val 29282"/>
                </a:avLst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Notificación de l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3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Resolución de Admisibilida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3739320" y="1388160"/>
                <a:ext cx="1924200" cy="334800"/>
              </a:xfrm>
              <a:prstGeom prst="octagon">
                <a:avLst>
                  <a:gd name="adj" fmla="val 29282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2600" rIns="102600" tIns="51480" bIns="5148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400" spc="-1" strike="noStrike">
                    <a:solidFill>
                      <a:srgbClr val="000000"/>
                    </a:solidFill>
                    <a:latin typeface="Tahoma"/>
                  </a:rPr>
                  <a:t>Ingreso DIA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 rot="21132000">
                <a:off x="5845320" y="1441080"/>
                <a:ext cx="176400" cy="75960"/>
              </a:xfrm>
              <a:prstGeom prst="rightArrow">
                <a:avLst>
                  <a:gd name="adj1" fmla="val 50000"/>
                  <a:gd name="adj2" fmla="val 58057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8640" bIns="-86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 rot="1126200">
                <a:off x="5844960" y="1675800"/>
                <a:ext cx="176400" cy="79560"/>
              </a:xfrm>
              <a:prstGeom prst="rightArrow">
                <a:avLst>
                  <a:gd name="adj1" fmla="val 50000"/>
                  <a:gd name="adj2" fmla="val 5543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6840" bIns="-68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054440" y="3741840"/>
                <a:ext cx="13122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4440" y="5017680"/>
                <a:ext cx="1173600" cy="299520"/>
              </a:xfrm>
              <a:prstGeom prst="roundRect">
                <a:avLst>
                  <a:gd name="adj" fmla="val 16667"/>
                </a:avLst>
              </a:prstGeom>
              <a:solidFill>
                <a:srgbClr val="6666cc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000" spc="-1" strike="noStrike">
                    <a:solidFill>
                      <a:srgbClr val="000000"/>
                    </a:solidFill>
                    <a:latin typeface="Tahoma"/>
                  </a:rPr>
                  <a:t>ADDÉNDUM 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 flipH="1" rot="20292000">
                <a:off x="3090240" y="4871880"/>
                <a:ext cx="252000" cy="239400"/>
              </a:xfrm>
              <a:prstGeom prst="leftArrow">
                <a:avLst>
                  <a:gd name="adj1" fmla="val 50000"/>
                  <a:gd name="adj2" fmla="val 26316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3950280" y="4821840"/>
                <a:ext cx="1533600" cy="23436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Visación Final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2325240" y="5751000"/>
                <a:ext cx="1443240" cy="232920"/>
              </a:xfrm>
              <a:prstGeom prst="ellipse">
                <a:avLst/>
              </a:prstGeom>
              <a:noFill/>
              <a:ln w="2844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cc0000"/>
                    </a:solidFill>
                    <a:latin typeface="Tahoma"/>
                  </a:rPr>
                  <a:t>RECHAZO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 rot="19346400">
                <a:off x="3801960" y="5671440"/>
                <a:ext cx="238680" cy="140400"/>
              </a:xfrm>
              <a:prstGeom prst="leftArrow">
                <a:avLst>
                  <a:gd name="adj1" fmla="val 50000"/>
                  <a:gd name="adj2" fmla="val 42500"/>
                </a:avLst>
              </a:prstGeom>
              <a:solidFill>
                <a:srgbClr val="cc0000"/>
              </a:solidFill>
              <a:ln w="1260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3760" bIns="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 rot="16167600">
                <a:off x="4648320" y="5618880"/>
                <a:ext cx="134280" cy="27468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0033cc"/>
              </a:solidFill>
              <a:ln w="12600">
                <a:solidFill>
                  <a:srgbClr val="99cc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 anchorCtr="1" vert="eaVer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3768840" y="5885640"/>
                <a:ext cx="1986480" cy="3510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5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 rot="12768600">
                <a:off x="5514840" y="5569200"/>
                <a:ext cx="240120" cy="181080"/>
              </a:xfrm>
              <a:prstGeom prst="leftArrow">
                <a:avLst>
                  <a:gd name="adj1" fmla="val 50000"/>
                  <a:gd name="adj2" fmla="val 33151"/>
                </a:avLst>
              </a:prstGeom>
              <a:solidFill>
                <a:srgbClr val="9999ff"/>
              </a:solidFill>
              <a:ln w="12600">
                <a:solidFill>
                  <a:srgbClr val="9999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 rot="10800000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500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5755320" y="5585760"/>
                <a:ext cx="1984320" cy="351000"/>
              </a:xfrm>
              <a:prstGeom prst="ellipse">
                <a:avLst/>
              </a:prstGeom>
              <a:noFill/>
              <a:ln w="28440">
                <a:solidFill>
                  <a:srgbClr val="00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40000"/>
                  </a:lnSpc>
                  <a:spcBef>
                    <a:spcPts val="624"/>
                  </a:spcBef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009900"/>
                    </a:solidFill>
                    <a:latin typeface="Tahoma"/>
                  </a:rPr>
                  <a:t>CONDICIONADA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4626360" y="1784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971640" y="4258440"/>
                <a:ext cx="1616400" cy="521280"/>
              </a:xfrm>
              <a:prstGeom prst="roundRect">
                <a:avLst>
                  <a:gd name="adj" fmla="val 16667"/>
                </a:avLst>
              </a:prstGeom>
              <a:solidFill>
                <a:srgbClr val="dadada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SEGUNDO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INFORME CONSOLIDADO 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spcBef>
                    <a:spcPts val="499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800" spc="-1" strike="noStrike">
                    <a:solidFill>
                      <a:srgbClr val="000000"/>
                    </a:solidFill>
                    <a:latin typeface="Tahoma"/>
                  </a:rPr>
                  <a:t>DE OBSERVACIONES</a:t>
                </a:r>
                <a:endParaRPr b="0" lang="en-US" sz="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2734920" y="3173400"/>
                <a:ext cx="221400" cy="254160"/>
              </a:xfrm>
              <a:prstGeom prst="left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 rot="1476600">
                <a:off x="2990880" y="3898440"/>
                <a:ext cx="253800" cy="192960"/>
              </a:xfrm>
              <a:prstGeom prst="leftArrow">
                <a:avLst>
                  <a:gd name="adj1" fmla="val 50000"/>
                  <a:gd name="adj2" fmla="val 32882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4671360" y="5151960"/>
                <a:ext cx="89640" cy="124560"/>
              </a:xfrm>
              <a:prstGeom prst="downArrow">
                <a:avLst>
                  <a:gd name="adj1" fmla="val 50000"/>
                  <a:gd name="adj2" fmla="val 34739"/>
                </a:avLst>
              </a:pr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4649040" y="228636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4649040" y="283860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4671360" y="3623760"/>
                <a:ext cx="1364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4626360" y="4635360"/>
                <a:ext cx="134640" cy="1198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000000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3950280" y="5385240"/>
                <a:ext cx="1533600" cy="234720"/>
              </a:xfrm>
              <a:prstGeom prst="roundRect">
                <a:avLst>
                  <a:gd name="adj" fmla="val 16667"/>
                </a:avLst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01520" rIns="101520" tIns="50040" bIns="50040" anchor="ctr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857160"/>
                    <a:tab algn="l" pos="1714680"/>
                    <a:tab algn="l" pos="2571840"/>
                    <a:tab algn="l" pos="3429000"/>
                    <a:tab algn="l" pos="4286160"/>
                    <a:tab algn="l" pos="5143680"/>
                    <a:tab algn="l" pos="6000840"/>
                    <a:tab algn="l" pos="6858000"/>
                    <a:tab algn="l" pos="7715160"/>
                    <a:tab algn="l" pos="8572680"/>
                    <a:tab algn="l" pos="9429840"/>
                    <a:tab algn="l" pos="10287000"/>
                  </a:tabLst>
                </a:pPr>
                <a:r>
                  <a:rPr b="1" lang="es-ES_tradnl" sz="1200" spc="-1" strike="noStrike">
                    <a:solidFill>
                      <a:srgbClr val="000000"/>
                    </a:solidFill>
                    <a:latin typeface="Tahoma"/>
                  </a:rPr>
                  <a:t>Resolució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1649520" y="358164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1649520" y="4083480"/>
                <a:ext cx="1346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1649520" y="4826520"/>
                <a:ext cx="134640" cy="11952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649520" y="5385240"/>
                <a:ext cx="131040" cy="118080"/>
              </a:xfrm>
              <a:prstGeom prst="downArrow">
                <a:avLst>
                  <a:gd name="adj1" fmla="val 50000"/>
                  <a:gd name="adj2" fmla="val 25000"/>
                </a:avLst>
              </a:prstGeom>
              <a:solidFill>
                <a:srgbClr val="669999"/>
              </a:solidFill>
              <a:ln w="12600">
                <a:solidFill>
                  <a:srgbClr val="6699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6163920" y="204048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6163920" y="305064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101240" y="5801400"/>
              <a:ext cx="912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60 días + 3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6163920" y="4169160"/>
              <a:ext cx="912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3" name=""/>
          <p:cNvSpPr/>
          <p:nvPr/>
        </p:nvSpPr>
        <p:spPr>
          <a:xfrm>
            <a:off x="395280" y="2350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443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8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468360" y="765000"/>
            <a:ext cx="79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Procedimiento de evaluación de un Estudio de Impacto Ambient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684360" y="1407960"/>
            <a:ext cx="6982200" cy="5334120"/>
            <a:chOff x="684360" y="1407960"/>
            <a:chExt cx="6982200" cy="5334120"/>
          </a:xfrm>
        </p:grpSpPr>
        <p:grpSp>
          <p:nvGrpSpPr>
            <p:cNvPr id="176" name=""/>
            <p:cNvGrpSpPr/>
            <p:nvPr/>
          </p:nvGrpSpPr>
          <p:grpSpPr>
            <a:xfrm>
              <a:off x="883080" y="1407960"/>
              <a:ext cx="6783480" cy="5334120"/>
              <a:chOff x="883080" y="1407960"/>
              <a:chExt cx="6783480" cy="533412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7000" y="6378480"/>
                <a:ext cx="1889280" cy="363600"/>
              </a:xfrm>
              <a:prstGeom prst="ellipse">
                <a:avLst/>
              </a:prstGeom>
              <a:noFill/>
              <a:ln w="28440">
                <a:solidFill>
                  <a:srgbClr val="3333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APROBACIÓN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lnSpc>
                    <a:spcPct val="60000"/>
                  </a:lnSpc>
                  <a:tabLst>
                    <a:tab algn="l" pos="0"/>
                    <a:tab algn="l" pos="762120"/>
                    <a:tab algn="l" pos="1523880"/>
                    <a:tab algn="l" pos="2286000"/>
                    <a:tab algn="l" pos="3048120"/>
                    <a:tab algn="l" pos="3809880"/>
                    <a:tab algn="l" pos="4572000"/>
                    <a:tab algn="l" pos="5334120"/>
                    <a:tab algn="l" pos="6095880"/>
                    <a:tab algn="l" pos="6858000"/>
                    <a:tab algn="l" pos="7620120"/>
                    <a:tab algn="l" pos="8381880"/>
                    <a:tab algn="l" pos="9144000"/>
                    <a:tab algn="l" pos="9906120"/>
                    <a:tab algn="l" pos="10667880"/>
                  </a:tabLst>
                </a:pPr>
                <a:r>
                  <a:rPr b="1" lang="es-ES_tradnl" sz="1000" spc="-1" strike="noStrike">
                    <a:solidFill>
                      <a:srgbClr val="3333cc"/>
                    </a:solidFill>
                    <a:latin typeface="Tahoma"/>
                  </a:rPr>
                  <a:t>SIMPLE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883080" y="1407960"/>
                <a:ext cx="6783480" cy="5008680"/>
                <a:chOff x="883080" y="1407960"/>
                <a:chExt cx="6783480" cy="50086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6782040" y="1490760"/>
                  <a:ext cx="874080" cy="2412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NA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782040" y="1838160"/>
                  <a:ext cx="884520" cy="24156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COREM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922200" y="3841560"/>
                  <a:ext cx="1288800" cy="21132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MUNICIPALIDAD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 rot="16200000">
                  <a:off x="-92160" y="3221280"/>
                  <a:ext cx="2438280" cy="4874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PARTICIPACIÓN CIUDADAN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716640" y="2705040"/>
                  <a:ext cx="1704240" cy="384120"/>
                </a:xfrm>
                <a:prstGeom prst="roundRect">
                  <a:avLst>
                    <a:gd name="adj" fmla="val 16667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spacho de ejemplare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del EI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1748880" y="3346560"/>
                  <a:ext cx="1538280" cy="5382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PRIMER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3716640" y="4249800"/>
                  <a:ext cx="1704240" cy="769680"/>
                </a:xfrm>
                <a:custGeom>
                  <a:avLst/>
                  <a:gdLst>
                    <a:gd name="textAreaLeft" fmla="*/ 0 w 1704240"/>
                    <a:gd name="textAreaRight" fmla="*/ 1704600 w 1704240"/>
                    <a:gd name="textAreaTop" fmla="*/ 99720 h 769680"/>
                    <a:gd name="textAreaBottom" fmla="*/ 669960 h 76968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0" y="1400"/>
                      </a:moveTo>
                      <a:cubicBezTo>
                        <a:pt x="7200" y="-3560"/>
                        <a:pt x="14400" y="6360"/>
                        <a:pt x="21600" y="1400"/>
                      </a:cubicBezTo>
                      <a:lnTo>
                        <a:pt x="21600" y="20200"/>
                      </a:lnTo>
                      <a:cubicBezTo>
                        <a:pt x="14400" y="25160"/>
                        <a:pt x="7200" y="15240"/>
                        <a:pt x="0" y="20200"/>
                      </a:cubicBezTo>
                      <a:close/>
                    </a:path>
                  </a:pathLst>
                </a:cu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INFORME TECNICO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6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3588120" y="2131920"/>
                  <a:ext cx="2017440" cy="363600"/>
                </a:xfrm>
                <a:prstGeom prst="octagon">
                  <a:avLst>
                    <a:gd name="adj" fmla="val 29282"/>
                  </a:avLst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Notificación de la Resolución de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misibilidad y publicación del Extract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2900520" y="1407960"/>
                  <a:ext cx="3377880" cy="581040"/>
                </a:xfrm>
                <a:prstGeom prst="octagon">
                  <a:avLst>
                    <a:gd name="adj" fmla="val 29282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2600" rIns="102600" tIns="51480" bIns="5148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Ingreso EIA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olicitud de Autorización Provisoria (SAP) +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80000"/>
                    </a:lnSpc>
                    <a:spcBef>
                      <a:spcPts val="624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000" spc="-1" strike="noStrike">
                      <a:solidFill>
                        <a:srgbClr val="cc3300"/>
                      </a:solidFill>
                      <a:latin typeface="Tahoma"/>
                    </a:rPr>
                    <a:t>Seguro Ambiental (OPCIONAL)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 rot="21132000">
                  <a:off x="6437160" y="1595520"/>
                  <a:ext cx="167760" cy="79200"/>
                </a:xfrm>
                <a:prstGeom prst="rightArrow">
                  <a:avLst>
                    <a:gd name="adj1" fmla="val 50000"/>
                    <a:gd name="adj2" fmla="val 52955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7200" bIns="-72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 rot="1126200">
                  <a:off x="6437160" y="1837800"/>
                  <a:ext cx="167760" cy="82800"/>
                </a:xfrm>
                <a:prstGeom prst="rightArrow">
                  <a:avLst>
                    <a:gd name="adj1" fmla="val 50000"/>
                    <a:gd name="adj2" fmla="val 50652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5040" bIns="-50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1827360" y="4095720"/>
                  <a:ext cx="1247040" cy="3078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1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1913040" y="5479920"/>
                  <a:ext cx="1115640" cy="3096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1000" spc="-1" strike="noStrike">
                      <a:solidFill>
                        <a:srgbClr val="000000"/>
                      </a:solidFill>
                      <a:latin typeface="Tahoma"/>
                    </a:rPr>
                    <a:t>Addéndum 2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3888000" y="5276880"/>
                  <a:ext cx="1459440" cy="24300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Visación Final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2342520" y="6175440"/>
                  <a:ext cx="1374120" cy="241200"/>
                </a:xfrm>
                <a:prstGeom prst="ellipse">
                  <a:avLst/>
                </a:prstGeom>
                <a:noFill/>
                <a:ln w="2844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624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0099"/>
                      </a:solidFill>
                      <a:latin typeface="Tahoma"/>
                    </a:rPr>
                    <a:t>RECHAZO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 rot="19346400">
                  <a:off x="3745800" y="6092280"/>
                  <a:ext cx="227160" cy="146160"/>
                </a:xfrm>
                <a:prstGeom prst="leftArrow">
                  <a:avLst>
                    <a:gd name="adj1" fmla="val 50000"/>
                    <a:gd name="adj2" fmla="val 38855"/>
                  </a:avLst>
                </a:prstGeom>
                <a:solidFill>
                  <a:srgbClr val="cc3300"/>
                </a:solidFill>
                <a:ln w="12600">
                  <a:solidFill>
                    <a:srgbClr val="cc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26640" bIns="2664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 rot="16167600">
                  <a:off x="4546080" y="6114240"/>
                  <a:ext cx="139680" cy="26172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0033cc"/>
                </a:solidFill>
                <a:ln w="12600">
                  <a:solidFill>
                    <a:srgbClr val="99cc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anchorCtr="1" vert="eaVert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 rot="12768600">
                  <a:off x="5432400" y="5982480"/>
                  <a:ext cx="158760" cy="128520"/>
                </a:xfrm>
                <a:prstGeom prst="leftArrow">
                  <a:avLst>
                    <a:gd name="adj1" fmla="val 50000"/>
                    <a:gd name="adj2" fmla="val 30882"/>
                  </a:avLst>
                </a:prstGeom>
                <a:solidFill>
                  <a:srgbClr val="9999ff"/>
                </a:solidFill>
                <a:ln w="12600">
                  <a:solidFill>
                    <a:srgbClr val="9999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17640" bIns="17640" anchor="ctr" rot="10800000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5691600" y="5827680"/>
                  <a:ext cx="1888920" cy="533520"/>
                </a:xfrm>
                <a:prstGeom prst="ellipse">
                  <a:avLst/>
                </a:prstGeom>
                <a:noFill/>
                <a:ln w="28440">
                  <a:solidFill>
                    <a:srgbClr val="0099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7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APROBACIÓN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1" lang="es-ES_tradnl" sz="1000" spc="-1" strike="noStrike">
                      <a:solidFill>
                        <a:srgbClr val="009900"/>
                      </a:solidFill>
                      <a:latin typeface="Tahoma"/>
                    </a:rPr>
                    <a:t>CONDICIONADA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4488480" y="2004840"/>
                  <a:ext cx="172440" cy="1270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1748880" y="4629240"/>
                  <a:ext cx="1538280" cy="53964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dadada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GUNDO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INFORME CONSOLIDADO 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DE OBSERVACIONES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3888000" y="5796000"/>
                  <a:ext cx="1459440" cy="242640"/>
                </a:xfrm>
                <a:prstGeom prst="roundRect">
                  <a:avLst>
                    <a:gd name="adj" fmla="val 16667"/>
                  </a:avLst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101520" rIns="101520" tIns="50040" bIns="500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751"/>
                    </a:spcBef>
                    <a:tabLst>
                      <a:tab algn="l" pos="0"/>
                      <a:tab algn="l" pos="857160"/>
                      <a:tab algn="l" pos="1714680"/>
                      <a:tab algn="l" pos="2571840"/>
                      <a:tab algn="l" pos="3429000"/>
                      <a:tab algn="l" pos="4286160"/>
                      <a:tab algn="l" pos="5143680"/>
                      <a:tab algn="l" pos="6000840"/>
                      <a:tab algn="l" pos="6858000"/>
                      <a:tab algn="l" pos="7715160"/>
                      <a:tab algn="l" pos="8572680"/>
                      <a:tab algn="l" pos="9429840"/>
                      <a:tab algn="l" pos="10287000"/>
                    </a:tabLst>
                  </a:pPr>
                  <a:r>
                    <a:rPr b="1" lang="es-ES_tradnl" sz="1200" spc="-1" strike="noStrike">
                      <a:solidFill>
                        <a:srgbClr val="000000"/>
                      </a:solidFill>
                      <a:latin typeface="Tahoma"/>
                    </a:rPr>
                    <a:t>Resolución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4488480" y="258120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4488480" y="3095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3891240" y="3303720"/>
                  <a:ext cx="1374120" cy="320400"/>
                </a:xfrm>
                <a:prstGeom prst="roundRect">
                  <a:avLst>
                    <a:gd name="adj" fmla="val 16667"/>
                  </a:avLst>
                </a:prstGeom>
                <a:solidFill>
                  <a:srgbClr val="6666cc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80280" rIns="80280" tIns="39240" bIns="39240" anchor="ctr">
                  <a:noAutofit/>
                </a:bodyPr>
                <a:p>
                  <a:pPr algn="ctr">
                    <a:lnSpc>
                      <a:spcPct val="10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SERVICIOS QUE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lnSpc>
                      <a:spcPct val="70000"/>
                    </a:lnSpc>
                    <a:spcBef>
                      <a:spcPts val="499"/>
                    </a:spcBef>
                    <a:tabLst>
                      <a:tab algn="l" pos="0"/>
                      <a:tab algn="l" pos="660240"/>
                      <a:tab algn="l" pos="1320840"/>
                      <a:tab algn="l" pos="1981080"/>
                      <a:tab algn="l" pos="2641680"/>
                      <a:tab algn="l" pos="3301920"/>
                      <a:tab algn="l" pos="3962520"/>
                      <a:tab algn="l" pos="4622760"/>
                      <a:tab algn="l" pos="5283360"/>
                      <a:tab algn="l" pos="5943600"/>
                      <a:tab algn="l" pos="6603840"/>
                      <a:tab algn="l" pos="7264440"/>
                      <a:tab algn="l" pos="7924680"/>
                      <a:tab algn="l" pos="8585280"/>
                      <a:tab algn="l" pos="9245520"/>
                      <a:tab algn="l" pos="9906120"/>
                      <a:tab algn="l" pos="10566360"/>
                    </a:tabLst>
                  </a:pPr>
                  <a:r>
                    <a:rPr b="1" lang="es-ES_tradnl" sz="800" spc="-1" strike="noStrike">
                      <a:solidFill>
                        <a:srgbClr val="000000"/>
                      </a:solidFill>
                      <a:latin typeface="Tahoma"/>
                    </a:rPr>
                    <a:t>CONFORMAN COREMA</a:t>
                  </a:r>
                  <a:endParaRPr b="0" lang="en-US" sz="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4351680" y="3565440"/>
                  <a:ext cx="47196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762120"/>
                      <a:tab algn="l" pos="1523880"/>
                      <a:tab algn="l" pos="2286000"/>
                      <a:tab algn="l" pos="3048120"/>
                      <a:tab algn="l" pos="3809880"/>
                      <a:tab algn="l" pos="4572000"/>
                      <a:tab algn="l" pos="5334120"/>
                      <a:tab algn="l" pos="6095880"/>
                      <a:tab algn="l" pos="6858000"/>
                      <a:tab algn="l" pos="7620120"/>
                      <a:tab algn="l" pos="8381880"/>
                      <a:tab algn="l" pos="9144000"/>
                      <a:tab algn="l" pos="9906120"/>
                      <a:tab algn="l" pos="10667880"/>
                    </a:tabLst>
                  </a:pPr>
                  <a:r>
                    <a:rPr b="0" lang="es-ES_tradnl" sz="2000" spc="-1" strike="noStrike">
                      <a:solidFill>
                        <a:srgbClr val="000000"/>
                      </a:solidFill>
                      <a:latin typeface="Tahoma"/>
                    </a:rPr>
                    <a:t>+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3694680" y="3303720"/>
                  <a:ext cx="141840" cy="706320"/>
                </a:xfrm>
                <a:custGeom>
                  <a:avLst/>
                  <a:gdLst>
                    <a:gd name="textAreaLeft" fmla="*/ 90720 w 141840"/>
                    <a:gd name="textAreaRight" fmla="*/ 141840 w 141840"/>
                    <a:gd name="textAreaTop" fmla="*/ 18360 h 706320"/>
                    <a:gd name="textAreaBottom" fmla="*/ 687960 h 706320"/>
                  </a:gdLst>
                  <a:ahLst/>
                  <a:rect l="textAreaLeft" t="textAreaTop" r="textAreaRight" b="textAreaBottom"/>
                  <a:pathLst>
                    <a:path w="21600" h="21600">
                      <a:moveTo>
                        <a:pt x="21600" y="0"/>
                      </a:moveTo>
                      <a:cubicBezTo>
                        <a:pt x="16200" y="0"/>
                        <a:pt x="10800" y="900"/>
                        <a:pt x="10800" y="1800"/>
                      </a:cubicBezTo>
                      <a:lnTo>
                        <a:pt x="10800" y="9000"/>
                      </a:lnTo>
                      <a:cubicBezTo>
                        <a:pt x="10800" y="9900"/>
                        <a:pt x="5400" y="10800"/>
                        <a:pt x="0" y="10800"/>
                      </a:cubicBezTo>
                      <a:cubicBezTo>
                        <a:pt x="5400" y="10800"/>
                        <a:pt x="10800" y="11700"/>
                        <a:pt x="10800" y="12600"/>
                      </a:cubicBezTo>
                      <a:lnTo>
                        <a:pt x="10800" y="19800"/>
                      </a:lnTo>
                      <a:cubicBezTo>
                        <a:pt x="10800" y="20700"/>
                        <a:pt x="16200" y="21600"/>
                        <a:pt x="21600" y="21600"/>
                      </a:cubicBezTo>
                    </a:path>
                  </a:pathLst>
                </a:custGeom>
                <a:noFill/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2385360" y="392904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2385360" y="4448160"/>
                  <a:ext cx="128160" cy="12240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2385360" y="5218200"/>
                  <a:ext cx="128160" cy="1220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2385360" y="5859360"/>
                  <a:ext cx="128160" cy="12384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 flipH="1" rot="1476600">
                  <a:off x="3286080" y="4371840"/>
                  <a:ext cx="241200" cy="198720"/>
                </a:xfrm>
                <a:prstGeom prst="leftArrow">
                  <a:avLst>
                    <a:gd name="adj1" fmla="val 50000"/>
                    <a:gd name="adj2" fmla="val 30344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 flipH="1" rot="20292000">
                  <a:off x="3387960" y="5349600"/>
                  <a:ext cx="241200" cy="247680"/>
                </a:xfrm>
                <a:prstGeom prst="leftArrow">
                  <a:avLst>
                    <a:gd name="adj1" fmla="val 50000"/>
                    <a:gd name="adj2" fmla="val 25000"/>
                  </a:avLst>
                </a:prstGeom>
                <a:solidFill>
                  <a:srgbClr val="669999"/>
                </a:solidFill>
                <a:ln w="12600">
                  <a:solidFill>
                    <a:srgbClr val="66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4485240" y="5089320"/>
                  <a:ext cx="172440" cy="12888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488480" y="5597640"/>
                  <a:ext cx="172440" cy="128520"/>
                </a:xfrm>
                <a:prstGeom prst="downArrow">
                  <a:avLst>
                    <a:gd name="adj1" fmla="val 50000"/>
                    <a:gd name="adj2" fmla="val 25000"/>
                  </a:avLst>
                </a:prstGeom>
                <a:solidFill>
                  <a:srgbClr val="000000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14" name=""/>
            <p:cNvSpPr/>
            <p:nvPr/>
          </p:nvSpPr>
          <p:spPr>
            <a:xfrm>
              <a:off x="6188760" y="224640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5449320" y="357192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30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531040" y="4714920"/>
              <a:ext cx="903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5613480" y="5294160"/>
              <a:ext cx="903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5 día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84360" y="6238800"/>
              <a:ext cx="903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DIN-Regular"/>
                </a:rPr>
                <a:t>120 días + 60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9" name=""/>
          <p:cNvSpPr/>
          <p:nvPr/>
        </p:nvSpPr>
        <p:spPr>
          <a:xfrm>
            <a:off x="395280" y="26028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398520" y="1538280"/>
            <a:ext cx="6761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MODIFICACIONES PROPUESTAS AL REGLAMENTO DEL SE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09480" y="2057400"/>
            <a:ext cx="79250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los plazos: se disminuye hasta en un 15%  los tiempos en tramitación para los proyectos de invers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Modificaciones en torno a las Normas Referenciales para evaluar calidad ambiental: no se restringe solo a las normas referenciales de la Confederación Suiza, sino que se admiten más posibilidad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Se evita el ingreso de algunos proyectos menores que, en el antiguo reglamento, requerían ingreso al SEI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000000"/>
                </a:solidFill>
                <a:latin typeface="DIN-Regular"/>
              </a:rPr>
              <a:t>Otras modificacion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95280" y="469800"/>
            <a:ext cx="777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Sistema de Evaluación de Impacto Ambiental (SEI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8" dur="500"/>
                                        <p:tgtEl>
                                          <p:spTgt spid="2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3" dur="5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8" dur="5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3" dur="5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88" dur="5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430200" y="331920"/>
            <a:ext cx="8174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  <a:ea typeface="Arial"/>
              </a:rPr>
              <a:t>Tramitación y aplicación de la Resolución de Calificación Ambiental (RC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85800" y="1600200"/>
            <a:ext cx="7696080" cy="450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probado un EIA, se emite un pronunciamiento por parte de la COREMA que se denomina Resolución de Calificación Ambiental (RCA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Esta puede emitirse favorablemente, favorable con condicionamientos o bien, en rechazo al proyecto o actividad evalua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La RCA es un acto administrativo con validez legal, y representa la forma en que se autoriza ambientalmente un proyecto o activida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Como tal, es un documento auditable (base para ejercer o aplicar auditorías o verificación de cumplimiento de los planes de gestión ambienta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Pasa a constituir un aspecto legal al que se debe dar cumpli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95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00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609480" y="1341360"/>
            <a:ext cx="7925040" cy="475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EVEN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GRADUA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ALISM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TAMINADOR PAGAD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TIV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DIN-Regular"/>
              </a:rPr>
              <a:t>ASPECTOS GENERALES DE LA LEY 19.3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Promulgada en 1994, para dar cumplimiento a la garantía constitucional contenida en el Artículo 19 número 8º, que asegura a todas las personas el derecho a vivir en un ambiente libre de contaminac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 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La Ley sobre Bases Generales del Medio Ambiente, dota de contenido sustantivo y concreto a la garantía antes citada, señalando que este derecho se regulará por sus disposiciones, “</a:t>
            </a:r>
            <a:r>
              <a:rPr b="1" i="1" lang="es-ES" sz="1600" spc="-1" strike="noStrike">
                <a:solidFill>
                  <a:srgbClr val="000000"/>
                </a:solidFill>
                <a:latin typeface="DIN-Regular"/>
              </a:rPr>
              <a:t>sin perjuicio de lo que otras normas legales establezcan sobre la materia</a:t>
            </a:r>
            <a:r>
              <a:rPr b="1" lang="es-ES" sz="1600" spc="-1" strike="noStrike">
                <a:solidFill>
                  <a:srgbClr val="000000"/>
                </a:solidFill>
                <a:latin typeface="DIN-Regular"/>
              </a:rPr>
              <a:t>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55640" y="476280"/>
            <a:ext cx="720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INCIPIOS DE LA POLÍTICA AMBIENT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9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9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9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3892680"/>
            <a:ext cx="77724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stema de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 Ciudadana en el SEI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Calidad Ambiental, Conservación de la Naturaleza y del Patrimoni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Normas de Emis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lanes de Manejo, Prevención y Descontamin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6240" y="3494160"/>
            <a:ext cx="7607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DIN-Regular"/>
              </a:rPr>
              <a:t>INSTRUMENTOS DE GESTIÓN AMBIENTAL CONTENIDOS EN LA L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549360"/>
            <a:ext cx="684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CONTENIDOS DE LA LEY 19300 de BG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48428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ones (Disposiciones genera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Instrumentos de gest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sponsabilidad por dañ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iscaliza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ondo de protec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 Comisión Nacional del Medio Ambi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85800" y="1773360"/>
            <a:ext cx="7772400" cy="44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ducación e Investig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deficiencias en la falta de efectividad y financiamiento específic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s de excención tributaria para donaciones con fines ambiental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mpliar el Fondo de Protección Ambiental a objetivos de educación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ormas de Calidad y  Normas de Emis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detectan dos grandes problemas, referidos a rigidez en el procedimiento de dictación de normas y dispersión de la potestad normativa en materias ambientales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de normas: evaluación técnica y revisión cada 5 años; Consejo Directivo decidirá sobre pertinencia de proceso de revisió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ceso de generación de normas: uniformar proceso de generación; se encomendará al reglamento (con participación de organismos técnicos); fijación de parámetros de definición; revisión del procedimiento establecid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articipación: se consagrará la PC en el proceso; mecanismos para estimular y garantizar participación y calidad técnic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468360" y="134784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Áreas Silvestres Protegidas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vigencia suspendida de ley SNASPE, necesidad de incorporación de áreas marinas y sistema de áreas privadas. La idea es hacer más operativos estos instrumentos media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Facultad del Director Ejecutivo de CONAMA de afectar y desafectar área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misión a un reglamento para establecer procedimiento anteri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Alternativas para regular regimen tributario de ASPP en la ley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finición de autoridad competente para tutela y fiscalización de las ASP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Prevención y Descontamin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identifican falencias en fiscalización y en la falta de regulación que ponga término a zonas de latencia o saturación. Por lo tanto, se proponen las siguientes modificacion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l proceimiento a seguir en caso de disminuir los niveles de contaminación que justificaron declrar una zona como saturada o latent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transición desde saturación a latencia, para ajustar planes adecuado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Designación de autoridad encargada de supervigilar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nsagración legal de la PC en proceso de estudio y elaboración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gulación de las obligaciones de los titulares de proyectos, para que cuenten con medios técnicos que garanticen cumplimiento de plan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685800" y="1268280"/>
            <a:ext cx="7772400" cy="51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Nuevos Instrumentos de Gestión Ambiental: 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Uno de los propósitos de las modificaciones a la LBM, es el perfeccionamiento de los instrumentos de gestión ambiental existentes. Sin embargo, avalados en la experiencia internacional, la existencia de aspectos ambientales actualmente no cubiertos, , entre otros, se proponen exepcionalmente los siguientes nuevos instrumento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Evaluación Ambiental Estratégica (EAE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ensado para programas, planes y políticas, instrumentos de planificación territorial,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Sistema de verificación de cumplimiento de la normativa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ara cubrir las insuficiencias actuales en fiscalización. Se basará, entre otras cosas, en verificación por parte de organismos externos (debidamente acreditados y registrados), certificación ambiental de proyecto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Registro de emisiones contaminant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información ambiental catastrada y sistematiza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lanes de recuperación o remediación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tendrá por objeto reponer la calidad o reestablecer las propiedades de variables a las que no es posible aplicar la declaración de zonas saturadas o latent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Gestión ambiental integrada de cuencas hidrográfica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definiendo el marco para integración con instrumentos de política pública, entre otr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egulación (acuerdos voluntarios)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scatando experiencia internacional y actual, entre otros aspect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9640" y="476280"/>
            <a:ext cx="698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(generale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3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468360" y="1289160"/>
            <a:ext cx="7924680" cy="48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IA: Instrumento exitoso en su aplicación , con problemas en aspectos de gestión y de coordinación. Los criterios con los cuales se proponen las modificaciones en la ley, en lo referido al SEIA, son los siguien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erfeccionar y no menoscabar 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implificar el procedimiento y mejorar la eficiencia del instrument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Corregir desviaciones, vacíos e imperfecciones de la normativa vigen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Excluir aspectos abordados en la ley de Beses de los Procedimientos Administrativos (plazos de tramitaciones de los EI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propuestas de modificación son las que se indican a continuación, para cada tópico correspondien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que deben ingresar al SE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se mantiene listado pero se acotan magnitudes, de modo de excluir actividades o proyectos que no son susceptibles de causar impacto ambiental; los planes reguladores se excluirán del SEIA, entendiendo que se evaluarán a través de otro instrumento (EAE); Permisos de construcción de proyectos condicionados a permiso ambiental; Excepciones (proyectos de emergencia)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yectos en ejecución o ejecutado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gular situación de proyectos no ingresados al SEIA; sanciones; alzamiento de sanciones (clausuras) contra presentación de EIA o D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1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0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0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0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0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395280" y="126828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ierre o abandono de proyectos y actividad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no existe regulación clara en la ley (se incorpora explícitamiente); definición de bases y conceptos mínimos aplicables al cierre y abandono de proyectos y actividades; se requiere de cuerpo legal más amplio que el propio de la ley 19.300, por lo que se encomendará ley especial; en esta ley se indicarán procedimientos y mecanismos para planes contemplados en EIAs o DI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Procedimiento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perfeccionarán las normas en que se sustenta el mecanismo de “</a:t>
            </a: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entanilla únic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”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os permisos ambientales serán otorgados automáticamente con la RCA favorab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Revisión del actual listado de permisos ambientales y del propio concepto de “permiso ambiental”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exigirá al titular de un proyecto, presentar junto con la DIA o EIA la totalidad de antecedentes exigidos por la normativa vigente. Por lo tanto, mientras se efectúa la evaluación ambiental, los organismos sectoriales analizarán los requisitos de los permiso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aspira a que junto con la RCA se entreguen materialmente los permisos, o al menos, que sean entregados en plazos brev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468360" y="1341360"/>
            <a:ext cx="792468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Consultores ambientales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reconocimiento de la función profesional prestada. Propuesta de acreditación de organismos externos certificadores 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Autorización provisoria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plazos, regulación del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Declaración de Impacto Ambiental</a:t>
            </a: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: En el actual sistema, se han convertido en EIA de menor tamaño. Se propon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odificar procedimiento de aprobación de éstas , mediante creación de procedimiento específico (sistema expedito de aprobación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Proyectos sin normativa aplicable, se simplificarán trámites y etapas propias de un EI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incorporará norma que regule silencio administrativo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DIN-Regular"/>
              </a:rPr>
              <a:t>Valor del informe técnico en la evaluación de impacto ambien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Se consagrará en la ley el valor del informe técnico definitivo emitido por los organismos sectoriale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Las resoluciones de las COREMAs deberán fundarse en éstos y, en caso contrario, las decisiones deberán ser fundada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DIN-Regular"/>
              </a:rPr>
              <a:t>Mecanismo que resguarde el respeto de aquellas conclusiones o parámetros técnicos sustentados en normas vigente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buClr>
                <a:srgbClr val="ff0000"/>
              </a:buClr>
              <a:buFont typeface="DIN-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9360" y="549360"/>
            <a:ext cx="683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DIN-Regular"/>
              </a:rPr>
              <a:t>MODIFICACIONES PROPUESTAS AL SE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3" dur="5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6" dur="5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9" dur="5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2" dur="500"/>
                                        <p:tgtEl>
                                          <p:spTgt spid="11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7" dur="500"/>
                                        <p:tgtEl>
                                          <p:spTgt spid="11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11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3" dur="500"/>
                                        <p:tgtEl>
                                          <p:spTgt spid="11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500"/>
                                        <p:tgtEl>
                                          <p:spTgt spid="11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5T19:35:35Z</dcterms:created>
  <dc:creator>EALISTE</dc:creator>
  <dc:description/>
  <dc:language>en-US</dc:language>
  <cp:lastModifiedBy>.</cp:lastModifiedBy>
  <dcterms:modified xsi:type="dcterms:W3CDTF">2006-03-16T22:54:13Z</dcterms:modified>
  <cp:revision>124</cp:revision>
  <dc:subject/>
  <dc:title>Presentación de PowerPoint</dc:title>
</cp:coreProperties>
</file>