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8F3-D176-46D9-A3DF-508EFA05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C4C-013F-4101-B3B2-85B0B6CF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36B-3194-4406-8031-D31C51F8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0EA-AA20-4D1A-8F86-CD26FCE1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D6C7-E5AF-4B53-844D-E426BAE0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F2FF-DD52-42D4-AF48-C82B72CD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B002-2A01-424F-A8A5-75A05744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731E-DEAD-44B4-82F6-2FC3A478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A88F-5355-426B-BD0F-EDA09DBF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665C-BDCE-4D58-B1F8-FD8815F4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CBD9-863D-4C90-8C46-E22641D9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56F-B1B7-4674-9D1D-57AE5CDA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3F95-59E2-4F7D-8808-61EC7994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8D9E-7130-430C-961A-8CC2A72D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726D-23C4-4EBA-BF86-BE2D9E8B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ED43-B65C-40AA-92D7-5E8CA386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297D-9F6C-4870-BB88-E7B0B93A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EC8-17B8-43B0-819D-9B8919CD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6A0-240D-4AF6-89C4-14DB18F7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067-A466-4841-9ABD-B19FADFE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257-46E8-4B2B-BCFD-4CB40D90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9FA-405C-4430-80E2-DC5F93F7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781-EBD0-4528-9ECB-06A7BC1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C10-68F3-468A-8449-ABF74E35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EC5F-9884-4982-BECB-2F80B2FED9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5BB7-3974-487B-ACD8-FBC014C4F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/Cursos%20&amp;%20Charlas/Curso%20Riles/art-11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110040" y="4940280"/>
            <a:ext cx="3146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DIN-Medium"/>
              </a:rPr>
              <a:t>Prof. Enrique Aliste Alm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Departamento de Geograf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6200" y="189000"/>
            <a:ext cx="5905440" cy="1076040"/>
            <a:chOff x="106200" y="189000"/>
            <a:chExt cx="5905440" cy="10760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06200" y="189000"/>
              <a:ext cx="62208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65440" y="264960"/>
              <a:ext cx="514620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NIVERSIDAD DE CHIL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Escuela de Geograf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4360" y="2171880"/>
            <a:ext cx="7848360" cy="19047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6666cc"/>
                </a:solidFill>
                <a:latin typeface="Tahoma"/>
              </a:rPr>
              <a:t>Curso Electivo de Geografía Humana</a:t>
            </a:r>
            <a:br>
              <a:rPr sz="4600"/>
            </a:br>
            <a:r>
              <a:rPr b="0" lang="es-ES_tradnl" sz="4600" spc="-1" strike="noStrike">
                <a:solidFill>
                  <a:srgbClr val="6666cc"/>
                </a:solidFill>
                <a:latin typeface="Tahoma"/>
              </a:rPr>
              <a:t>INSTRUMENTOS DE GESTIÓN AMBIENTA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igencia de la Resolución de Impacto Ambiental.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indefinida de las RCA genera distorciones y dificultades para la evaluación posterior de otros proyectos (variaciones en componentes ambientales y en las LB). Por ello se incorporará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zo de vigencia de la RCA (caducidad de ésta y de permisos ambient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rangos de vigencia para las RCA según proyectos (no serán plazos únicos ni idénticos), dependiendo de su naturale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odrán revisarse y actualizarse plazos de las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 procedimiento para aplicación de caducidad de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 la necesidad de perfeccionar el mecanismo de PC dentro del SEIA (plazos e instancias de participación y derecho a reclamo). Las modificaciones propuestas van en la siguiente líne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temprana, previa al ingreso al SEIA (etapa de diseñ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condiciones y requisitos de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C en todo el proceso de evaluación, extendiéndose a las ade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causales que autorizan recl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Homologación de procedimientos de recl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corporación de audiencias públicas  como función permanente de las COR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66560" y="1125360"/>
            <a:ext cx="7634520" cy="5547960"/>
            <a:chOff x="466560" y="1125360"/>
            <a:chExt cx="7634520" cy="554796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0" t="0" r="0" b="10002"/>
            <a:stretch/>
          </p:blipFill>
          <p:spPr>
            <a:xfrm>
              <a:off x="466560" y="1125360"/>
              <a:ext cx="7634520" cy="55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93320" y="1125360"/>
              <a:ext cx="2498400" cy="64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1443600"/>
              <a:ext cx="284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33520" y="26028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Institucionalidad de la Comisión Nacional del 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581360"/>
            <a:ext cx="79898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DS 30/97, modificado por DS 95/02, MINSEGPRES, Establece Reglamento del Sistema de Evalu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Se refiere a la manera de llevar adelante el procedimiento de Evaluación de Impacto Ambiental de proyectos y actividades, conforme con los principios establecidos en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9480" y="1600200"/>
            <a:ext cx="8000640" cy="2819160"/>
            <a:chOff x="609480" y="1600200"/>
            <a:chExt cx="8000640" cy="2819160"/>
          </a:xfrm>
        </p:grpSpPr>
        <p:grpSp>
          <p:nvGrpSpPr>
            <p:cNvPr id="123" name=""/>
            <p:cNvGrpSpPr/>
            <p:nvPr/>
          </p:nvGrpSpPr>
          <p:grpSpPr>
            <a:xfrm>
              <a:off x="609480" y="1600200"/>
              <a:ext cx="8000640" cy="2819160"/>
              <a:chOff x="609480" y="1600200"/>
              <a:chExt cx="8000640" cy="2819160"/>
            </a:xfrm>
          </p:grpSpPr>
          <p:sp>
            <p:nvSpPr>
              <p:cNvPr id="124" name=""/>
              <p:cNvSpPr/>
              <p:nvPr/>
            </p:nvSpPr>
            <p:spPr>
              <a:xfrm>
                <a:off x="609480" y="1600200"/>
                <a:ext cx="1906920" cy="88668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LEY Nº19.3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27520" y="2344320"/>
                <a:ext cx="1420200" cy="48276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Art.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26920" y="1953720"/>
                <a:ext cx="232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Ingreso SE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2360" y="2899440"/>
                <a:ext cx="2687040" cy="69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2661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umple 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6440" y="2830320"/>
                <a:ext cx="75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E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360" y="3728880"/>
                <a:ext cx="2687040" cy="69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3247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N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aplican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713000" y="3658320"/>
                <a:ext cx="89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D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>
              <a:hlinkClick r:id="rId1"/>
            </p:cNvPr>
            <p:cNvSpPr/>
            <p:nvPr/>
          </p:nvSpPr>
          <p:spPr>
            <a:xfrm>
              <a:off x="5638680" y="3276720"/>
              <a:ext cx="609840" cy="228600"/>
            </a:xfrm>
            <a:custGeom>
              <a:avLst/>
              <a:gdLst>
                <a:gd name="textAreaLeft" fmla="*/ 14760 w 609840"/>
                <a:gd name="textAreaRight" fmla="*/ 595080 w 60984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57566" h="21600">
                  <a:moveTo>
                    <a:pt x="0" y="0"/>
                  </a:moveTo>
                  <a:lnTo>
                    <a:pt x="57566" y="0"/>
                  </a:lnTo>
                  <a:lnTo>
                    <a:pt x="57566" y="21600"/>
                  </a:lnTo>
                  <a:lnTo>
                    <a:pt x="0" y="21600"/>
                  </a:lnTo>
                  <a:close/>
                </a:path>
                <a:path fill="lightenLess" w="57566" h="21600">
                  <a:moveTo>
                    <a:pt x="0" y="0"/>
                  </a:moveTo>
                  <a:lnTo>
                    <a:pt x="57566" y="0"/>
                  </a:lnTo>
                  <a:lnTo>
                    <a:pt x="56166" y="1400"/>
                  </a:lnTo>
                  <a:lnTo>
                    <a:pt x="1400" y="1400"/>
                  </a:lnTo>
                  <a:close/>
                </a:path>
                <a:path fill="darken" w="57566" h="21600">
                  <a:moveTo>
                    <a:pt x="57566" y="0"/>
                  </a:moveTo>
                  <a:lnTo>
                    <a:pt x="57566" y="21600"/>
                  </a:lnTo>
                  <a:lnTo>
                    <a:pt x="56166" y="20200"/>
                  </a:lnTo>
                  <a:lnTo>
                    <a:pt x="56166" y="1400"/>
                  </a:lnTo>
                  <a:close/>
                </a:path>
                <a:path fill="darkenLess" w="57566" h="21600">
                  <a:moveTo>
                    <a:pt x="575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166" y="20200"/>
                  </a:lnTo>
                  <a:close/>
                </a:path>
                <a:path fill="lighten" w="575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7566" h="21600">
                  <a:moveTo>
                    <a:pt x="21777" y="3794"/>
                  </a:moveTo>
                  <a:lnTo>
                    <a:pt x="35790" y="10800"/>
                  </a:lnTo>
                  <a:lnTo>
                    <a:pt x="21777" y="1780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765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a Declar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71640" y="1341360"/>
            <a:ext cx="6768000" cy="4919040"/>
            <a:chOff x="971640" y="1341360"/>
            <a:chExt cx="6768000" cy="4919040"/>
          </a:xfrm>
        </p:grpSpPr>
        <p:grpSp>
          <p:nvGrpSpPr>
            <p:cNvPr id="134" name=""/>
            <p:cNvGrpSpPr/>
            <p:nvPr/>
          </p:nvGrpSpPr>
          <p:grpSpPr>
            <a:xfrm>
              <a:off x="971640" y="1341360"/>
              <a:ext cx="6768000" cy="4895280"/>
              <a:chOff x="971640" y="1341360"/>
              <a:chExt cx="6768000" cy="4895280"/>
            </a:xfrm>
          </p:grpSpPr>
          <p:sp>
            <p:nvSpPr>
              <p:cNvPr id="135" name=""/>
              <p:cNvSpPr/>
              <p:nvPr/>
            </p:nvSpPr>
            <p:spPr>
              <a:xfrm>
                <a:off x="6206760" y="13413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NA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06760" y="16761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RE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68840" y="2466000"/>
                <a:ext cx="1792800" cy="3726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spacho de ejempl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 la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1640" y="3020040"/>
                <a:ext cx="1616400" cy="5194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PRIM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59200" y="3767760"/>
                <a:ext cx="1714680" cy="74448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96480 h 744480"/>
                  <a:gd name="textAreaBottom" fmla="*/ 648000 h 74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Informe Técn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7760" y="3081240"/>
                <a:ext cx="3338640" cy="4384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forme de los Órganos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Administración del Est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6000" y="1904400"/>
                <a:ext cx="2119320" cy="351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Notificación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Resolución de Admisi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39320" y="1388160"/>
                <a:ext cx="1924200" cy="33480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greso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132000">
                <a:off x="5845320" y="1441080"/>
                <a:ext cx="176400" cy="75960"/>
              </a:xfrm>
              <a:prstGeom prst="rightArrow">
                <a:avLst>
                  <a:gd name="adj1" fmla="val 50000"/>
                  <a:gd name="adj2" fmla="val 5805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126200">
                <a:off x="5844960" y="1675800"/>
                <a:ext cx="176400" cy="79560"/>
              </a:xfrm>
              <a:prstGeom prst="rightArrow">
                <a:avLst>
                  <a:gd name="adj1" fmla="val 50000"/>
                  <a:gd name="adj2" fmla="val 5543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54440" y="3741840"/>
                <a:ext cx="13122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4440" y="5017680"/>
                <a:ext cx="11736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20292000">
                <a:off x="3090240" y="4871880"/>
                <a:ext cx="252000" cy="239400"/>
              </a:xfrm>
              <a:prstGeom prst="leftArrow">
                <a:avLst>
                  <a:gd name="adj1" fmla="val 50000"/>
                  <a:gd name="adj2" fmla="val 26316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0280" y="4821840"/>
                <a:ext cx="1533600" cy="2343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Visación 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5240" y="5751000"/>
                <a:ext cx="1443240" cy="23292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cc0000"/>
                    </a:solidFill>
                    <a:latin typeface="Tahoma"/>
                  </a:rPr>
                  <a:t>RECHAZ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346400">
                <a:off x="3801960" y="5671440"/>
                <a:ext cx="238680" cy="140400"/>
              </a:xfrm>
              <a:prstGeom prst="leftArrow">
                <a:avLst>
                  <a:gd name="adj1" fmla="val 50000"/>
                  <a:gd name="adj2" fmla="val 42500"/>
                </a:avLst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167600">
                <a:off x="4648320" y="5618880"/>
                <a:ext cx="134280" cy="2746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0033cc"/>
              </a:solidFill>
              <a:ln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8840" y="5885640"/>
                <a:ext cx="1986480" cy="3510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2768600">
                <a:off x="5514840" y="5569200"/>
                <a:ext cx="240120" cy="181080"/>
              </a:xfrm>
              <a:prstGeom prst="leftArrow">
                <a:avLst>
                  <a:gd name="adj1" fmla="val 50000"/>
                  <a:gd name="adj2" fmla="val 33151"/>
                </a:avLst>
              </a:prstGeom>
              <a:solidFill>
                <a:srgbClr val="9999ff"/>
              </a:solidFill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5320" y="5585760"/>
                <a:ext cx="1984320" cy="35100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CONDICIONA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26360" y="1784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1640" y="4258440"/>
                <a:ext cx="1616400" cy="5212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SEGUND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34920" y="3173400"/>
                <a:ext cx="221400" cy="254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476600">
                <a:off x="2990880" y="3898440"/>
                <a:ext cx="253800" cy="192960"/>
              </a:xfrm>
              <a:prstGeom prst="leftArrow">
                <a:avLst>
                  <a:gd name="adj1" fmla="val 50000"/>
                  <a:gd name="adj2" fmla="val 32882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71360" y="5151960"/>
                <a:ext cx="89640" cy="124560"/>
              </a:xfrm>
              <a:prstGeom prst="downArrow">
                <a:avLst>
                  <a:gd name="adj1" fmla="val 50000"/>
                  <a:gd name="adj2" fmla="val 3473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49040" y="228636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9040" y="283860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71360" y="3623760"/>
                <a:ext cx="1364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26360" y="4635360"/>
                <a:ext cx="134640" cy="119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0280" y="5385240"/>
                <a:ext cx="1533600" cy="234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Resolu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49520" y="358164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49520" y="408348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49520" y="4826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49520" y="5385240"/>
                <a:ext cx="1310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163920" y="204048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63920" y="305064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1240" y="580140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60 días +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63920" y="416916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5280" y="2350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765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 Estudio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4360" y="1407960"/>
            <a:ext cx="6982200" cy="5334120"/>
            <a:chOff x="684360" y="1407960"/>
            <a:chExt cx="6982200" cy="5334120"/>
          </a:xfrm>
        </p:grpSpPr>
        <p:grpSp>
          <p:nvGrpSpPr>
            <p:cNvPr id="176" name=""/>
            <p:cNvGrpSpPr/>
            <p:nvPr/>
          </p:nvGrpSpPr>
          <p:grpSpPr>
            <a:xfrm>
              <a:off x="883080" y="1407960"/>
              <a:ext cx="6783480" cy="5334120"/>
              <a:chOff x="883080" y="1407960"/>
              <a:chExt cx="6783480" cy="533412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7000" y="6378480"/>
                <a:ext cx="1889280" cy="3636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883080" y="1407960"/>
                <a:ext cx="6783480" cy="5008680"/>
                <a:chOff x="883080" y="1407960"/>
                <a:chExt cx="6783480" cy="5008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782040" y="1490760"/>
                  <a:ext cx="874080" cy="2412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N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782040" y="1838160"/>
                  <a:ext cx="884520" cy="24156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22200" y="3841560"/>
                  <a:ext cx="1288800" cy="21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MUNICIPALIDAD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6200000">
                  <a:off x="-92160" y="3221280"/>
                  <a:ext cx="2438280" cy="48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PARTICIPACIÓN CIUDAD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16640" y="2705040"/>
                  <a:ext cx="1704240" cy="384120"/>
                </a:xfrm>
                <a:prstGeom prst="roundRect">
                  <a:avLst>
                    <a:gd name="adj" fmla="val 1666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spacho de ejemplar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l E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48880" y="3346560"/>
                  <a:ext cx="1538280" cy="53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PRIMER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716640" y="4249800"/>
                  <a:ext cx="1704240" cy="769680"/>
                </a:xfrm>
                <a:custGeom>
                  <a:avLst/>
                  <a:gdLst>
                    <a:gd name="textAreaLeft" fmla="*/ 0 w 1704240"/>
                    <a:gd name="textAreaRight" fmla="*/ 1704600 w 1704240"/>
                    <a:gd name="textAreaTop" fmla="*/ 99720 h 769680"/>
                    <a:gd name="textAreaBottom" fmla="*/ 669960 h 769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INFORME TECN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88120" y="2131920"/>
                  <a:ext cx="2017440" cy="3636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Notificación de la Resolució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misibilidad y publicación del Extrac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900520" y="1407960"/>
                  <a:ext cx="3377880" cy="581040"/>
                </a:xfrm>
                <a:prstGeom prst="octagon">
                  <a:avLst>
                    <a:gd name="adj" fmla="val 29282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Ingreso EIA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olicitud de Autorización Provisoria (SAP)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eguro Ambiental (OPCIONA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21132000">
                  <a:off x="6437160" y="1595520"/>
                  <a:ext cx="167760" cy="79200"/>
                </a:xfrm>
                <a:prstGeom prst="rightArrow">
                  <a:avLst>
                    <a:gd name="adj1" fmla="val 50000"/>
                    <a:gd name="adj2" fmla="val 52955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126200">
                  <a:off x="6437160" y="1837800"/>
                  <a:ext cx="167760" cy="82800"/>
                </a:xfrm>
                <a:prstGeom prst="rightArrow">
                  <a:avLst>
                    <a:gd name="adj1" fmla="val 50000"/>
                    <a:gd name="adj2" fmla="val 50652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27360" y="4095720"/>
                  <a:ext cx="1247040" cy="307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3040" y="5479920"/>
                  <a:ext cx="1115640" cy="30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888000" y="5276880"/>
                  <a:ext cx="1459440" cy="2430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Visación 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342520" y="6175440"/>
                  <a:ext cx="1374120" cy="241200"/>
                </a:xfrm>
                <a:prstGeom prst="ellipse">
                  <a:avLst/>
                </a:prstGeom>
                <a:noFill/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0099"/>
                      </a:solidFill>
                      <a:latin typeface="Tahoma"/>
                    </a:rPr>
                    <a:t>RECHAZ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9346400">
                  <a:off x="3745800" y="6092280"/>
                  <a:ext cx="227160" cy="146160"/>
                </a:xfrm>
                <a:prstGeom prst="leftArrow">
                  <a:avLst>
                    <a:gd name="adj1" fmla="val 50000"/>
                    <a:gd name="adj2" fmla="val 38855"/>
                  </a:avLst>
                </a:prstGeom>
                <a:solidFill>
                  <a:srgbClr val="cc3300"/>
                </a:solidFill>
                <a:ln w="1260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6167600">
                  <a:off x="4546080" y="6114240"/>
                  <a:ext cx="139680" cy="26172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0033cc"/>
                </a:solidFill>
                <a:ln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2768600">
                  <a:off x="5432400" y="5982480"/>
                  <a:ext cx="158760" cy="128520"/>
                </a:xfrm>
                <a:prstGeom prst="leftArrow">
                  <a:avLst>
                    <a:gd name="adj1" fmla="val 50000"/>
                    <a:gd name="adj2" fmla="val 30882"/>
                  </a:avLst>
                </a:prstGeom>
                <a:solidFill>
                  <a:srgbClr val="9999ff"/>
                </a:solidFill>
                <a:ln w="1260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91600" y="5827680"/>
                  <a:ext cx="1888920" cy="533520"/>
                </a:xfrm>
                <a:prstGeom prst="ellipse">
                  <a:avLst/>
                </a:prstGeom>
                <a:noFill/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APROB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CONDICIONAD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88480" y="2004840"/>
                  <a:ext cx="172440" cy="1270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748880" y="4629240"/>
                  <a:ext cx="1538280" cy="53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GUND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888000" y="5796000"/>
                  <a:ext cx="1459440" cy="24264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Re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488480" y="258120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8480" y="3095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91240" y="3303720"/>
                  <a:ext cx="1374120" cy="320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RVICIOS QU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CONFORMAN COREM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51680" y="3565440"/>
                  <a:ext cx="47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694680" y="3303720"/>
                  <a:ext cx="141840" cy="706320"/>
                </a:xfrm>
                <a:custGeom>
                  <a:avLst/>
                  <a:gdLst>
                    <a:gd name="textAreaLeft" fmla="*/ 90720 w 141840"/>
                    <a:gd name="textAreaRight" fmla="*/ 141840 w 141840"/>
                    <a:gd name="textAreaTop" fmla="*/ 18360 h 706320"/>
                    <a:gd name="textAreaBottom" fmla="*/ 687960 h 70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385360" y="392904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385360" y="4448160"/>
                  <a:ext cx="128160" cy="12240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385360" y="5218200"/>
                  <a:ext cx="128160" cy="1220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85360" y="585936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1476600">
                  <a:off x="3286080" y="4371840"/>
                  <a:ext cx="241200" cy="198720"/>
                </a:xfrm>
                <a:prstGeom prst="leftArrow">
                  <a:avLst>
                    <a:gd name="adj1" fmla="val 50000"/>
                    <a:gd name="adj2" fmla="val 30344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20292000">
                  <a:off x="3387960" y="5349600"/>
                  <a:ext cx="241200" cy="2476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85240" y="5089320"/>
                  <a:ext cx="172440" cy="1288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88480" y="5597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6188760" y="22464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49320" y="357192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3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31040" y="4714920"/>
              <a:ext cx="90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3480" y="529416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4360" y="623880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20 días +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95280" y="260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8520" y="153828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MODIFICACIONES PROPUESTAS AL REGLAMENTO DEL SE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057400"/>
            <a:ext cx="7925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los plazos: se disminuye hasta en un 15%  los tiempos en tramitación para los proyectos de inver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torno a las Normas Referenciales para evaluar calidad ambiental: no se restringe solo a las normas referenciales de la Confederación Suiza, sino que se admiten más posibil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Se evita el ingreso de algunos proyectos menores que, en el antiguo reglamento, requerían ingreso al SE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Otra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30200" y="331920"/>
            <a:ext cx="81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Tramitación y aplicación de la Resolución de Calificación Ambiental (R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600200"/>
            <a:ext cx="76960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probado un EIA, se emite un pronunciamiento por parte de la COREMA que se denomina Resolución de Calificación Ambiental (R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Esta puede emitirse favorablemente, favorable con condicionamientos o bien, en rechazo al proyecto o actividad eval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La RCA es un acto administrativo con validez legal, y representa la forma en que se autoriza ambientalmente un proyecto o a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Como tal, es un documento auditable (base para ejercer o aplicar auditorías o verificación de cumplimiento de los planes de gestión ambien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Pasa a constituir un aspecto legal al que se debe dar 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341360"/>
            <a:ext cx="79250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GRADU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A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TAMINADOR PAG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SPECTOS GENERALES DE LA LEY 19.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Promulgada en 1994, para dar cumplimiento a la garantía constitucional contenida en el Artículo 19 número 8º, que asegura a todas las personas el derecho a vivir en un ambiente libre de contam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La Ley sobre Bases Generales del Medio Ambiente, dota de contenido sustantivo y concreto a la garantía antes citada, señalando que este derecho se regulará por sus disposiciones, “</a:t>
            </a:r>
            <a:r>
              <a:rPr b="1" i="1" lang="es-ES" sz="1600" spc="-1" strike="noStrike">
                <a:solidFill>
                  <a:srgbClr val="000000"/>
                </a:solidFill>
                <a:latin typeface="DIN-Regular"/>
              </a:rPr>
              <a:t>sin perjuicio de lo que otras normas legales establezcan sobre la materia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IOS DE LA POLÍTIC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3892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stema de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 en el S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Calidad Ambiental, Conservación de la Naturaleza y del Patrimon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E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nes de Manejo, Prevención y Desconta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6240" y="349416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INSTRUMENTOS DE GESTIÓN AMBIENTAL CONTENIDOS EN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49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CONTENIDOS DE LA LEY 19300 de B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84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ones (Disposiciones gener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strumentos de gest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 por dañ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isc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ondo de protec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 Comisión Nacional del Med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77336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deficiencias en la falta de efectividad y financiamiento específic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s de excención tributaria para donaciones con fine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mpliar el Fondo de Protección Ambiental a objetivos de educa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ormas de Calidad y  Normas de Emis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n dos grandes problemas, referidos a rigidez en el procedimiento de dictación de normas y dispersión de la potestad normativa en materias ambientales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de normas: evaluación técnica y revisión cada 5 años; Consejo Directivo decidirá sobre pertinencia de proceso de rev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ceso de generación de normas: uniformar proceso de generación; se encomendará al reglamento (con participación de organismos técnicos); fijación de parámetros de definición; revisión del procedimiento establec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: se consagrará la PC en el proceso; mecanismos para estimular y garantizar participación y calidad técn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784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Áreas Silvestres Protegidas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suspendida de ley SNASPE, necesidad de incorporación de áreas marinas y sistema de áreas privadas. La idea es hacer más operativos estos instrumentos medi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acultad del Director Ejecutivo de CONAMA de afectar y desafectar á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misión a un reglamento para establecer procedimiento a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lternativas para regular regimen tributario de ASPP en la l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autoridad competente para tutela y fiscalización de las AS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Prevención y Descontamin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falencias en fiscalización y en la falta de regulación que ponga término a zonas de latencia o saturación. Por lo tanto, se proponen las siguientes modif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l proceimiento a seguir en caso de disminuir los niveles de contaminación que justificaron declrar una zona como saturada o lat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transición desde saturación a latencia, para ajustar planes adecu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signación de autoridad encargada de supervigilar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sagración legal de la PC en proceso de estudio y elaboración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las obligaciones de los titulares de proyectos, para que cuenten con medios técnicos que garanticen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uevos Instrumentos de Gestión Ambiental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Uno de los propósitos de las modificaciones a la LBM, es el perfeccionamiento de los instrumentos de gestión ambiental existentes. Sin embargo, avalados en la experiencia internacional, la existencia de aspectos ambientales actualmente no cubiertos, , entre otros, se proponen exepcionalmente los siguientes nuevos instrument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valuación Ambiental Estratégica (EAE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ensado para programas, planes y políticas, instrumentos de planificación territorial,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verificación de cumplimiento de la normativa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ara cubrir las insuficiencias actuales en fiscalización. Se basará, entre otras cosas, en verificación por parte de organismos externos (debidamente acreditados y registrados), certificación ambiental de proyect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Registro de emisiones contaminant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información ambiental catastrada y sistematiz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recuperación o remedi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tendrá por objeto reponer la calidad o reestablecer las propiedades de variables a las que no es posible aplicar la declaración de zonas saturadas o lat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Gestión ambiental integrada de cuencas hidrográfica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definiendo el marco para integración con instrumentos de política pública, entre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egulación (acuerdos voluntarios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scatando experiencia internacional y actual, entre otros aspe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289160"/>
            <a:ext cx="7924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IA: Instrumento exitoso en su aplicación , con problemas en aspectos de gestión y de coordinación. Los criterios con los cuales se proponen las modificaciones en la ley, en lo referido al SEIA, son los siguien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erfeccionar y no menoscabar 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mplificar el procedimiento y mejorar la eficiencia d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rregir desviaciones, vacíos e imperfecciones de la normativa vi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xcluir aspectos abordados en la ley de Beses de los Procedimientos Administrativos (plazos de tramitaciones de los E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propuestas de modificación son las que se indican a continuación, para cada tópico correspondi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que deben ingresar al SE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mantiene listado pero se acotan magnitudes, de modo de excluir actividades o proyectos que no son susceptibles de causar impacto ambiental; los planes reguladores se excluirán del SEIA, entendiendo que se evaluarán a través de otro instrumento (EAE); Permisos de construcción de proyectos condicionados a permiso ambiental; Excepciones (proyectos de emergencia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en ejecución o ejecutado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gular situación de proyectos no ingresados al SEIA; sanciones; alzamiento de sanciones (clausuras) contra presentación de EIA o D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26828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ierre o abandono de proyectos y actividad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no existe regulación clara en la ley (se incorpora explícitamiente); definición de bases y conceptos mínimos aplicables al cierre y abandono de proyectos y actividades; se requiere de cuerpo legal más amplio que el propio de la ley 19.300, por lo que se encomendará ley especial; en esta ley se indicarán procedimientos y mecanismos para planes contemplados en EIAs o D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cedimiento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perfeccionarán las normas en que se sustenta el mecanismo de “</a:t>
            </a: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entanilla únic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os permisos ambientales serán otorgados automáticamente con la RCA favor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visión del actual listado de permisos ambientales y del propio concepto de “permiso ambiental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xigirá al titular de un proyecto, presentar junto con la DIA o EIA la totalidad de antecedentes exigidos por la normativa vigente. Por lo tanto, mientras se efectúa la evaluación ambiental, los organismos sectoriales analizarán los requisitos de los permi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aspira a que junto con la RCA se entreguen materialmente los permisos, o al menos, que sean entregados en plazos bre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onsultores ambiental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conocimiento de la función profesional prestada. Propuesta de acreditación de organismos externos certificador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ización provisor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lazos, regulación del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Declaración de Impacto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En el actual sistema, se han convertido en EIA de menor tamañ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odificar procedimiento de aprobación de éstas , mediante creación de procedimiento específico (sistema expedito de aprob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yectos sin normativa aplicable, se simplificarán trámites y etapas propias de un E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incorporará norma que regule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alor del informe técnico en la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consagrará en la ley el valor del informe técnico definitivo emitido por los organismos secto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resoluciones de las COREMAs deberán fundarse en éstos y, en caso contrario, las decisiones deberán ser fund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 que resguarde el respeto de aquellas conclusiones o parámetros técnicos sustentados en normas vigen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9:35:35Z</dcterms:created>
  <dc:creator>EALISTE</dc:creator>
  <dc:description/>
  <dc:language>en-US</dc:language>
  <cp:lastModifiedBy>.</cp:lastModifiedBy>
  <dcterms:modified xsi:type="dcterms:W3CDTF">2006-03-16T22:54:13Z</dcterms:modified>
  <cp:revision>124</cp:revision>
  <dc:subject/>
  <dc:title>Presentación de PowerPoint</dc:title>
</cp:coreProperties>
</file>