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291EF-35E0-4E2F-A709-CC3DC8475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5D54-6801-424D-B144-743F432B0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2F6B8-B3D9-4FD4-A921-84D0189D8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93A0-CF72-4A1F-9C13-6C8F050D2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8F480-7BAD-4970-9B04-7AF95FC19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80609-C57A-4BD9-945B-CCF67030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59B8C-A794-4BE8-8033-27F1FCC3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C476-91F2-406F-9E50-A4DF479D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15B65-B996-4FE1-84C3-3AEF207F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DE4FC-C413-4994-8C39-95A9310C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A953-8787-4FCA-9DCE-A82422F9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467F-C305-4ECC-94CE-049902E9D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64E6-141F-49A7-99FB-0B6D85B16C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Century Gothic"/>
              </a:rPr>
              <a:t>PINTURA ELECTROESTÁTICA</a:t>
            </a:r>
            <a:br>
              <a:rPr sz="4400"/>
            </a:br>
            <a:r>
              <a:rPr b="1" lang="en-US" sz="4400" spc="-1" strike="noStrike">
                <a:solidFill>
                  <a:srgbClr val="e3ebf1"/>
                </a:solidFill>
                <a:latin typeface="Century Gothic"/>
              </a:rPr>
              <a:t>PARA METALES</a:t>
            </a:r>
            <a:endParaRPr b="0" lang="en-US" sz="4400" spc="-1" strike="noStrike">
              <a:solidFill>
                <a:srgbClr val="e3ebf1"/>
              </a:solidFill>
              <a:latin typeface="Arial"/>
            </a:endParaRPr>
          </a:p>
        </p:txBody>
      </p:sp>
      <p:pic>
        <p:nvPicPr>
          <p:cNvPr id="42" name="" descr=""/>
          <p:cNvPicPr/>
          <p:nvPr/>
        </p:nvPicPr>
        <p:blipFill>
          <a:blip r:embed="rId1"/>
          <a:stretch/>
        </p:blipFill>
        <p:spPr>
          <a:xfrm>
            <a:off x="0" y="5805360"/>
            <a:ext cx="9144000" cy="1052640"/>
          </a:xfrm>
          <a:prstGeom prst="rect">
            <a:avLst/>
          </a:prstGeom>
          <a:ln w="0">
            <a:noFill/>
          </a:ln>
        </p:spPr>
      </p:pic>
      <p:sp>
        <p:nvSpPr>
          <p:cNvPr id="43" name=""/>
          <p:cNvSpPr/>
          <p:nvPr/>
        </p:nvSpPr>
        <p:spPr>
          <a:xfrm>
            <a:off x="6003720" y="331560"/>
            <a:ext cx="2575080" cy="946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cnología y Materiales III</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Alejandro Chac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Integrantes: Daniel Palm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Gonzalo Sil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413000"/>
            <a:ext cx="8229600" cy="2808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proceso de curado de la pintura en polvo, ésta se funde en el horno, iniciándose  la reacción para lograr que el producto adquiera las propiedades finales. Dependiendo de la pieza, existen diferentes ciclos de horneo: 10 min. a 200°C, 15 min. a 180°C y/o 5 min. a 220°C.</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hornos de convección que actúan por medio de aire caliente, traspasando el calor al metal para curar la pintura. También existen los de radiación, que proporcionan en forma directa una mayor energía a la pintura para obtener la polimerización y adherencia final a la pieza. Ambos utilizando como energía principal gas o electricidad.</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l polvo no adherido a la pieza tratada es aspirado por turbinas, que lo separa del aire a través de un dispositivo de aspiración, donde posteriormente se limpia por un sistema de filtros, para su reutilización.</a:t>
            </a:r>
            <a:endParaRPr b="0" lang="en-US" sz="1600" spc="-1" strike="noStrike">
              <a:solidFill>
                <a:srgbClr val="ffffff"/>
              </a:solidFill>
              <a:latin typeface="Arial"/>
            </a:endParaRPr>
          </a:p>
        </p:txBody>
      </p:sp>
      <p:pic>
        <p:nvPicPr>
          <p:cNvPr id="70" name="" descr=""/>
          <p:cNvPicPr/>
          <p:nvPr/>
        </p:nvPicPr>
        <p:blipFill>
          <a:blip r:embed="rId1"/>
          <a:stretch/>
        </p:blipFill>
        <p:spPr>
          <a:xfrm>
            <a:off x="2124000" y="4076640"/>
            <a:ext cx="5005440" cy="2094120"/>
          </a:xfrm>
          <a:prstGeom prst="rect">
            <a:avLst/>
          </a:prstGeom>
          <a:ln w="0">
            <a:noFill/>
          </a:ln>
        </p:spPr>
      </p:pic>
      <p:sp>
        <p:nvSpPr>
          <p:cNvPr id="71" name=""/>
          <p:cNvSpPr/>
          <p:nvPr/>
        </p:nvSpPr>
        <p:spPr>
          <a:xfrm>
            <a:off x="1979640" y="6165720"/>
            <a:ext cx="611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Hornos de curado y secado de pieza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HORNEADO</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13200" y="1125000"/>
            <a:ext cx="4619520" cy="18003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Un contenedor de pintura en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nyector de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nguera de entrega del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istola de aplicación</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anel de control. </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4" name="" descr=""/>
          <p:cNvPicPr/>
          <p:nvPr/>
        </p:nvPicPr>
        <p:blipFill>
          <a:blip r:embed="rId1"/>
          <a:stretch/>
        </p:blipFill>
        <p:spPr>
          <a:xfrm>
            <a:off x="1403280" y="2708280"/>
            <a:ext cx="6048360" cy="3780000"/>
          </a:xfrm>
          <a:prstGeom prst="rect">
            <a:avLst/>
          </a:prstGeom>
          <a:ln w="0">
            <a:noFill/>
          </a:ln>
        </p:spPr>
      </p:pic>
      <p:sp>
        <p:nvSpPr>
          <p:cNvPr id="75"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
        <p:nvSpPr>
          <p:cNvPr id="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516280"/>
            <a:ext cx="8229600" cy="647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3 ejemplos de módulos de mando: el primero sin contenedor de pintura, otro con un único contenedor y el ultimo con 4 recipientes para cambios de color.</a:t>
            </a:r>
            <a:endParaRPr b="0" lang="en-US" sz="1600" spc="-1" strike="noStrike">
              <a:solidFill>
                <a:srgbClr val="ffffff"/>
              </a:solidFill>
              <a:latin typeface="Arial"/>
            </a:endParaRPr>
          </a:p>
        </p:txBody>
      </p:sp>
      <p:pic>
        <p:nvPicPr>
          <p:cNvPr id="78" name="" descr=""/>
          <p:cNvPicPr/>
          <p:nvPr/>
        </p:nvPicPr>
        <p:blipFill>
          <a:blip r:embed="rId1"/>
          <a:stretch/>
        </p:blipFill>
        <p:spPr>
          <a:xfrm>
            <a:off x="1332000" y="2349360"/>
            <a:ext cx="6551640" cy="2921040"/>
          </a:xfrm>
          <a:prstGeom prst="rect">
            <a:avLst/>
          </a:prstGeom>
          <a:ln w="0">
            <a:noFill/>
          </a:ln>
        </p:spPr>
      </p:pic>
      <p:sp>
        <p:nvSpPr>
          <p:cNvPr id="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
        <p:nvSpPr>
          <p:cNvPr id="80"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4920" y="1600200"/>
            <a:ext cx="8147160" cy="2333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Industria de electrodomésticos utiliza pintura en polvo para las superficies externas y los componentes de heladeras, freezers, acondicionadores de aire, aspiradoras, lavavajillas, secadoras, calentadores de agua y en el interior de hornos de microondas.</a:t>
            </a:r>
            <a:endParaRPr b="0" lang="en-US" sz="1600" spc="-1" strike="noStrike">
              <a:solidFill>
                <a:srgbClr val="ffffff"/>
              </a:solidFill>
              <a:latin typeface="Arial"/>
            </a:endParaRPr>
          </a:p>
          <a:p>
            <a:pPr marL="343080" indent="-343080" algn="just">
              <a:lnSpc>
                <a:spcPct val="80000"/>
              </a:lnSpc>
              <a:spcBef>
                <a:spcPts val="3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dustria automotriz, de motocicletas, de auto partes utiliza pintura en polvo en llantas de acero y baja aleación, piezas de sistemas de frenos y de suspensión, cerraduras, resortes de acero, limpiaparabrisas, pequeñas piezas de terminación, racks, chassis de camiones y ómnibus, radiadores, filtros de aire y aceite, varias piezas de motor e incluso faroles.</a:t>
            </a:r>
            <a:r>
              <a:rPr b="0" lang="es-ES" sz="1400" spc="-1" strike="noStrike">
                <a:solidFill>
                  <a:srgbClr val="ffffff"/>
                </a:solidFill>
                <a:latin typeface="Century Gothic"/>
              </a:rPr>
              <a:t> </a:t>
            </a:r>
            <a:endParaRPr b="0" lang="en-US" sz="1400" spc="-1" strike="noStrike">
              <a:solidFill>
                <a:srgbClr val="ffffff"/>
              </a:solidFill>
              <a:latin typeface="Arial"/>
            </a:endParaRPr>
          </a:p>
        </p:txBody>
      </p:sp>
      <p:pic>
        <p:nvPicPr>
          <p:cNvPr id="82" name="" descr=""/>
          <p:cNvPicPr/>
          <p:nvPr/>
        </p:nvPicPr>
        <p:blipFill>
          <a:blip r:embed="rId1"/>
          <a:stretch/>
        </p:blipFill>
        <p:spPr>
          <a:xfrm>
            <a:off x="3492360" y="4221000"/>
            <a:ext cx="4896000" cy="188604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4" name="" descr=""/>
          <p:cNvPicPr/>
          <p:nvPr/>
        </p:nvPicPr>
        <p:blipFill>
          <a:blip r:embed="rId2"/>
          <a:stretch/>
        </p:blipFill>
        <p:spPr>
          <a:xfrm>
            <a:off x="611280" y="4065480"/>
            <a:ext cx="251928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sector de construcción civil para revestir cerramientos de aluminio, ventanas y puertas, en fachadas de grandes edificios de acero laminado, en herrajes de puertas, luminarias, tejas metálicas y estructura de techos.</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un sinnúmero de otras aplicaciones como cuadros y piezas de bicicletas, extintores de incendio, antenas mini parabólicas, componentes eléctricos, máquinas e implementos agrícolas, equipos de musculación, estanterías y góndolas para supermercados, heladeras para supermercados, equipamientos para dentistas, máquinas de helados, muebles de escritorio, camas, sillas, muebles de tubo de acero, gabinetes de computadora, carros y corrales para bebes, cajas de herramientas, balanzas, grifería, muebles de jardín, cestos de basura, bancos para plazas y shopping centers, grandes paneles eléctricos, equipamiento de laboratorio, oleoductos, gasoductos y cañerías de gas de distribución domiciliaria, garrafas para gas licuado, cabinas de teléfonos públicos, y centenares de aplicaciones más. </a:t>
            </a:r>
            <a:endParaRPr b="0" lang="en-US" sz="1600" spc="-1" strike="noStrike">
              <a:solidFill>
                <a:srgbClr val="ffffff"/>
              </a:solidFill>
              <a:latin typeface="Arial"/>
            </a:endParaRPr>
          </a:p>
        </p:txBody>
      </p:sp>
      <p:sp>
        <p:nvSpPr>
          <p:cNvPr id="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7" name="" descr=""/>
          <p:cNvPicPr/>
          <p:nvPr/>
        </p:nvPicPr>
        <p:blipFill>
          <a:blip r:embed="rId1"/>
          <a:stretch/>
        </p:blipFill>
        <p:spPr>
          <a:xfrm>
            <a:off x="539640" y="4757760"/>
            <a:ext cx="2448000" cy="1407960"/>
          </a:xfrm>
          <a:prstGeom prst="rect">
            <a:avLst/>
          </a:prstGeom>
          <a:ln w="0">
            <a:noFill/>
          </a:ln>
        </p:spPr>
      </p:pic>
      <p:pic>
        <p:nvPicPr>
          <p:cNvPr id="88" name="" descr=""/>
          <p:cNvPicPr/>
          <p:nvPr/>
        </p:nvPicPr>
        <p:blipFill>
          <a:blip r:embed="rId2"/>
          <a:stretch/>
        </p:blipFill>
        <p:spPr>
          <a:xfrm>
            <a:off x="3498840" y="4724280"/>
            <a:ext cx="1360440" cy="1440000"/>
          </a:xfrm>
          <a:prstGeom prst="rect">
            <a:avLst/>
          </a:prstGeom>
          <a:ln w="0">
            <a:noFill/>
          </a:ln>
        </p:spPr>
      </p:pic>
      <p:pic>
        <p:nvPicPr>
          <p:cNvPr id="89" name="" descr=""/>
          <p:cNvPicPr/>
          <p:nvPr/>
        </p:nvPicPr>
        <p:blipFill>
          <a:blip r:embed="rId3"/>
          <a:stretch/>
        </p:blipFill>
        <p:spPr>
          <a:xfrm>
            <a:off x="5234040" y="4581360"/>
            <a:ext cx="1138320" cy="1729080"/>
          </a:xfrm>
          <a:prstGeom prst="rect">
            <a:avLst/>
          </a:prstGeom>
          <a:ln w="0">
            <a:noFill/>
          </a:ln>
        </p:spPr>
      </p:pic>
      <p:pic>
        <p:nvPicPr>
          <p:cNvPr id="90" name="" descr=""/>
          <p:cNvPicPr/>
          <p:nvPr/>
        </p:nvPicPr>
        <p:blipFill>
          <a:blip r:embed="rId4"/>
          <a:stretch/>
        </p:blipFill>
        <p:spPr>
          <a:xfrm>
            <a:off x="6732720" y="4653000"/>
            <a:ext cx="1871640" cy="15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00200"/>
            <a:ext cx="4897440" cy="4276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MP 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Quimica Prado</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Serv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odo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Vicrolum</a:t>
            </a:r>
            <a:endParaRPr b="0" lang="en-US" sz="3200" spc="-1" strike="noStrike">
              <a:solidFill>
                <a:srgbClr val="ffffff"/>
              </a:solidFill>
              <a:latin typeface="Arial"/>
            </a:endParaRPr>
          </a:p>
        </p:txBody>
      </p:sp>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MPRESAS CONSULT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RECUBRIMIENTO DE METALES</a:t>
            </a:r>
            <a:endParaRPr b="0" lang="en-US" sz="28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in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n algunos casos es necesario hacer recubrimientos con material inorgánico, los más usados son el vidrio y los cerámicos, estos recubrimientos proporcionan acabados tersos y duraderos.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l uso de pinturas, lacas, barnices y muchos materiales orgánicos poliméricos han dado muy buen resultado como protección contra la corrosión. El uso de capas orgánicas protege más el metal de la corrosión que muchos otros métodos. Aunque debe escogerse muy bien, ya que hay procesos que incluyen tratamientos con alcoholes que en algún momento pueden disolver los materiales orgánicos.</a:t>
            </a:r>
            <a:endParaRPr b="0" lang="en-US" sz="1800" spc="-1" strike="noStrike">
              <a:solidFill>
                <a:srgbClr val="ffffff"/>
              </a:solidFill>
              <a:latin typeface="Arial"/>
            </a:endParaRPr>
          </a:p>
          <a:p>
            <a:pPr lvl="1" marL="82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BARNICES, LACAS Y PINTUR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PINTURA EN POLVO O</a:t>
            </a:r>
            <a:r>
              <a:rPr b="1" lang="en-US" sz="4400" spc="-1" strike="noStrike">
                <a:solidFill>
                  <a:srgbClr val="e3ebf1"/>
                </a:solidFill>
                <a:latin typeface="Arial"/>
              </a:rPr>
              <a:t> </a:t>
            </a:r>
            <a:r>
              <a:rPr b="1" lang="en-US" sz="2800" spc="-1" strike="noStrike">
                <a:solidFill>
                  <a:srgbClr val="e3ebf1"/>
                </a:solidFill>
                <a:latin typeface="Arial"/>
              </a:rPr>
              <a:t>ELECTROESTÁTICA</a:t>
            </a:r>
            <a:endParaRPr b="0" lang="en-US" sz="28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La pintura en polvo, es una mezcla homogénea de minerales, pigmentos y resinas en forma sólida (partículas finas de no mas de 20 micrones). Tiene la particularidad, de que al estar en estado sólido desde la fabricación, hasta la aplicación, no requiere solventes. Se puede aplicar, en recubrimientos decorativos y protectores, en un proceso electroestático, donde las partículas cargadas eléctricamente, se atraen (95% de la pintura aprox.) estáticamente a una superficie.</a:t>
            </a:r>
            <a:endParaRPr b="0" lang="en-US" sz="1600" spc="-1" strike="noStrike">
              <a:solidFill>
                <a:srgbClr val="ffffff"/>
              </a:solidFill>
              <a:latin typeface="Arial"/>
            </a:endParaRPr>
          </a:p>
        </p:txBody>
      </p:sp>
      <p:pic>
        <p:nvPicPr>
          <p:cNvPr id="48" name="" descr=""/>
          <p:cNvPicPr/>
          <p:nvPr/>
        </p:nvPicPr>
        <p:blipFill>
          <a:blip r:embed="rId1"/>
          <a:stretch/>
        </p:blipFill>
        <p:spPr>
          <a:xfrm>
            <a:off x="2124000" y="3429000"/>
            <a:ext cx="49611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poseer solventes, no requiere tiempo de oreo, regulación de viscosidad, ni problemas de escurrimient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e obtienen altos espesores con una sola man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uena adherencia sobre metales ferrosos y no ferrosos.</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daptación a sistemas automatizados, por lo que aminora la mano de obr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química: elevada resistencia a niebla salina y a la cámara de hume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mecánica: alta resistencia a golpes, roces e impacto y muy buena elastici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requiere mano de obra especializad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combustible.</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Fácil Limpiez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requerir tiempos de oreo, pre y post horneado, tiene menor impacto ambiental y optimiza los tiempos de producción. </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intado redondea los bordes y las aristas de los materiales a pin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2392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3ebf1"/>
                </a:solidFill>
                <a:latin typeface="Century Gothic"/>
              </a:rPr>
              <a:t>En Chile un gran distribuidor es TRICOLOR. La pintura se vende en cajas de 20 Kg. y tiene un costo de aproximado de  US $ 5 -6 mas IVA. El rendimiento de la pintura va desde 7 mts/2 por Kg. a 16 mts/2 por kilo. Dependiendo de los espesores que se den.</a:t>
            </a:r>
            <a:endParaRPr b="0" lang="en-US" sz="1600" spc="-1" strike="noStrike">
              <a:solidFill>
                <a:srgbClr val="e3ebf1"/>
              </a:solidFill>
              <a:latin typeface="Arial"/>
            </a:endParaRPr>
          </a:p>
        </p:txBody>
      </p:sp>
      <p:sp>
        <p:nvSpPr>
          <p:cNvPr id="52" name="PlaceHolder 2"/>
          <p:cNvSpPr>
            <a:spLocks noGrp="1"/>
          </p:cNvSpPr>
          <p:nvPr>
            <p:ph/>
          </p:nvPr>
        </p:nvSpPr>
        <p:spPr>
          <a:xfrm>
            <a:off x="6084720" y="3789360"/>
            <a:ext cx="2530800" cy="50472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Tabla comparativa</a:t>
            </a:r>
            <a:endParaRPr b="0" lang="en-US" sz="12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Fuente: www.asimet.cl/</a:t>
            </a:r>
            <a:endParaRPr b="0" lang="en-US" sz="1200" spc="-1" strike="noStrike">
              <a:solidFill>
                <a:srgbClr val="ffffff"/>
              </a:solidFill>
              <a:latin typeface="Arial"/>
            </a:endParaRPr>
          </a:p>
        </p:txBody>
      </p:sp>
      <p:pic>
        <p:nvPicPr>
          <p:cNvPr id="53" name="" descr=""/>
          <p:cNvPicPr/>
          <p:nvPr/>
        </p:nvPicPr>
        <p:blipFill>
          <a:blip r:embed="rId1"/>
          <a:stretch/>
        </p:blipFill>
        <p:spPr>
          <a:xfrm>
            <a:off x="611280" y="2133720"/>
            <a:ext cx="7993080" cy="183492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ffffff"/>
              </a:solidFill>
              <a:latin typeface="Arial"/>
            </a:endParaRPr>
          </a:p>
        </p:txBody>
      </p:sp>
      <p:sp>
        <p:nvSpPr>
          <p:cNvPr id="55" name=""/>
          <p:cNvSpPr/>
          <p:nvPr/>
        </p:nvSpPr>
        <p:spPr>
          <a:xfrm>
            <a:off x="611280" y="1628640"/>
            <a:ext cx="284328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BLA COMPARA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070000"/>
            <a:ext cx="6696360" cy="4023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ON</a:t>
            </a:r>
            <a:endParaRPr b="0" lang="en-US" sz="2800" spc="-1" strike="noStrike">
              <a:solidFill>
                <a:srgbClr val="e3ebf1"/>
              </a:solidFill>
              <a:latin typeface="Arial"/>
            </a:endParaRPr>
          </a:p>
        </p:txBody>
      </p:sp>
      <p:sp>
        <p:nvSpPr>
          <p:cNvPr id="58" name=""/>
          <p:cNvSpPr/>
          <p:nvPr/>
        </p:nvSpPr>
        <p:spPr>
          <a:xfrm>
            <a:off x="611280" y="15638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IAGRAMA DEL PROCES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3024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moción de óxidos, grasas, aceites y sustancias extrañas de la superficie u objeto a tratar. En la Industrial metal mecánica, se realizan delicados procesos de limpieza, debido a que la pintura, juega un papel preponderante del sistema productivo; para esto, se realizan tratamientos de inmersión y/o “túneles de aspersión”, procesos, en los cuales se deposita, una capa de fosfatizado de zinc o hierro, en el caso del acero y un cromatizado, en el caso del aluminio, confiriendo con esto, propiedades anticorrosivos y de adherencia de la pintura, debido a la porosidad que adquiere la pieza.</a:t>
            </a:r>
            <a:endParaRPr b="0" lang="en-US" sz="1800" spc="-1" strike="noStrike">
              <a:solidFill>
                <a:srgbClr val="ffffff"/>
              </a:solidFill>
              <a:latin typeface="Arial"/>
            </a:endParaRPr>
          </a:p>
        </p:txBody>
      </p:sp>
      <p:pic>
        <p:nvPicPr>
          <p:cNvPr id="60" name="" descr=""/>
          <p:cNvPicPr/>
          <p:nvPr/>
        </p:nvPicPr>
        <p:blipFill>
          <a:blip r:embed="rId1"/>
          <a:stretch/>
        </p:blipFill>
        <p:spPr>
          <a:xfrm>
            <a:off x="0" y="3830760"/>
            <a:ext cx="9144000" cy="2119320"/>
          </a:xfrm>
          <a:prstGeom prst="rect">
            <a:avLst/>
          </a:prstGeom>
          <a:ln w="0">
            <a:noFill/>
          </a:ln>
        </p:spPr>
      </p:pic>
      <p:sp>
        <p:nvSpPr>
          <p:cNvPr id="61" name=""/>
          <p:cNvSpPr/>
          <p:nvPr/>
        </p:nvSpPr>
        <p:spPr>
          <a:xfrm>
            <a:off x="2771640" y="6006960"/>
            <a:ext cx="6156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1 y 2. Proceso de desengrase, fosfatizado y pasivado por inmersi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3. Organización de piezas previa a la aplicación de pintura.</a:t>
            </a:r>
            <a:endParaRPr b="0" lang="en-US" sz="1400" spc="-1" strike="noStrike">
              <a:solidFill>
                <a:srgbClr val="ffffff"/>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CION DE LA SUPERFICIE</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268280"/>
            <a:ext cx="8229600" cy="2765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requiere, un ambiente limpio y libre de impurezas que puedan contaminar el proceso.</a:t>
            </a: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 principios básicos, la pieza a pintar se carga eléctricamente con una carga, bien sea positiva o negativa y la pintura se carga con el polo opuesto, lo que generará una adhesión electrostática de los componentes. Es importante que todas las unidades participantes, se encuentren conectadas a tierra, para mayor seguridad del usuario y evitar daños por sobrecarga.</a:t>
            </a:r>
            <a:endParaRPr b="0" lang="en-US" sz="1800" spc="-1" strike="noStrike">
              <a:solidFill>
                <a:srgbClr val="ffffff"/>
              </a:solidFill>
              <a:latin typeface="Arial"/>
            </a:endParaRPr>
          </a:p>
        </p:txBody>
      </p:sp>
      <p:pic>
        <p:nvPicPr>
          <p:cNvPr id="64" name="" descr=""/>
          <p:cNvPicPr/>
          <p:nvPr/>
        </p:nvPicPr>
        <p:blipFill>
          <a:blip r:embed="rId1"/>
          <a:stretch/>
        </p:blipFill>
        <p:spPr>
          <a:xfrm>
            <a:off x="971640" y="3398760"/>
            <a:ext cx="7129440" cy="2495520"/>
          </a:xfrm>
          <a:prstGeom prst="rect">
            <a:avLst/>
          </a:prstGeom>
          <a:ln w="0">
            <a:noFill/>
          </a:ln>
        </p:spPr>
      </p:pic>
      <p:sp>
        <p:nvSpPr>
          <p:cNvPr id="65" name=""/>
          <p:cNvSpPr/>
          <p:nvPr/>
        </p:nvSpPr>
        <p:spPr>
          <a:xfrm>
            <a:off x="468360" y="5877000"/>
            <a:ext cx="7704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1. Pintado en instalación con cabina doble, cadena de transporte y horno continúo</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2. Pintado en instalación manual estátic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3. Entrada y salida de piezas en horno continuo elevado</a:t>
            </a:r>
            <a:r>
              <a:rPr b="0" lang="en-US" sz="1200" spc="-1" strike="noStrike">
                <a:solidFill>
                  <a:srgbClr val="ffffff"/>
                </a:solidFill>
                <a:latin typeface="Century Gothic"/>
              </a:rPr>
              <a:t> </a:t>
            </a:r>
            <a:endParaRPr b="0" lang="en-US" sz="12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19280" y="1341360"/>
            <a:ext cx="5759280" cy="4929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50:22Z</dcterms:created>
  <dc:creator>Christian</dc:creator>
  <dc:description/>
  <dc:language>en-US</dc:language>
  <cp:lastModifiedBy>pc</cp:lastModifiedBy>
  <dcterms:modified xsi:type="dcterms:W3CDTF">2007-08-27T06:23:57Z</dcterms:modified>
  <cp:revision>5</cp:revision>
  <dc:subject/>
  <dc:title>PINTURA ELECTROESTÁTICA PARA METALES</dc:title>
</cp:coreProperties>
</file>