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4FB-62ED-41CF-9FE8-03EB2ED6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30E-19E6-4855-A54B-3ED7D8F7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F60-98F2-4C72-8FE9-2AC0AF82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14D-9B12-4165-8999-99E09AA9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8E44-AD22-423B-9474-1F8D452F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0312-8AE2-4DB2-B4D6-0FB01D8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ED7-65EF-475E-94B4-CA594AC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561F-DD7F-4EC4-B6B7-886F74B0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DCFA-DE78-4917-8B59-6B5E433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B63A-C26C-4031-AAD4-AAF2724D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9477-0E81-482A-B015-6D29AAD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6B2-4116-4B31-82AE-6FFE763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9E76-1591-40FE-9EF8-08F8EF7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D949-5B31-421D-BD6F-68A4AE1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85CA-9FF5-4B2C-8E2E-3904E167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7F6-CEDC-4A3D-B285-CAFD3E80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EF59-52C7-476A-BC54-567FAF76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BC3-AA03-4F2E-A3E1-E2186C98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DDB-8722-47AB-A05B-0617CEB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C8E-808C-4584-8C38-D54CF64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854-7241-4BE1-AC18-4893096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303-A618-4E42-8F03-C455260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49D-6CE8-4BE0-9B5A-8052CA9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445-5C25-4E6C-B0FA-1A4821B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0D88-F79F-490A-872B-6CADCCA1D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50E-ADD8-44F2-A903-29A5045E9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TERMOPLÁSTICOS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ita Bu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a Cab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Mo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 resistencia quí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Alta tenacidad y elongación en la ro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s propiedades de aislamiento eléct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Color natural: Lech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absorción de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os ácidos, álcalis, soluciones salinas, agua, alcoholes y ace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Alt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41 – 0.965 g/cm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Baj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10 – 0.925 g/cm3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Image1283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54" name="Image1285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B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4227" r="11852" b="14477"/>
          <a:stretch/>
        </p:blipFill>
        <p:spPr>
          <a:xfrm>
            <a:off x="971640" y="1916280"/>
            <a:ext cx="26701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17851" r="0" b="21540"/>
          <a:stretch/>
        </p:blipFill>
        <p:spPr>
          <a:xfrm>
            <a:off x="1619280" y="4941720"/>
            <a:ext cx="245124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8" name=""/>
          <p:cNvCxnSpPr>
            <a:stCxn id="159" idx="0"/>
            <a:endCxn id="159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9" idx="2"/>
            <a:endCxn id="159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4"/>
            <a:endCxn id="159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62" name=""/>
          <p:cNvGrpSpPr/>
          <p:nvPr/>
        </p:nvGrpSpPr>
        <p:grpSpPr>
          <a:xfrm>
            <a:off x="468360" y="3429000"/>
            <a:ext cx="3743280" cy="807480"/>
            <a:chOff x="468360" y="3429000"/>
            <a:chExt cx="3743280" cy="807480"/>
          </a:xfrm>
        </p:grpSpPr>
        <p:sp>
          <p:nvSpPr>
            <p:cNvPr id="163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de ca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4005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eléctr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826920" y="3645000"/>
              <a:ext cx="505080" cy="431640"/>
              <a:chOff x="826920" y="3645000"/>
              <a:chExt cx="50508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826920" y="3645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92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076720" y="3429000"/>
            <a:ext cx="3527640" cy="1367640"/>
            <a:chOff x="5076720" y="3429000"/>
            <a:chExt cx="3527640" cy="1367640"/>
          </a:xfrm>
        </p:grpSpPr>
        <p:sp>
          <p:nvSpPr>
            <p:cNvPr id="168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e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672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lexibilid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bajo pes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356000" y="5084640"/>
            <a:ext cx="4606920" cy="1087560"/>
            <a:chOff x="4356000" y="5084640"/>
            <a:chExt cx="4606920" cy="1087560"/>
          </a:xfrm>
        </p:grpSpPr>
        <p:sp>
          <p:nvSpPr>
            <p:cNvPr id="17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ilm para embala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5661000"/>
              <a:ext cx="4390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rotección contra la corros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productos metál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17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376720" cy="160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112536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228760" cy="159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24360" y="1563840"/>
            <a:ext cx="2233800" cy="1720800"/>
          </a:xfrm>
          <a:prstGeom prst="rect">
            <a:avLst/>
          </a:prstGeom>
          <a:ln w="0">
            <a:noFill/>
          </a:ln>
        </p:spPr>
      </p:pic>
      <p:cxnSp>
        <p:nvCxnSpPr>
          <p:cNvPr id="184" name=""/>
          <p:cNvCxnSpPr>
            <a:stCxn id="185" idx="0"/>
            <a:endCxn id="185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5" idx="2"/>
            <a:endCxn id="185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4"/>
            <a:endCxn id="185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755640" y="3429000"/>
            <a:ext cx="3527280" cy="1087200"/>
            <a:chOff x="755640" y="3429000"/>
            <a:chExt cx="3527280" cy="1087200"/>
          </a:xfrm>
        </p:grpSpPr>
        <p:sp>
          <p:nvSpPr>
            <p:cNvPr id="189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otellas y Garraf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400500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product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quím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26920" y="3644640"/>
              <a:ext cx="505080" cy="431280"/>
              <a:chOff x="826920" y="3644640"/>
              <a:chExt cx="505080" cy="43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3644640"/>
                <a:ext cx="505080" cy="43128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6920" y="407592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5292720" y="3429000"/>
            <a:ext cx="3527280" cy="1377000"/>
            <a:chOff x="5292720" y="3429000"/>
            <a:chExt cx="3527280" cy="1377000"/>
          </a:xfrm>
        </p:grpSpPr>
        <p:sp>
          <p:nvSpPr>
            <p:cNvPr id="194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s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401472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Gran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golp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97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12016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01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de leche y yogu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lástico inodoro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no tóx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04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53964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suministra comúnmente en forma de pol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ene un rango de estado termoplástico muy est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lubricantes disminuye la fuerza de cizallamiento y aumenta su flu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plastificantes se hace bland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le agregan pigmentos compatibles para darle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diante distintas modificaciones se puede mejorar: la resistencia al impacto, la procesabilidad y la resistencia a la de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M: Hace posible la fabricación de productos transparentes (mejores propiedades eléctric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E (Emulsión): Contiene un 2.5% de emulgente (Favorece su estabilización y su procesamien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Image1284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69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171468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16000" cy="1587600"/>
          </a:xfrm>
          <a:prstGeom prst="rect">
            <a:avLst/>
          </a:prstGeom>
          <a:ln w="0">
            <a:noFill/>
          </a:ln>
        </p:spPr>
      </p:pic>
      <p:cxnSp>
        <p:nvCxnSpPr>
          <p:cNvPr id="215" name=""/>
          <p:cNvCxnSpPr>
            <a:stCxn id="216" idx="0"/>
            <a:endCxn id="216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6" idx="2"/>
            <a:endCxn id="216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4"/>
            <a:endCxn id="216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611280" y="3213000"/>
            <a:ext cx="3600360" cy="1087560"/>
            <a:chOff x="611280" y="3213000"/>
            <a:chExt cx="3600360" cy="1087560"/>
          </a:xfrm>
        </p:grpSpPr>
        <p:sp>
          <p:nvSpPr>
            <p:cNvPr id="220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Vent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280" y="378936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igidez que ap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 y aisl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651640" y="3429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 para enva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400536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istencia al frí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lexibili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5640" y="3645000"/>
            <a:ext cx="503280" cy="431640"/>
            <a:chOff x="5435640" y="3645000"/>
            <a:chExt cx="503280" cy="431640"/>
          </a:xfrm>
        </p:grpSpPr>
        <p:sp>
          <p:nvSpPr>
            <p:cNvPr id="227" name=""/>
            <p:cNvSpPr/>
            <p:nvPr/>
          </p:nvSpPr>
          <p:spPr>
            <a:xfrm>
              <a:off x="5435640" y="3645000"/>
              <a:ext cx="50328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5640" y="407664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3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ñerías de desagü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rros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3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381040" cy="179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dureza y estabilidad a la for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lativamente alta frag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rigidez, con alta resistencia a la tracción y baja elongación de ro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transparente en su estado na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uperficie brill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uenas propiedades de aislamiento eléc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aja absorción de a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as bases, álcalis, soluciones salinas, ácidos minerales así como a los deterg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e amarillea y se vuelve más frágil, cuando se lo expone a la luz solar, por ésta razón no es utilizable a la intemper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insípido, inodoro, y fisiológicamente inoc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Image1287" descr=""/>
          <p:cNvPicPr/>
          <p:nvPr/>
        </p:nvPicPr>
        <p:blipFill>
          <a:blip r:embed="rId1"/>
          <a:stretch/>
        </p:blipFill>
        <p:spPr>
          <a:xfrm>
            <a:off x="7236000" y="1494000"/>
            <a:ext cx="12031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3565" t="18031" r="19605" b="10782"/>
          <a:stretch/>
        </p:blipFill>
        <p:spPr>
          <a:xfrm>
            <a:off x="1619280" y="4292640"/>
            <a:ext cx="25290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83320" y="1628640"/>
            <a:ext cx="239544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905200" cy="185760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45" idx="0"/>
            <a:endCxn id="245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5" idx="2"/>
            <a:endCxn id="245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5" idx="4"/>
            <a:endCxn id="245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611280" y="3213000"/>
            <a:ext cx="3600360" cy="807480"/>
            <a:chOff x="611280" y="3213000"/>
            <a:chExt cx="3600360" cy="807480"/>
          </a:xfrm>
        </p:grpSpPr>
        <p:sp>
          <p:nvSpPr>
            <p:cNvPr id="249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280" y="3789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o contenido de 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45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356000" y="5084640"/>
            <a:ext cx="3743280" cy="1367640"/>
            <a:chOff x="4356000" y="5084640"/>
            <a:chExt cx="3743280" cy="1367640"/>
          </a:xfrm>
        </p:grpSpPr>
        <p:sp>
          <p:nvSpPr>
            <p:cNvPr id="25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Objetos de interi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 amarillea y fragiliz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la interperie (so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219640" y="3716280"/>
            <a:ext cx="3600360" cy="1022400"/>
            <a:chOff x="5219640" y="3716280"/>
            <a:chExt cx="3600360" cy="1022400"/>
          </a:xfrm>
        </p:grpSpPr>
        <p:sp>
          <p:nvSpPr>
            <p:cNvPr id="260" name=""/>
            <p:cNvSpPr/>
            <p:nvPr/>
          </p:nvSpPr>
          <p:spPr>
            <a:xfrm>
              <a:off x="5219640" y="37162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ndej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2720" y="422748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bsorción de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435640" y="3867120"/>
              <a:ext cx="503280" cy="431640"/>
              <a:chOff x="5435640" y="3867120"/>
              <a:chExt cx="503280" cy="431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435640" y="386712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5640" y="429876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5564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Alta rigidez, dureza y resis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Opaco, incolo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Propiedades eléctricas comparables a las del 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El PP es resistente a los ácidos, alcoholes, algunos aceites y lejías, entre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Solamente con la correspondiente estabilización, el PP es resistente a la radiación U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Image1286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655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Polímeros Sintético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plásticos (denominados así comúnmente) son materiales poliméricos orgánicos con propiedades plá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den deformarse mediante la aplicación de calor hasta conseguir la forma des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Termoform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Utilizado para aplicaciones que requieren resistencia a altas temperaturas o bajas temperatura, por ejemplo, contenedores de al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Extrus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Aplicado en perfiles, láminas y tub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sopl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Recipientes huecos como por ejemplo bot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inyecc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Gran diversidad de piezas, desde juguetes hasta parachoques de automóvi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La inyección permite obtener en una sola operación productos acabados y de formas complej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1655640" cy="2090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2544840" cy="1731960"/>
          </a:xfrm>
          <a:prstGeom prst="rect">
            <a:avLst/>
          </a:prstGeom>
          <a:ln w="0">
            <a:noFill/>
          </a:ln>
        </p:spPr>
      </p:pic>
      <p:cxnSp>
        <p:nvCxnSpPr>
          <p:cNvPr id="274" name=""/>
          <p:cNvCxnSpPr>
            <a:stCxn id="275" idx="0"/>
            <a:endCxn id="275" idx="1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5" idx="2"/>
            <a:endCxn id="275" idx="3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5" idx="4"/>
            <a:endCxn id="275" idx="5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324000" y="3213000"/>
            <a:ext cx="3600360" cy="937800"/>
            <a:chOff x="324000" y="3213000"/>
            <a:chExt cx="3600360" cy="937800"/>
          </a:xfrm>
        </p:grpSpPr>
        <p:sp>
          <p:nvSpPr>
            <p:cNvPr id="279" name=""/>
            <p:cNvSpPr/>
            <p:nvPr/>
          </p:nvSpPr>
          <p:spPr>
            <a:xfrm>
              <a:off x="1116000" y="321300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aptos para microon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391968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altas T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39640" y="3429000"/>
              <a:ext cx="505080" cy="576360"/>
              <a:chOff x="539640" y="3429000"/>
              <a:chExt cx="505080" cy="576360"/>
            </a:xfrm>
          </p:grpSpPr>
          <p:sp>
            <p:nvSpPr>
              <p:cNvPr id="275" name=""/>
              <p:cNvSpPr/>
              <p:nvPr/>
            </p:nvSpPr>
            <p:spPr>
              <a:xfrm>
                <a:off x="539640" y="3429000"/>
                <a:ext cx="505080" cy="57636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9640" y="4005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859280" y="3494160"/>
            <a:ext cx="3527640" cy="1302480"/>
            <a:chOff x="4859280" y="3494160"/>
            <a:chExt cx="3527640" cy="1302480"/>
          </a:xfrm>
        </p:grpSpPr>
        <p:sp>
          <p:nvSpPr>
            <p:cNvPr id="284" name=""/>
            <p:cNvSpPr/>
            <p:nvPr/>
          </p:nvSpPr>
          <p:spPr>
            <a:xfrm>
              <a:off x="5219640" y="34941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Jugue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928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ja dens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435640" y="3645000"/>
              <a:ext cx="503280" cy="431640"/>
              <a:chOff x="5435640" y="3645000"/>
              <a:chExt cx="503280" cy="43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364500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35640" y="407664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356000" y="5084640"/>
            <a:ext cx="3598920" cy="1367640"/>
            <a:chOff x="4356000" y="5084640"/>
            <a:chExt cx="3598920" cy="1367640"/>
          </a:xfrm>
        </p:grpSpPr>
        <p:sp>
          <p:nvSpPr>
            <p:cNvPr id="29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illas Polyp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2764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a rigidez, durez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9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Materias Prima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97640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933720"/>
            <a:ext cx="31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dón (Celulo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1628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a y caucho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93372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93372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1944720" cy="146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2808360" cy="153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110" t="4019" r="2110" b="7706"/>
          <a:stretch/>
        </p:blipFill>
        <p:spPr>
          <a:xfrm>
            <a:off x="684360" y="4508640"/>
            <a:ext cx="259236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10507" t="0" r="0" b="26734"/>
          <a:stretch/>
        </p:blipFill>
        <p:spPr>
          <a:xfrm>
            <a:off x="3492360" y="4508640"/>
            <a:ext cx="2448000" cy="159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516720" y="450864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Black"/>
              </a:rPr>
              <a:t>Principales Características</a:t>
            </a:r>
            <a:endParaRPr b="1" lang="en-US" sz="41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o co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a dens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Imperme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islantes (eléctricos y térmic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Facilidad de manipu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gradable al 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Resistentes a la corrosión y a la intemp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lta resistencia a la degradación ambiental y bi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Contaminantes al quemar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 Black"/>
              </a:rPr>
              <a:t>Comportamiento ante el calor</a:t>
            </a:r>
            <a:endParaRPr b="1" lang="en-US" sz="3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estables (termoplástico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eden cumplir el ciclo de calentamiento-fusión y formación-solidificación repetidas veces sin sufrir alteraciones en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deformab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convierten en materiales rígidos que al fundirlos por segunda vez se que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Principales Termoplásticos</a:t>
            </a:r>
            <a:endParaRPr b="1" lang="en-US" sz="4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lietileno Tereftalato (P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tileno (PEAD Y PEB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cloruro de Vinilo (PV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stireno (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propileno (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dureza, resistencia y rig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ajo coeficiente de ro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a resistencia a la abra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estabilidad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Semicristalinos: Color blan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Amorfos: Color transpar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aislamiento eléctr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agentes climá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ácidos diluidos, sales neutras y ácidas, alcoholes, éteres, aceites, grasas, hidrocarburos (perclorados, aromáticos y alifá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rincipalmente por iny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or extrusión semiacabados y láminas transpare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mage1282" descr=""/>
          <p:cNvPicPr/>
          <p:nvPr/>
        </p:nvPicPr>
        <p:blipFill>
          <a:blip r:embed="rId1"/>
          <a:stretch/>
        </p:blipFill>
        <p:spPr>
          <a:xfrm>
            <a:off x="6659640" y="4726080"/>
            <a:ext cx="1657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"/>
          <p:cNvCxnSpPr>
            <a:stCxn id="127" idx="0"/>
            <a:endCxn id="127" idx="1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7" idx="2"/>
            <a:endCxn id="127" idx="3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4"/>
            <a:endCxn id="127" idx="5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12720" y="3570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4076640"/>
            <a:ext cx="35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uen co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desli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786120"/>
            <a:ext cx="936360" cy="363600"/>
          </a:xfrm>
          <a:custGeom>
            <a:avLst/>
            <a:gdLst/>
            <a:ahLst/>
            <a:rect l="l" t="t" r="r" b="b"/>
            <a:pathLst>
              <a:path w="318" h="363">
                <a:moveTo>
                  <a:pt x="318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4149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500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apel plástico recic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6720" y="4005360"/>
            <a:ext cx="3527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igmentos sensibles al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Se vuelven blancos o neg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ndo la T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92720" y="3645000"/>
            <a:ext cx="647640" cy="431640"/>
            <a:chOff x="5292720" y="3645000"/>
            <a:chExt cx="647640" cy="431640"/>
          </a:xfrm>
        </p:grpSpPr>
        <p:sp>
          <p:nvSpPr>
            <p:cNvPr id="136" name=""/>
            <p:cNvSpPr/>
            <p:nvPr/>
          </p:nvSpPr>
          <p:spPr>
            <a:xfrm>
              <a:off x="5292720" y="3645000"/>
              <a:ext cx="647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92720" y="4076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861080" y="5094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v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67072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nsparencia y es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querida para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00720" y="5310360"/>
            <a:ext cx="576000" cy="433080"/>
            <a:chOff x="4500720" y="5310360"/>
            <a:chExt cx="576000" cy="433080"/>
          </a:xfrm>
        </p:grpSpPr>
        <p:sp>
          <p:nvSpPr>
            <p:cNvPr id="141" name=""/>
            <p:cNvSpPr/>
            <p:nvPr/>
          </p:nvSpPr>
          <p:spPr>
            <a:xfrm>
              <a:off x="4500720" y="5310360"/>
              <a:ext cx="215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00720" y="574344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168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33348" t="0" r="31817" b="0"/>
          <a:stretch/>
        </p:blipFill>
        <p:spPr>
          <a:xfrm>
            <a:off x="3203640" y="4653000"/>
            <a:ext cx="934920" cy="2019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1460520" cy="151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105264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23:06:42Z</dcterms:created>
  <dc:creator>.</dc:creator>
  <dc:description/>
  <dc:language>en-US</dc:language>
  <cp:lastModifiedBy>.</cp:lastModifiedBy>
  <dcterms:modified xsi:type="dcterms:W3CDTF">2007-09-03T02:35:12Z</dcterms:modified>
  <cp:revision>6</cp:revision>
  <dc:subject/>
  <dc:title>TERMOPLÁSTICOS</dc:title>
</cp:coreProperties>
</file>