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9.png" ContentType="image/png"/>
  <Override PartName="/ppt/media/image3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5.png" ContentType="image/pn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125-4EA3-40CE-9731-3F4D63B4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4F5-EAFF-4C43-977B-14565B6E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BF0-2127-4FD8-AEB1-6340D147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8FE-C0B2-4E9B-AC99-51388D8D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AF19-58EF-47FE-81AD-E461E54D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295A-8A41-455C-98EC-228A5642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6042-1996-4F43-A6E0-7639AF51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4667-A280-4DA0-8BA2-647BEB25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D759-A25A-47F3-91E1-FE7D02A5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919A-E014-4D0F-9215-29432A99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05DC-35E4-4EF5-9748-8847FA32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E42-2EE8-403D-B4A7-6A72E249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A4F5-3C47-46B6-AA7C-9829B119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BF04-2F48-4CDD-9E75-EE04F9CA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1C04-7CCE-4EBE-8B30-28DFF383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1DC1-B933-4846-9596-F5DA7A90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2C13-5DA3-45BF-8632-35803A60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F38-35B0-48D0-9CCD-698EBA55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897-74DA-4998-8A23-E7B11EC7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42C-0E12-4DCA-9F53-26D680D7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ED6-CAC2-4054-BBA0-3C8B31F4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4D6-88B4-4A89-AC43-181B8D3A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01D-AAF9-4F76-99AF-FA97F173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62B-8BBA-4766-B33E-FEB260B6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6BC9-6865-4D19-BDF9-CEB33E159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C3D3-6D27-4F7D-AD34-785061B87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TERMOPLÁSTICOS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garita Bu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a Cab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pe Mo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 Y PEBD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- Baja dens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uena resistencia quí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Alta tenacidad y elongación en la ro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uenas propiedades de aislamiento eléct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Color natural: Lecho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aja absorción de agu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Resistente a los ácidos, álcalis, soluciones salinas, agua, alcoholes y acei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 Y PEBD)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lietileno Alta D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Densidad en el rang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宋体"/>
              </a:rPr>
              <a:t>0.941 – 0.965 g/cm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lietileno Baja D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Densidad en el rang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宋体"/>
              </a:rPr>
              <a:t>0.910 – 0.925 g/cm3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Image1283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154" name="Image1285" descr=""/>
          <p:cNvPicPr/>
          <p:nvPr/>
        </p:nvPicPr>
        <p:blipFill>
          <a:blip r:embed="rId2"/>
          <a:stretch/>
        </p:blipFill>
        <p:spPr>
          <a:xfrm>
            <a:off x="7812000" y="537372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BD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14227" r="11852" b="14477"/>
          <a:stretch/>
        </p:blipFill>
        <p:spPr>
          <a:xfrm>
            <a:off x="971640" y="1916280"/>
            <a:ext cx="2670120" cy="143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17851" r="0" b="21540"/>
          <a:stretch/>
        </p:blipFill>
        <p:spPr>
          <a:xfrm>
            <a:off x="1619280" y="4941720"/>
            <a:ext cx="245124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8" name=""/>
          <p:cNvCxnSpPr>
            <a:stCxn id="159" idx="0"/>
            <a:endCxn id="159" idx="1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9" idx="2"/>
            <a:endCxn id="159" idx="3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9" idx="4"/>
            <a:endCxn id="159" idx="5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62" name=""/>
          <p:cNvGrpSpPr/>
          <p:nvPr/>
        </p:nvGrpSpPr>
        <p:grpSpPr>
          <a:xfrm>
            <a:off x="468360" y="3429000"/>
            <a:ext cx="3743280" cy="807480"/>
            <a:chOff x="468360" y="3429000"/>
            <a:chExt cx="3743280" cy="807480"/>
          </a:xfrm>
        </p:grpSpPr>
        <p:sp>
          <p:nvSpPr>
            <p:cNvPr id="163" name=""/>
            <p:cNvSpPr/>
            <p:nvPr/>
          </p:nvSpPr>
          <p:spPr>
            <a:xfrm>
              <a:off x="1403280" y="3429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 de ca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" y="400536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 eléctr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826920" y="3645000"/>
              <a:ext cx="505080" cy="431640"/>
              <a:chOff x="826920" y="3645000"/>
              <a:chExt cx="505080" cy="431640"/>
            </a:xfrm>
          </p:grpSpPr>
          <p:sp>
            <p:nvSpPr>
              <p:cNvPr id="159" name=""/>
              <p:cNvSpPr/>
              <p:nvPr/>
            </p:nvSpPr>
            <p:spPr>
              <a:xfrm>
                <a:off x="826920" y="3645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692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5076720" y="3429000"/>
            <a:ext cx="3527640" cy="1367640"/>
            <a:chOff x="5076720" y="3429000"/>
            <a:chExt cx="3527640" cy="1367640"/>
          </a:xfrm>
        </p:grpSpPr>
        <p:sp>
          <p:nvSpPr>
            <p:cNvPr id="168" name=""/>
            <p:cNvSpPr/>
            <p:nvPr/>
          </p:nvSpPr>
          <p:spPr>
            <a:xfrm>
              <a:off x="5651640" y="342900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es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6720" y="4005360"/>
              <a:ext cx="3527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lexibilidad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y bajo pes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724360" y="3645000"/>
              <a:ext cx="792360" cy="431640"/>
              <a:chOff x="5724360" y="3645000"/>
              <a:chExt cx="792360" cy="431640"/>
            </a:xfrm>
          </p:grpSpPr>
          <p:sp>
            <p:nvSpPr>
              <p:cNvPr id="171" name=""/>
              <p:cNvSpPr/>
              <p:nvPr/>
            </p:nvSpPr>
            <p:spPr>
              <a:xfrm>
                <a:off x="5724360" y="3645000"/>
                <a:ext cx="79236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2436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4356000" y="5084640"/>
            <a:ext cx="4606920" cy="1087560"/>
            <a:chOff x="4356000" y="5084640"/>
            <a:chExt cx="4606920" cy="1087560"/>
          </a:xfrm>
        </p:grpSpPr>
        <p:sp>
          <p:nvSpPr>
            <p:cNvPr id="174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ilm para embala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5661000"/>
              <a:ext cx="43909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Protección contra la corrosió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 productos metál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177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2376720" cy="1603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1280" y="112536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228760" cy="1590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24360" y="1563840"/>
            <a:ext cx="2233800" cy="1720800"/>
          </a:xfrm>
          <a:prstGeom prst="rect">
            <a:avLst/>
          </a:prstGeom>
          <a:ln w="0">
            <a:noFill/>
          </a:ln>
        </p:spPr>
      </p:pic>
      <p:cxnSp>
        <p:nvCxnSpPr>
          <p:cNvPr id="184" name=""/>
          <p:cNvCxnSpPr>
            <a:stCxn id="185" idx="0"/>
            <a:endCxn id="185" idx="1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5" idx="2"/>
            <a:endCxn id="185" idx="3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5" idx="4"/>
            <a:endCxn id="185" idx="5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88" name=""/>
          <p:cNvGrpSpPr/>
          <p:nvPr/>
        </p:nvGrpSpPr>
        <p:grpSpPr>
          <a:xfrm>
            <a:off x="755640" y="3429000"/>
            <a:ext cx="3527280" cy="1087200"/>
            <a:chOff x="755640" y="3429000"/>
            <a:chExt cx="3527280" cy="1087200"/>
          </a:xfrm>
        </p:grpSpPr>
        <p:sp>
          <p:nvSpPr>
            <p:cNvPr id="189" name=""/>
            <p:cNvSpPr/>
            <p:nvPr/>
          </p:nvSpPr>
          <p:spPr>
            <a:xfrm>
              <a:off x="1403280" y="3429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otellas y Garraf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" y="400500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product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quím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26920" y="3644640"/>
              <a:ext cx="505080" cy="431280"/>
              <a:chOff x="826920" y="3644640"/>
              <a:chExt cx="505080" cy="431280"/>
            </a:xfrm>
          </p:grpSpPr>
          <p:sp>
            <p:nvSpPr>
              <p:cNvPr id="185" name=""/>
              <p:cNvSpPr/>
              <p:nvPr/>
            </p:nvSpPr>
            <p:spPr>
              <a:xfrm>
                <a:off x="826920" y="3644640"/>
                <a:ext cx="505080" cy="43128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26920" y="407592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5292720" y="3429000"/>
            <a:ext cx="3527280" cy="1377000"/>
            <a:chOff x="5292720" y="3429000"/>
            <a:chExt cx="3527280" cy="1377000"/>
          </a:xfrm>
        </p:grpSpPr>
        <p:sp>
          <p:nvSpPr>
            <p:cNvPr id="194" name=""/>
            <p:cNvSpPr/>
            <p:nvPr/>
          </p:nvSpPr>
          <p:spPr>
            <a:xfrm>
              <a:off x="5651640" y="342900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s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2720" y="401472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Gran resistenc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 golp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724360" y="3645000"/>
              <a:ext cx="792360" cy="431640"/>
              <a:chOff x="5724360" y="3645000"/>
              <a:chExt cx="792360" cy="431640"/>
            </a:xfrm>
          </p:grpSpPr>
          <p:sp>
            <p:nvSpPr>
              <p:cNvPr id="197" name=""/>
              <p:cNvSpPr/>
              <p:nvPr/>
            </p:nvSpPr>
            <p:spPr>
              <a:xfrm>
                <a:off x="5724360" y="3645000"/>
                <a:ext cx="79236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436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1201680" cy="17269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4356000" y="5084640"/>
            <a:ext cx="3600720" cy="1087560"/>
            <a:chOff x="4356000" y="5084640"/>
            <a:chExt cx="3600720" cy="1087560"/>
          </a:xfrm>
        </p:grpSpPr>
        <p:sp>
          <p:nvSpPr>
            <p:cNvPr id="201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vases de leche y yogu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9080" y="5661000"/>
              <a:ext cx="3527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Plástico inodoro 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no tóx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04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539640" y="90792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 suministra comúnmente en forma de pol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ene un rango de estado termoplástico muy estr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 lubricantes disminuye la fuerza de cizallamiento y aumenta su fluid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 plastificantes se hace bland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 le agregan pigmentos compatibles para darle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diante distintas modificaciones se puede mejorar: la resistencia al impacto, la procesabilidad y la resistencia a la de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C – M: Hace posible la fabricación de productos transparentes (mejores propiedades eléctric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C – E (Emulsión): Contiene un 2.5% de emulgente (Favorece su estabilización y su procesamient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Image1284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3669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1714680" cy="1998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2016000" cy="1587600"/>
          </a:xfrm>
          <a:prstGeom prst="rect">
            <a:avLst/>
          </a:prstGeom>
          <a:ln w="0">
            <a:noFill/>
          </a:ln>
        </p:spPr>
      </p:pic>
      <p:cxnSp>
        <p:nvCxnSpPr>
          <p:cNvPr id="215" name=""/>
          <p:cNvCxnSpPr>
            <a:stCxn id="216" idx="0"/>
            <a:endCxn id="216" idx="1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6" idx="2"/>
            <a:endCxn id="216" idx="3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4"/>
            <a:endCxn id="216" idx="5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19" name=""/>
          <p:cNvGrpSpPr/>
          <p:nvPr/>
        </p:nvGrpSpPr>
        <p:grpSpPr>
          <a:xfrm>
            <a:off x="611280" y="3213000"/>
            <a:ext cx="3600360" cy="1087560"/>
            <a:chOff x="611280" y="3213000"/>
            <a:chExt cx="3600360" cy="1087560"/>
          </a:xfrm>
        </p:grpSpPr>
        <p:sp>
          <p:nvSpPr>
            <p:cNvPr id="220" name=""/>
            <p:cNvSpPr/>
            <p:nvPr/>
          </p:nvSpPr>
          <p:spPr>
            <a:xfrm>
              <a:off x="1403280" y="3213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Venta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280" y="378936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igidez que apor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 y aisl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826920" y="3429000"/>
              <a:ext cx="505080" cy="431640"/>
              <a:chOff x="826920" y="3429000"/>
              <a:chExt cx="505080" cy="431640"/>
            </a:xfrm>
          </p:grpSpPr>
          <p:sp>
            <p:nvSpPr>
              <p:cNvPr id="216" name=""/>
              <p:cNvSpPr/>
              <p:nvPr/>
            </p:nvSpPr>
            <p:spPr>
              <a:xfrm>
                <a:off x="826920" y="3429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6920" y="3860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5651640" y="3429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lm para enva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8360" y="4005360"/>
            <a:ext cx="35272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sistencia al frí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lexibilida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435640" y="3645000"/>
            <a:ext cx="503280" cy="431640"/>
            <a:chOff x="5435640" y="3645000"/>
            <a:chExt cx="503280" cy="431640"/>
          </a:xfrm>
        </p:grpSpPr>
        <p:sp>
          <p:nvSpPr>
            <p:cNvPr id="227" name=""/>
            <p:cNvSpPr/>
            <p:nvPr/>
          </p:nvSpPr>
          <p:spPr>
            <a:xfrm>
              <a:off x="5435640" y="3645000"/>
              <a:ext cx="50328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35640" y="4076640"/>
              <a:ext cx="28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356000" y="5084640"/>
            <a:ext cx="3600720" cy="1087560"/>
            <a:chOff x="4356000" y="5084640"/>
            <a:chExt cx="3600720" cy="1087560"/>
          </a:xfrm>
        </p:grpSpPr>
        <p:sp>
          <p:nvSpPr>
            <p:cNvPr id="230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ñerías de desagü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9080" y="5661000"/>
              <a:ext cx="3527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líqu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orrosiv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33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2381040" cy="179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stireno (PS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Gran dureza y estabilidad a la for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Relativamente alta frag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Gran rigidez, con alta resistencia a la tracción y baja elongación de rot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Es transparente en su estado nat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Superficie brill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Muy buenas propiedades de aislamiento eléc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Muy baja absorción de agu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Resistente a las bases, álcalis, soluciones salinas, ácidos minerales así como a los deterg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Se amarillea y se vuelve más frágil, cuando se lo expone a la luz solar, por ésta razón no es utilizable a la intemper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Es insípido, inodoro, y fisiológicamente inoc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Image1287" descr=""/>
          <p:cNvPicPr/>
          <p:nvPr/>
        </p:nvPicPr>
        <p:blipFill>
          <a:blip r:embed="rId1"/>
          <a:stretch/>
        </p:blipFill>
        <p:spPr>
          <a:xfrm>
            <a:off x="7236000" y="1494000"/>
            <a:ext cx="12031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stireno (PS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3565" t="18031" r="19605" b="10782"/>
          <a:stretch/>
        </p:blipFill>
        <p:spPr>
          <a:xfrm>
            <a:off x="1619280" y="4292640"/>
            <a:ext cx="2529000" cy="2019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683320" y="1628640"/>
            <a:ext cx="2395440" cy="2019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905200" cy="1857600"/>
          </a:xfrm>
          <a:prstGeom prst="rect">
            <a:avLst/>
          </a:prstGeom>
          <a:ln w="0">
            <a:noFill/>
          </a:ln>
        </p:spPr>
      </p:pic>
      <p:cxnSp>
        <p:nvCxnSpPr>
          <p:cNvPr id="244" name=""/>
          <p:cNvCxnSpPr>
            <a:stCxn id="245" idx="0"/>
            <a:endCxn id="245" idx="1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5" idx="2"/>
            <a:endCxn id="245" idx="3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5" idx="4"/>
            <a:endCxn id="245" idx="5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48" name=""/>
          <p:cNvGrpSpPr/>
          <p:nvPr/>
        </p:nvGrpSpPr>
        <p:grpSpPr>
          <a:xfrm>
            <a:off x="611280" y="3213000"/>
            <a:ext cx="3600360" cy="807480"/>
            <a:chOff x="611280" y="3213000"/>
            <a:chExt cx="3600360" cy="807480"/>
          </a:xfrm>
        </p:grpSpPr>
        <p:sp>
          <p:nvSpPr>
            <p:cNvPr id="249" name=""/>
            <p:cNvSpPr/>
            <p:nvPr/>
          </p:nvSpPr>
          <p:spPr>
            <a:xfrm>
              <a:off x="1403280" y="3213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1280" y="378936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lto contenido de a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826920" y="3429000"/>
              <a:ext cx="505080" cy="431640"/>
              <a:chOff x="826920" y="3429000"/>
              <a:chExt cx="505080" cy="431640"/>
            </a:xfrm>
          </p:grpSpPr>
          <p:sp>
            <p:nvSpPr>
              <p:cNvPr id="245" name=""/>
              <p:cNvSpPr/>
              <p:nvPr/>
            </p:nvSpPr>
            <p:spPr>
              <a:xfrm>
                <a:off x="826920" y="3429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6920" y="3860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4356000" y="5084640"/>
            <a:ext cx="3743280" cy="1367640"/>
            <a:chOff x="4356000" y="5084640"/>
            <a:chExt cx="3743280" cy="1367640"/>
          </a:xfrm>
        </p:grpSpPr>
        <p:sp>
          <p:nvSpPr>
            <p:cNvPr id="254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Objetos de interi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66100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e amarillea y fragiliz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 la interperie (so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57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219640" y="3716280"/>
            <a:ext cx="3600360" cy="1022400"/>
            <a:chOff x="5219640" y="3716280"/>
            <a:chExt cx="3600360" cy="1022400"/>
          </a:xfrm>
        </p:grpSpPr>
        <p:sp>
          <p:nvSpPr>
            <p:cNvPr id="260" name=""/>
            <p:cNvSpPr/>
            <p:nvPr/>
          </p:nvSpPr>
          <p:spPr>
            <a:xfrm>
              <a:off x="5219640" y="371628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andej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92720" y="422748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bsorción de líqu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435640" y="3867120"/>
              <a:ext cx="503280" cy="431640"/>
              <a:chOff x="5435640" y="3867120"/>
              <a:chExt cx="503280" cy="431640"/>
            </a:xfrm>
          </p:grpSpPr>
          <p:sp>
            <p:nvSpPr>
              <p:cNvPr id="263" name=""/>
              <p:cNvSpPr/>
              <p:nvPr/>
            </p:nvSpPr>
            <p:spPr>
              <a:xfrm>
                <a:off x="5435640" y="3867120"/>
                <a:ext cx="5032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35640" y="429876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75564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Baja d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Alta rigidez, dureza y resis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Opaco, incolo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Propiedades eléctricas comparables a las del 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El PP es resistente a los ácidos, alcoholes, algunos aceites y lejías, entre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Solamente con la correspondiente estabilización, el PP es resistente a la radiación U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Image1286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6556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Polímeros Sintéticos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plásticos (denominados así comúnmente) son materiales poliméricos orgánicos con propiedades plás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eden deformarse mediante la aplicación de calor hasta conseguir la forma dese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a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Termoform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Utilizado para aplicaciones que requieren resistencia a altas temperaturas o bajas temperatura, por ejemplo, contenedores de al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Extrus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Aplicado en perfiles, láminas y tub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Moldeo por sopl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Recipientes huecos como por ejemplo botel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Moldeo por inyecc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Gran diversidad de piezas, desde juguetes hasta parachoques de automóviles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La inyección permite obtener en una sola operación productos acabados y de formas complej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340000" y="4508640"/>
            <a:ext cx="1655640" cy="2090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2544840" cy="1731960"/>
          </a:xfrm>
          <a:prstGeom prst="rect">
            <a:avLst/>
          </a:prstGeom>
          <a:ln w="0">
            <a:noFill/>
          </a:ln>
        </p:spPr>
      </p:pic>
      <p:cxnSp>
        <p:nvCxnSpPr>
          <p:cNvPr id="274" name=""/>
          <p:cNvCxnSpPr>
            <a:stCxn id="275" idx="0"/>
            <a:endCxn id="275" idx="1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5" idx="2"/>
            <a:endCxn id="275" idx="3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5" idx="4"/>
            <a:endCxn id="275" idx="5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78" name=""/>
          <p:cNvGrpSpPr/>
          <p:nvPr/>
        </p:nvGrpSpPr>
        <p:grpSpPr>
          <a:xfrm>
            <a:off x="324000" y="3213000"/>
            <a:ext cx="3600360" cy="937800"/>
            <a:chOff x="324000" y="3213000"/>
            <a:chExt cx="3600360" cy="937800"/>
          </a:xfrm>
        </p:grpSpPr>
        <p:sp>
          <p:nvSpPr>
            <p:cNvPr id="279" name=""/>
            <p:cNvSpPr/>
            <p:nvPr/>
          </p:nvSpPr>
          <p:spPr>
            <a:xfrm>
              <a:off x="1116000" y="321300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vases aptos para microon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4000" y="391968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altas T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39640" y="3429000"/>
              <a:ext cx="505080" cy="576360"/>
              <a:chOff x="539640" y="3429000"/>
              <a:chExt cx="505080" cy="576360"/>
            </a:xfrm>
          </p:grpSpPr>
          <p:sp>
            <p:nvSpPr>
              <p:cNvPr id="275" name=""/>
              <p:cNvSpPr/>
              <p:nvPr/>
            </p:nvSpPr>
            <p:spPr>
              <a:xfrm>
                <a:off x="539640" y="3429000"/>
                <a:ext cx="505080" cy="57636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9640" y="400536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4859280" y="3494160"/>
            <a:ext cx="3527640" cy="1302480"/>
            <a:chOff x="4859280" y="3494160"/>
            <a:chExt cx="3527640" cy="1302480"/>
          </a:xfrm>
        </p:grpSpPr>
        <p:sp>
          <p:nvSpPr>
            <p:cNvPr id="284" name=""/>
            <p:cNvSpPr/>
            <p:nvPr/>
          </p:nvSpPr>
          <p:spPr>
            <a:xfrm>
              <a:off x="5219640" y="349416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Jugue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9280" y="4005360"/>
              <a:ext cx="3527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aja dens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435640" y="3645000"/>
              <a:ext cx="503280" cy="431640"/>
              <a:chOff x="5435640" y="3645000"/>
              <a:chExt cx="503280" cy="43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3645000"/>
                <a:ext cx="5032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35640" y="407664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4356000" y="5084640"/>
            <a:ext cx="3598920" cy="1367640"/>
            <a:chOff x="4356000" y="5084640"/>
            <a:chExt cx="3598920" cy="1367640"/>
          </a:xfrm>
        </p:grpSpPr>
        <p:sp>
          <p:nvSpPr>
            <p:cNvPr id="290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illas Polypr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27640" y="566100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lta rigidez, durez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y resistenc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93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2714760" cy="2019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Materias Primas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1976400" cy="158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162864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ól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3933720"/>
            <a:ext cx="31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dón (Celulo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162864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a y caucho 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93372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 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93372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62864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1944720" cy="146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92720" y="2205000"/>
            <a:ext cx="2808360" cy="153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2110" t="4019" r="2110" b="7706"/>
          <a:stretch/>
        </p:blipFill>
        <p:spPr>
          <a:xfrm>
            <a:off x="684360" y="4508640"/>
            <a:ext cx="2592360" cy="163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10507" t="0" r="0" b="26734"/>
          <a:stretch/>
        </p:blipFill>
        <p:spPr>
          <a:xfrm>
            <a:off x="3492360" y="4508640"/>
            <a:ext cx="2448000" cy="159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516720" y="4508640"/>
            <a:ext cx="1727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cc"/>
                </a:solidFill>
                <a:latin typeface="Arial Black"/>
              </a:rPr>
              <a:t>Principales Características</a:t>
            </a:r>
            <a:endParaRPr b="1" lang="en-US" sz="41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Bajo co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Baja dens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Impermea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islantes (eléctricos y térmic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Facilidad de manipul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gradable al 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Resistentes a la corrosión y a la intemp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lta resistencia a la degradación ambiental y bi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Contaminantes al quemar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 Black"/>
              </a:rPr>
              <a:t>Comportamiento ante el calor</a:t>
            </a:r>
            <a:endParaRPr b="1" lang="en-US" sz="3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moestables (termoplásticos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eden cumplir el ciclo de calentamiento-fusión y formación-solidificación repetidas veces sin sufrir alteraciones en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modeformabl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 convierten en materiales rígidos que al fundirlos por segunda vez se que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 Black"/>
              </a:rPr>
              <a:t>Principales Termoplásticos</a:t>
            </a:r>
            <a:endParaRPr b="1" lang="en-US" sz="4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lietileno Tereftalato (P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etileno (PEAD Y PEB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cloruro de Vinilo (PV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estireno (P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propileno (P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dureza, resistencia y rigid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ajo coeficiente de ro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lta resistencia a la abra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estabilidad dimen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po Semicristalinos: Color blan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po Amorfos: Color transpar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aislamiento eléctr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istente a los agentes climá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istente a los ácidos diluidos, sales neutras y ácidas, alcoholes, éteres, aceites, grasas, hidrocarburos (perclorados, aromáticos y alifát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amient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Principalmente por inyecc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Por extrusión semiacabados y láminas transparent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Image1282" descr=""/>
          <p:cNvPicPr/>
          <p:nvPr/>
        </p:nvPicPr>
        <p:blipFill>
          <a:blip r:embed="rId1"/>
          <a:stretch/>
        </p:blipFill>
        <p:spPr>
          <a:xfrm>
            <a:off x="6659640" y="4726080"/>
            <a:ext cx="16574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6" name=""/>
          <p:cNvCxnSpPr>
            <a:stCxn id="127" idx="0"/>
            <a:endCxn id="127" idx="1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7" idx="2"/>
            <a:endCxn id="127" idx="3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7" idx="4"/>
            <a:endCxn id="127" idx="5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12720" y="35701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2360" y="4076640"/>
            <a:ext cx="352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uen coefic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desli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786120"/>
            <a:ext cx="936360" cy="363600"/>
          </a:xfrm>
          <a:custGeom>
            <a:avLst/>
            <a:gdLst/>
            <a:ahLst/>
            <a:rect l="l" t="t" r="r" b="b"/>
            <a:pathLst>
              <a:path w="318" h="363">
                <a:moveTo>
                  <a:pt x="318" y="0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4149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59280" y="3500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apel plástico recic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16720" y="4005360"/>
            <a:ext cx="3527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igmentos sensibles al ca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Se vuelven blancos o neg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terando la T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92720" y="3645000"/>
            <a:ext cx="647640" cy="431640"/>
            <a:chOff x="5292720" y="3645000"/>
            <a:chExt cx="647640" cy="431640"/>
          </a:xfrm>
        </p:grpSpPr>
        <p:sp>
          <p:nvSpPr>
            <p:cNvPr id="136" name=""/>
            <p:cNvSpPr/>
            <p:nvPr/>
          </p:nvSpPr>
          <p:spPr>
            <a:xfrm>
              <a:off x="5292720" y="3645000"/>
              <a:ext cx="64764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92720" y="407664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861080" y="5094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v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5670720"/>
            <a:ext cx="35272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nsparencia y esté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querida para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00720" y="5310360"/>
            <a:ext cx="576000" cy="433080"/>
            <a:chOff x="4500720" y="5310360"/>
            <a:chExt cx="576000" cy="433080"/>
          </a:xfrm>
        </p:grpSpPr>
        <p:sp>
          <p:nvSpPr>
            <p:cNvPr id="141" name=""/>
            <p:cNvSpPr/>
            <p:nvPr/>
          </p:nvSpPr>
          <p:spPr>
            <a:xfrm>
              <a:off x="4500720" y="5310360"/>
              <a:ext cx="21564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00720" y="5743440"/>
              <a:ext cx="57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521080" cy="168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33348" t="0" r="31817" b="0"/>
          <a:stretch/>
        </p:blipFill>
        <p:spPr>
          <a:xfrm>
            <a:off x="3203640" y="4653000"/>
            <a:ext cx="934920" cy="2019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948360" y="2133720"/>
            <a:ext cx="1584360" cy="1185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435640" y="1989000"/>
            <a:ext cx="1460520" cy="1516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105264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23:06:42Z</dcterms:created>
  <dc:creator>.</dc:creator>
  <dc:description/>
  <dc:language>en-US</dc:language>
  <cp:lastModifiedBy>.</cp:lastModifiedBy>
  <dcterms:modified xsi:type="dcterms:W3CDTF">2007-09-03T02:35:12Z</dcterms:modified>
  <cp:revision>6</cp:revision>
  <dc:subject/>
  <dc:title>TERMOPLÁSTICOS</dc:title>
</cp:coreProperties>
</file>