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1A9-E049-4256-A646-274C505B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ADB-76EA-45E2-A75F-6C3C4F3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0DD-B599-4294-8EF7-B22F42AC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1C0-7935-40C1-8915-9627299D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3CA-F932-4E6E-8449-8D46FEA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E91-9E88-4887-B371-1D62C378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205-8359-4280-9F5F-BE31D56F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48B-8E5C-4AAA-A2A5-A9E0B82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3B1-13D0-4A00-8B0A-DAC00194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7D7-2C89-4389-BE75-19F21A8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404-4567-4192-B7D8-4031E90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A0D-09B9-4038-9F5D-5D722308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09E-D0C4-42DD-A6C6-9A8F4BD2B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limites udahuel"/>
          <p:cNvPicPr/>
          <p:nvPr/>
        </p:nvPicPr>
        <p:blipFill>
          <a:blip r:embed="rId1"/>
          <a:stretch/>
        </p:blipFill>
        <p:spPr>
          <a:xfrm>
            <a:off x="1992240" y="765000"/>
            <a:ext cx="7162920" cy="49262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29"/>
          <p:cNvSpPr/>
          <p:nvPr/>
        </p:nvSpPr>
        <p:spPr>
          <a:xfrm>
            <a:off x="2016000" y="1038240"/>
            <a:ext cx="4680000" cy="41194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0"/>
          <p:cNvSpPr/>
          <p:nvPr/>
        </p:nvSpPr>
        <p:spPr>
          <a:xfrm>
            <a:off x="1727280" y="765000"/>
            <a:ext cx="298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6"/>
          <p:cNvGrpSpPr/>
          <p:nvPr/>
        </p:nvGrpSpPr>
        <p:grpSpPr>
          <a:xfrm>
            <a:off x="4111560" y="2770200"/>
            <a:ext cx="5068800" cy="2898360"/>
            <a:chOff x="4111560" y="2770200"/>
            <a:chExt cx="5068800" cy="2898360"/>
          </a:xfrm>
        </p:grpSpPr>
        <p:sp>
          <p:nvSpPr>
            <p:cNvPr id="45" name="Freeform 33"/>
            <p:cNvSpPr/>
            <p:nvPr/>
          </p:nvSpPr>
          <p:spPr>
            <a:xfrm>
              <a:off x="4111560" y="2962800"/>
              <a:ext cx="2748960" cy="17708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4"/>
            <p:cNvSpPr/>
            <p:nvPr/>
          </p:nvSpPr>
          <p:spPr>
            <a:xfrm>
              <a:off x="4422600" y="4734000"/>
              <a:ext cx="318240" cy="9345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5"/>
            <p:cNvSpPr/>
            <p:nvPr/>
          </p:nvSpPr>
          <p:spPr>
            <a:xfrm>
              <a:off x="6828480" y="2770200"/>
              <a:ext cx="2351880" cy="9018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42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scudoU"/>
          <p:cNvPicPr/>
          <p:nvPr/>
        </p:nvPicPr>
        <p:blipFill>
          <a:blip r:embed="rId2"/>
          <a:stretch/>
        </p:blipFill>
        <p:spPr>
          <a:xfrm>
            <a:off x="34920" y="6093000"/>
            <a:ext cx="297000" cy="69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4920" y="6597720"/>
            <a:ext cx="936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r>
              <a:rPr b="0" lang="es-ES_tradnl" sz="1100" spc="-1" strike="noStrike">
                <a:solidFill>
                  <a:srgbClr val="ffffff"/>
                </a:solidFill>
                <a:latin typeface="Century Gothic"/>
              </a:rPr>
              <a:t>__Urbanismo II__Prof. Arqto. Dra. Ma. I. Pavez__Alumnos: David Lipszyc, Fernanda Sagredo, Aileen Stein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5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52" name="Rectangle 43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3"/>
            <p:cNvSpPr/>
            <p:nvPr/>
          </p:nvSpPr>
          <p:spPr>
            <a:xfrm>
              <a:off x="179280" y="0"/>
              <a:ext cx="896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“</a:t>
              </a: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Anteproyecto de las ideas de ordenamiento territorial ambientalmente sustentable en el sector recreacional para los frentes de comunas entre la cordillera de los andes y la cordillera de la costa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0"/>
          <p:cNvGrpSpPr/>
          <p:nvPr/>
        </p:nvGrpSpPr>
        <p:grpSpPr>
          <a:xfrm>
            <a:off x="6659640" y="5805360"/>
            <a:ext cx="2414160" cy="477720"/>
            <a:chOff x="6659640" y="5805360"/>
            <a:chExt cx="2414160" cy="477720"/>
          </a:xfrm>
        </p:grpSpPr>
        <p:sp>
          <p:nvSpPr>
            <p:cNvPr id="55" name="Rectangle 37"/>
            <p:cNvSpPr/>
            <p:nvPr/>
          </p:nvSpPr>
          <p:spPr>
            <a:xfrm>
              <a:off x="6659640" y="6092640"/>
              <a:ext cx="198720" cy="10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8"/>
            <p:cNvSpPr/>
            <p:nvPr/>
          </p:nvSpPr>
          <p:spPr>
            <a:xfrm>
              <a:off x="6659640" y="5876640"/>
              <a:ext cx="198720" cy="10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9"/>
            <p:cNvSpPr/>
            <p:nvPr/>
          </p:nvSpPr>
          <p:spPr>
            <a:xfrm>
              <a:off x="6936840" y="5805360"/>
              <a:ext cx="2136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Corredor fluvial río Mapo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Limite comuna de Pudahu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50"/>
          <p:cNvSpPr/>
          <p:nvPr/>
        </p:nvSpPr>
        <p:spPr>
          <a:xfrm>
            <a:off x="1727280" y="3178080"/>
            <a:ext cx="33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5"/>
          <p:cNvSpPr/>
          <p:nvPr/>
        </p:nvSpPr>
        <p:spPr>
          <a:xfrm>
            <a:off x="576360" y="2133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6"/>
          <p:cNvSpPr/>
          <p:nvPr/>
        </p:nvSpPr>
        <p:spPr>
          <a:xfrm>
            <a:off x="576360" y="2709720"/>
            <a:ext cx="0" cy="3240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8"/>
          <p:cNvSpPr/>
          <p:nvPr/>
        </p:nvSpPr>
        <p:spPr>
          <a:xfrm>
            <a:off x="576360" y="4257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576360" y="483408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1"/>
          <p:cNvSpPr/>
          <p:nvPr/>
        </p:nvSpPr>
        <p:spPr>
          <a:xfrm flipV="1">
            <a:off x="1727280" y="1449000"/>
            <a:ext cx="0" cy="42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2"/>
          <p:cNvSpPr/>
          <p:nvPr/>
        </p:nvSpPr>
        <p:spPr>
          <a:xfrm flipH="1">
            <a:off x="0" y="56624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3"/>
          <p:cNvSpPr/>
          <p:nvPr/>
        </p:nvSpPr>
        <p:spPr>
          <a:xfrm flipH="1">
            <a:off x="0" y="14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2050920" y="29401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UGAR A INTERVE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4824360" y="2960640"/>
            <a:ext cx="468360" cy="432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0" y="730080"/>
            <a:ext cx="21240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ANTECEDENTES PREVIOS COMUNA DE </a:t>
            </a:r>
            <a:r>
              <a:rPr b="1" lang="es-ES_tradnl" sz="1200" spc="-1" strike="noStrike">
                <a:solidFill>
                  <a:srgbClr val="99cc00"/>
                </a:solidFill>
                <a:latin typeface="Century Gothic"/>
                <a:ea typeface="ISOCT2"/>
              </a:rPr>
              <a:t>PUDAHUEL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RIVERA RIO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VIAS Y AUTOPISTA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( flujos vehiculares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de descan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AEROPUERT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( Flujos aéreos)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 de espera  y recr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7"/>
          <p:cNvSpPr/>
          <p:nvPr/>
        </p:nvSpPr>
        <p:spPr>
          <a:xfrm>
            <a:off x="6227640" y="2744640"/>
            <a:ext cx="2916360" cy="1692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71" name="Rectangle 9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"/>
          <p:cNvGrpSpPr/>
          <p:nvPr/>
        </p:nvGrpSpPr>
        <p:grpSpPr>
          <a:xfrm>
            <a:off x="-541440" y="579600"/>
            <a:ext cx="6172200" cy="6197400"/>
            <a:chOff x="-541440" y="579600"/>
            <a:chExt cx="6172200" cy="6197400"/>
          </a:xfrm>
        </p:grpSpPr>
        <p:graphicFrame>
          <p:nvGraphicFramePr>
            <p:cNvPr id="74" name="Object 13"/>
            <p:cNvGraphicFramePr/>
            <p:nvPr/>
          </p:nvGraphicFramePr>
          <p:xfrm>
            <a:off x="-541440" y="579600"/>
            <a:ext cx="6172200" cy="61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41440" y="579600"/>
                      <a:ext cx="6172200" cy="61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Line 14"/>
            <p:cNvSpPr/>
            <p:nvPr/>
          </p:nvSpPr>
          <p:spPr>
            <a:xfrm>
              <a:off x="-541440" y="3600360"/>
              <a:ext cx="2340000" cy="144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1563840" y="3024000"/>
              <a:ext cx="1871640" cy="1223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6"/>
          <p:cNvSpPr/>
          <p:nvPr/>
        </p:nvSpPr>
        <p:spPr>
          <a:xfrm>
            <a:off x="4608360" y="969840"/>
            <a:ext cx="461016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LUGAR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Acceso directo al río y mayor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osibilidades de acceso veh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Gran actividad cercana a la rivera ( vías y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eropuert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Limite íntercomunal      posibilidad de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                              relación intercomu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08360" y="5172120"/>
            <a:ext cx="453564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arle importancia a la ribera del río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cceso directo al 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Crear una continuidad entre las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comunas a través del río Mapoch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5364000" y="1123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364000" y="1555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40072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709308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5616720" y="5337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5616720" y="5769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5653080" y="623736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227640" y="2852640"/>
            <a:ext cx="2737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encuentra en la rivera del río. Es un sector eriazo, sin futuras ni actuales edificaciones debido a su cercanía al aeropuerto (vista aérea). Tiene una superficie de </a:t>
            </a: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268000m2 aproximada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0" y="762120"/>
            <a:ext cx="35989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INTERVENCIÓN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 de descanso, recreación y pa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verdes en el borde 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aseos y áreas libres para el flu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de permanencia (desca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Tratamiento de suelos, paisajismos, texturas atractivas para la vista aé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oseerá como actividad jerárquica un JARDIN BOTÁNICO, que hable de la identidad chilena (naturaleza autóctona). Dando alusión al carácter rural de la comu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47640" y="658332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rea de intervencion"/>
          <p:cNvPicPr/>
          <p:nvPr/>
        </p:nvPicPr>
        <p:blipFill>
          <a:blip r:embed="rId1"/>
          <a:stretch/>
        </p:blipFill>
        <p:spPr>
          <a:xfrm>
            <a:off x="3851280" y="692280"/>
            <a:ext cx="5292720" cy="36622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0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92" name="Rectangle 11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2"/>
          <p:cNvPicPr/>
          <p:nvPr/>
        </p:nvPicPr>
        <p:blipFill>
          <a:blip r:embed="rId2"/>
          <a:srcRect l="0" t="0" r="5354" b="0"/>
          <a:stretch/>
        </p:blipFill>
        <p:spPr>
          <a:xfrm>
            <a:off x="0" y="4797360"/>
            <a:ext cx="2519280" cy="177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urb_1"/>
          <p:cNvPicPr/>
          <p:nvPr/>
        </p:nvPicPr>
        <p:blipFill>
          <a:blip r:embed="rId3"/>
          <a:srcRect l="4193" t="0" r="5807" b="38373"/>
          <a:stretch/>
        </p:blipFill>
        <p:spPr>
          <a:xfrm>
            <a:off x="5256360" y="4834080"/>
            <a:ext cx="388764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urb_4"/>
          <p:cNvPicPr/>
          <p:nvPr/>
        </p:nvPicPr>
        <p:blipFill>
          <a:blip r:embed="rId4"/>
          <a:srcRect l="2579" t="3527" r="5210" b="0"/>
          <a:stretch/>
        </p:blipFill>
        <p:spPr>
          <a:xfrm>
            <a:off x="2629080" y="4834080"/>
            <a:ext cx="2555640" cy="173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3816360" y="658332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Proyecto Parque Fundación Puerta, Tecate. Mexic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-36360" y="6597720"/>
            <a:ext cx="35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Asahikawa Riverfront Park, Hokkaido Island, Jap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81 Rectángulo"/>
          <p:cNvSpPr/>
          <p:nvPr/>
        </p:nvSpPr>
        <p:spPr>
          <a:xfrm>
            <a:off x="0" y="6203880"/>
            <a:ext cx="3659040" cy="401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4"/>
          <p:cNvGrpSpPr/>
          <p:nvPr/>
        </p:nvGrpSpPr>
        <p:grpSpPr>
          <a:xfrm>
            <a:off x="3038400" y="692280"/>
            <a:ext cx="6297840" cy="4265640"/>
            <a:chOff x="3038400" y="692280"/>
            <a:chExt cx="6297840" cy="4265640"/>
          </a:xfrm>
        </p:grpSpPr>
        <p:pic>
          <p:nvPicPr>
            <p:cNvPr id="101" name="Picture 6" descr="con enea futuro"/>
            <p:cNvPicPr/>
            <p:nvPr/>
          </p:nvPicPr>
          <p:blipFill>
            <a:blip r:embed="rId1"/>
            <a:stretch/>
          </p:blipFill>
          <p:spPr>
            <a:xfrm>
              <a:off x="3038400" y="692280"/>
              <a:ext cx="6297840" cy="42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7"/>
            <p:cNvSpPr/>
            <p:nvPr/>
          </p:nvSpPr>
          <p:spPr>
            <a:xfrm flipH="1" flipV="1">
              <a:off x="5058720" y="2683080"/>
              <a:ext cx="144720" cy="231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H="1" flipV="1">
              <a:off x="5406480" y="2567160"/>
              <a:ext cx="85320" cy="115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 flipV="1">
              <a:off x="4566240" y="2827800"/>
              <a:ext cx="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 flipH="1" flipV="1">
              <a:off x="4042800" y="3001680"/>
              <a:ext cx="405360" cy="290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 flipH="1" flipV="1">
              <a:off x="3664800" y="3553560"/>
              <a:ext cx="348120" cy="20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H="1" flipV="1">
              <a:off x="5900400" y="1028880"/>
              <a:ext cx="57240" cy="405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 flipH="1" flipV="1">
              <a:off x="3694680" y="3873600"/>
              <a:ext cx="318240" cy="57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 flipH="1" flipV="1">
              <a:off x="6654240" y="1085760"/>
              <a:ext cx="5760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 flipH="1" flipV="1">
              <a:off x="5610960" y="1811880"/>
              <a:ext cx="289080" cy="5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581040" y="617400"/>
            <a:ext cx="183672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exist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65040" y="1050840"/>
            <a:ext cx="2174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365040" y="1482840"/>
            <a:ext cx="217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365040" y="763560"/>
            <a:ext cx="217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8000" y="6238800"/>
            <a:ext cx="34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istancia de edificación propuesta:     7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1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117" name="Rectangle 22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GENER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"/>
          <p:cNvPicPr/>
          <p:nvPr/>
        </p:nvPicPr>
        <p:blipFill>
          <a:blip r:embed="rId2"/>
          <a:stretch/>
        </p:blipFill>
        <p:spPr>
          <a:xfrm>
            <a:off x="4032360" y="5275440"/>
            <a:ext cx="5111640" cy="1393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6"/>
          <p:cNvSpPr/>
          <p:nvPr/>
        </p:nvSpPr>
        <p:spPr>
          <a:xfrm>
            <a:off x="4248000" y="6568920"/>
            <a:ext cx="49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Libro Neufert. “El arte de proyectar en Arquitectura”. Pag.3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7 Conector recto"/>
          <p:cNvSpPr/>
          <p:nvPr/>
        </p:nvSpPr>
        <p:spPr>
          <a:xfrm>
            <a:off x="8100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9 Conector recto"/>
          <p:cNvSpPr/>
          <p:nvPr/>
        </p:nvSpPr>
        <p:spPr>
          <a:xfrm>
            <a:off x="179280" y="1881360"/>
            <a:ext cx="0" cy="72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1 Conector recto"/>
          <p:cNvSpPr/>
          <p:nvPr/>
        </p:nvSpPr>
        <p:spPr>
          <a:xfrm>
            <a:off x="2843280" y="1881360"/>
            <a:ext cx="0" cy="712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6 Forma libre"/>
          <p:cNvSpPr/>
          <p:nvPr/>
        </p:nvSpPr>
        <p:spPr>
          <a:xfrm>
            <a:off x="179280" y="1882800"/>
            <a:ext cx="2664000" cy="8424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8 Conector recto"/>
          <p:cNvSpPr/>
          <p:nvPr/>
        </p:nvSpPr>
        <p:spPr>
          <a:xfrm>
            <a:off x="227160" y="4451400"/>
            <a:ext cx="9493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50 Conector recto"/>
          <p:cNvSpPr/>
          <p:nvPr/>
        </p:nvSpPr>
        <p:spPr>
          <a:xfrm>
            <a:off x="117648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51 Conector recto"/>
          <p:cNvSpPr/>
          <p:nvPr/>
        </p:nvSpPr>
        <p:spPr>
          <a:xfrm>
            <a:off x="1833480" y="4449600"/>
            <a:ext cx="94932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2 Conector recto"/>
          <p:cNvSpPr/>
          <p:nvPr/>
        </p:nvSpPr>
        <p:spPr>
          <a:xfrm flipH="1">
            <a:off x="1832040" y="4452840"/>
            <a:ext cx="144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3 Forma libre"/>
          <p:cNvSpPr/>
          <p:nvPr/>
        </p:nvSpPr>
        <p:spPr>
          <a:xfrm>
            <a:off x="1173240" y="4452840"/>
            <a:ext cx="660240" cy="4608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5 Conector recto"/>
          <p:cNvSpPr/>
          <p:nvPr/>
        </p:nvSpPr>
        <p:spPr>
          <a:xfrm flipV="1">
            <a:off x="292752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8 Conector recto"/>
          <p:cNvSpPr/>
          <p:nvPr/>
        </p:nvSpPr>
        <p:spPr>
          <a:xfrm>
            <a:off x="2928960" y="1785960"/>
            <a:ext cx="363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0 Conector recto"/>
          <p:cNvSpPr/>
          <p:nvPr/>
        </p:nvSpPr>
        <p:spPr>
          <a:xfrm>
            <a:off x="2965320" y="1785960"/>
            <a:ext cx="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2 Conector recto"/>
          <p:cNvSpPr/>
          <p:nvPr/>
        </p:nvSpPr>
        <p:spPr>
          <a:xfrm flipV="1">
            <a:off x="8100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63 Conector recto"/>
          <p:cNvSpPr/>
          <p:nvPr/>
        </p:nvSpPr>
        <p:spPr>
          <a:xfrm>
            <a:off x="44280" y="1785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4 Conector recto"/>
          <p:cNvSpPr/>
          <p:nvPr/>
        </p:nvSpPr>
        <p:spPr>
          <a:xfrm flipH="1">
            <a:off x="43920" y="1785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66 Conector recto"/>
          <p:cNvSpPr/>
          <p:nvPr/>
        </p:nvSpPr>
        <p:spPr>
          <a:xfrm>
            <a:off x="36360" y="3355920"/>
            <a:ext cx="190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70 Conector recto"/>
          <p:cNvSpPr/>
          <p:nvPr/>
        </p:nvSpPr>
        <p:spPr>
          <a:xfrm flipV="1">
            <a:off x="22716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2 Conector recto"/>
          <p:cNvSpPr/>
          <p:nvPr/>
        </p:nvSpPr>
        <p:spPr>
          <a:xfrm>
            <a:off x="227160" y="2260440"/>
            <a:ext cx="2555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3 Conector recto"/>
          <p:cNvSpPr/>
          <p:nvPr/>
        </p:nvSpPr>
        <p:spPr>
          <a:xfrm flipV="1">
            <a:off x="2782800" y="33555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4 Conector recto"/>
          <p:cNvSpPr/>
          <p:nvPr/>
        </p:nvSpPr>
        <p:spPr>
          <a:xfrm flipV="1">
            <a:off x="278280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5 Conector recto"/>
          <p:cNvSpPr/>
          <p:nvPr/>
        </p:nvSpPr>
        <p:spPr>
          <a:xfrm flipH="1">
            <a:off x="2817360" y="4341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6 Conector recto"/>
          <p:cNvSpPr/>
          <p:nvPr/>
        </p:nvSpPr>
        <p:spPr>
          <a:xfrm flipV="1">
            <a:off x="2638440" y="59097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87 Conector recto"/>
          <p:cNvSpPr/>
          <p:nvPr/>
        </p:nvSpPr>
        <p:spPr>
          <a:xfrm flipV="1">
            <a:off x="263700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0 Conector recto"/>
          <p:cNvSpPr/>
          <p:nvPr/>
        </p:nvSpPr>
        <p:spPr>
          <a:xfrm>
            <a:off x="190440" y="5911920"/>
            <a:ext cx="1810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1 Conector recto"/>
          <p:cNvSpPr/>
          <p:nvPr/>
        </p:nvSpPr>
        <p:spPr>
          <a:xfrm flipV="1">
            <a:off x="37296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2 Conector recto"/>
          <p:cNvSpPr/>
          <p:nvPr/>
        </p:nvSpPr>
        <p:spPr>
          <a:xfrm flipH="1">
            <a:off x="189000" y="4343400"/>
            <a:ext cx="1440" cy="1568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4 Conector recto"/>
          <p:cNvSpPr/>
          <p:nvPr/>
        </p:nvSpPr>
        <p:spPr>
          <a:xfrm>
            <a:off x="372960" y="4998960"/>
            <a:ext cx="22640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02 Conector recto"/>
          <p:cNvSpPr/>
          <p:nvPr/>
        </p:nvSpPr>
        <p:spPr>
          <a:xfrm flipV="1">
            <a:off x="27813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3 Conector recto"/>
          <p:cNvSpPr/>
          <p:nvPr/>
        </p:nvSpPr>
        <p:spPr>
          <a:xfrm>
            <a:off x="278280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04 Conector recto"/>
          <p:cNvSpPr/>
          <p:nvPr/>
        </p:nvSpPr>
        <p:spPr>
          <a:xfrm flipV="1">
            <a:off x="2271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05 Conector recto"/>
          <p:cNvSpPr/>
          <p:nvPr/>
        </p:nvSpPr>
        <p:spPr>
          <a:xfrm>
            <a:off x="19044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11 Conector recto"/>
          <p:cNvSpPr/>
          <p:nvPr/>
        </p:nvSpPr>
        <p:spPr>
          <a:xfrm flipV="1">
            <a:off x="2525760" y="4197240"/>
            <a:ext cx="1440" cy="29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12 Conector recto"/>
          <p:cNvSpPr/>
          <p:nvPr/>
        </p:nvSpPr>
        <p:spPr>
          <a:xfrm flipV="1">
            <a:off x="810360" y="4159080"/>
            <a:ext cx="1800" cy="2923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3 Conector recto"/>
          <p:cNvSpPr/>
          <p:nvPr/>
        </p:nvSpPr>
        <p:spPr>
          <a:xfrm flipV="1">
            <a:off x="518400" y="4012920"/>
            <a:ext cx="36360" cy="4381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15 Elipse"/>
          <p:cNvSpPr/>
          <p:nvPr/>
        </p:nvSpPr>
        <p:spPr>
          <a:xfrm>
            <a:off x="336600" y="3465360"/>
            <a:ext cx="474480" cy="7304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16 Elipse"/>
          <p:cNvSpPr/>
          <p:nvPr/>
        </p:nvSpPr>
        <p:spPr>
          <a:xfrm>
            <a:off x="592200" y="3720960"/>
            <a:ext cx="401400" cy="584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17 Elipse"/>
          <p:cNvSpPr/>
          <p:nvPr/>
        </p:nvSpPr>
        <p:spPr>
          <a:xfrm>
            <a:off x="2308320" y="3648240"/>
            <a:ext cx="474480" cy="620640"/>
          </a:xfrm>
          <a:prstGeom prst="ellipse">
            <a:avLst/>
          </a:prstGeom>
          <a:noFill/>
          <a:ln w="255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8 Rectángulo"/>
          <p:cNvSpPr/>
          <p:nvPr/>
        </p:nvSpPr>
        <p:spPr>
          <a:xfrm>
            <a:off x="127800" y="585468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19 Rectángulo"/>
          <p:cNvSpPr/>
          <p:nvPr/>
        </p:nvSpPr>
        <p:spPr>
          <a:xfrm>
            <a:off x="76680" y="3282840"/>
            <a:ext cx="25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7 Conector recto"/>
          <p:cNvSpPr/>
          <p:nvPr/>
        </p:nvSpPr>
        <p:spPr>
          <a:xfrm>
            <a:off x="284328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384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44000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7164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092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00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050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7352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4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5 mt.                                 3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50 Conector recto"/>
          <p:cNvSpPr/>
          <p:nvPr/>
        </p:nvSpPr>
        <p:spPr>
          <a:xfrm>
            <a:off x="117792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2 Conector recto"/>
          <p:cNvSpPr/>
          <p:nvPr/>
        </p:nvSpPr>
        <p:spPr>
          <a:xfrm flipH="1">
            <a:off x="1833120" y="4452840"/>
            <a:ext cx="180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6000" y="4616280"/>
            <a:ext cx="25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7344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600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108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5200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3636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35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80036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3280" y="4616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5 mt.                2 mt.                 2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rio mapocho en pudahuel copy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700200" y="1504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5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184" name="Rectangle 16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BankGothic Md BT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8"/>
          <p:cNvSpPr/>
          <p:nvPr/>
        </p:nvSpPr>
        <p:spPr>
          <a:xfrm>
            <a:off x="324000" y="1627200"/>
            <a:ext cx="85327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fragmentación espacial de las comunas de santiago provocan a su vez un ruptura de la  continuidad de la rivera del río Mapocho a actuado como obstáculo para el desarrollo de proyecto que abarque toda la longitud del r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río Mapocho actúa como una grieta dividiendo las comunas en norte y sur, esto se marca mas en esta comuna al no haber suficientes puentes que lo atravie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descuido del río Mapocho por parte de las autoridades a provocado a un olvido del río como opción para nuevos proyectos de desarrollo, y eso a su vez ha producido que los espacios borde río sean vendidos a pr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09:05Z</dcterms:created>
  <dc:creator>Lipszyc</dc:creator>
  <dc:description/>
  <dc:language>en-US</dc:language>
  <cp:lastModifiedBy>Lipszyc</cp:lastModifiedBy>
  <dcterms:modified xsi:type="dcterms:W3CDTF">2007-11-29T13:28:52Z</dcterms:modified>
  <cp:revision>13</cp:revision>
  <dc:subject/>
  <dc:title>Diapositiva 1</dc:title>
</cp:coreProperties>
</file>