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3AC-4095-4204-B924-F759B289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EA7-6AA6-412D-92E5-8C5FBD86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B29-6952-4ED5-A3B1-4F1E80FC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4EC-889D-4AD3-877F-33E8C6AE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1C4-CDD4-450D-A530-9F36E9EB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F0B-1D01-453F-8368-915EB730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0D7-9929-4DDD-A024-EE74C275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E18-4DEA-4033-8A0B-DE652C15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3AA-6EF3-442A-8306-79F5D94A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2AB-19B4-4B4F-A806-0AA4B5AE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15A-0C06-4648-B608-CB9A76BD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5A9-C849-4222-A212-4C40EC8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CFD3-EA21-478C-8287-2A4712333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limites udahuel"/>
          <p:cNvPicPr/>
          <p:nvPr/>
        </p:nvPicPr>
        <p:blipFill>
          <a:blip r:embed="rId1"/>
          <a:stretch/>
        </p:blipFill>
        <p:spPr>
          <a:xfrm>
            <a:off x="1992240" y="765000"/>
            <a:ext cx="7162920" cy="4926240"/>
          </a:xfrm>
          <a:prstGeom prst="rect">
            <a:avLst/>
          </a:prstGeom>
          <a:ln w="0">
            <a:noFill/>
          </a:ln>
        </p:spPr>
      </p:pic>
      <p:sp>
        <p:nvSpPr>
          <p:cNvPr id="42" name="Freeform 29"/>
          <p:cNvSpPr/>
          <p:nvPr/>
        </p:nvSpPr>
        <p:spPr>
          <a:xfrm>
            <a:off x="2016000" y="1038240"/>
            <a:ext cx="4680000" cy="411948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0"/>
          <p:cNvSpPr/>
          <p:nvPr/>
        </p:nvSpPr>
        <p:spPr>
          <a:xfrm>
            <a:off x="1727280" y="765000"/>
            <a:ext cx="298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6"/>
          <p:cNvGrpSpPr/>
          <p:nvPr/>
        </p:nvGrpSpPr>
        <p:grpSpPr>
          <a:xfrm>
            <a:off x="4111560" y="2770200"/>
            <a:ext cx="5068800" cy="2898360"/>
            <a:chOff x="4111560" y="2770200"/>
            <a:chExt cx="5068800" cy="2898360"/>
          </a:xfrm>
        </p:grpSpPr>
        <p:sp>
          <p:nvSpPr>
            <p:cNvPr id="45" name="Freeform 33"/>
            <p:cNvSpPr/>
            <p:nvPr/>
          </p:nvSpPr>
          <p:spPr>
            <a:xfrm>
              <a:off x="4111560" y="2962800"/>
              <a:ext cx="2748960" cy="17708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4"/>
            <p:cNvSpPr/>
            <p:nvPr/>
          </p:nvSpPr>
          <p:spPr>
            <a:xfrm>
              <a:off x="4422600" y="4734000"/>
              <a:ext cx="318240" cy="93456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5"/>
            <p:cNvSpPr/>
            <p:nvPr/>
          </p:nvSpPr>
          <p:spPr>
            <a:xfrm>
              <a:off x="6828480" y="2770200"/>
              <a:ext cx="2351880" cy="90180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42"/>
          <p:cNvSpPr/>
          <p:nvPr/>
        </p:nvSpPr>
        <p:spPr>
          <a:xfrm>
            <a:off x="0" y="6524640"/>
            <a:ext cx="9144000" cy="3603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scudoU"/>
          <p:cNvPicPr/>
          <p:nvPr/>
        </p:nvPicPr>
        <p:blipFill>
          <a:blip r:embed="rId2"/>
          <a:stretch/>
        </p:blipFill>
        <p:spPr>
          <a:xfrm>
            <a:off x="34920" y="6093000"/>
            <a:ext cx="297000" cy="693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4920" y="6597720"/>
            <a:ext cx="936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Century Gothic"/>
              </a:rPr>
              <a:t>UNIVERSIDAD DE CHILE</a:t>
            </a:r>
            <a:r>
              <a:rPr b="0" lang="es-ES_tradnl" sz="1100" spc="-1" strike="noStrike">
                <a:solidFill>
                  <a:srgbClr val="ffffff"/>
                </a:solidFill>
                <a:latin typeface="Century Gothic"/>
              </a:rPr>
              <a:t>__Urbanismo II__Prof. Arqto. Dra. Ma. I. Pavez__Alumnos: David Lipszyc, Fernanda Sagredo, Aileen Steinm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5"/>
          <p:cNvGrpSpPr/>
          <p:nvPr/>
        </p:nvGrpSpPr>
        <p:grpSpPr>
          <a:xfrm>
            <a:off x="0" y="0"/>
            <a:ext cx="9144000" cy="476280"/>
            <a:chOff x="0" y="0"/>
            <a:chExt cx="9144000" cy="476280"/>
          </a:xfrm>
        </p:grpSpPr>
        <p:sp>
          <p:nvSpPr>
            <p:cNvPr id="52" name="Rectangle 43"/>
            <p:cNvSpPr/>
            <p:nvPr/>
          </p:nvSpPr>
          <p:spPr>
            <a:xfrm>
              <a:off x="0" y="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3"/>
            <p:cNvSpPr/>
            <p:nvPr/>
          </p:nvSpPr>
          <p:spPr>
            <a:xfrm>
              <a:off x="179280" y="0"/>
              <a:ext cx="8964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ffffff"/>
                  </a:solidFill>
                  <a:latin typeface="BankGothic Md BT"/>
                </a:rPr>
                <a:t>“</a:t>
              </a:r>
              <a:r>
                <a:rPr b="0" lang="es-CL" sz="1100" spc="-1" strike="noStrike">
                  <a:solidFill>
                    <a:srgbClr val="ffffff"/>
                  </a:solidFill>
                  <a:latin typeface="BankGothic Md BT"/>
                </a:rPr>
                <a:t>Anteproyecto de las ideas de ordenamiento territorial ambientalmente sustentable en el sector recreacional para los frentes de comunas entre la cordillera de los andes y la cordillera de la costa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40"/>
          <p:cNvGrpSpPr/>
          <p:nvPr/>
        </p:nvGrpSpPr>
        <p:grpSpPr>
          <a:xfrm>
            <a:off x="6659640" y="5805360"/>
            <a:ext cx="2414160" cy="477720"/>
            <a:chOff x="6659640" y="5805360"/>
            <a:chExt cx="2414160" cy="477720"/>
          </a:xfrm>
        </p:grpSpPr>
        <p:sp>
          <p:nvSpPr>
            <p:cNvPr id="55" name="Rectangle 37"/>
            <p:cNvSpPr/>
            <p:nvPr/>
          </p:nvSpPr>
          <p:spPr>
            <a:xfrm>
              <a:off x="6659640" y="6092640"/>
              <a:ext cx="198720" cy="107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38"/>
            <p:cNvSpPr/>
            <p:nvPr/>
          </p:nvSpPr>
          <p:spPr>
            <a:xfrm>
              <a:off x="6659640" y="5876640"/>
              <a:ext cx="198720" cy="10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39"/>
            <p:cNvSpPr/>
            <p:nvPr/>
          </p:nvSpPr>
          <p:spPr>
            <a:xfrm>
              <a:off x="6936840" y="5805360"/>
              <a:ext cx="21369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entury Gothic"/>
                </a:rPr>
                <a:t>Corredor fluvial río Mapoch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entury Gothic"/>
                </a:rPr>
                <a:t>Limite comuna de Pudahu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Line 50"/>
          <p:cNvSpPr/>
          <p:nvPr/>
        </p:nvSpPr>
        <p:spPr>
          <a:xfrm>
            <a:off x="1727280" y="3178080"/>
            <a:ext cx="33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5"/>
          <p:cNvSpPr/>
          <p:nvPr/>
        </p:nvSpPr>
        <p:spPr>
          <a:xfrm>
            <a:off x="576360" y="2133720"/>
            <a:ext cx="0" cy="3236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6"/>
          <p:cNvSpPr/>
          <p:nvPr/>
        </p:nvSpPr>
        <p:spPr>
          <a:xfrm>
            <a:off x="576360" y="2709720"/>
            <a:ext cx="0" cy="3240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8"/>
          <p:cNvSpPr/>
          <p:nvPr/>
        </p:nvSpPr>
        <p:spPr>
          <a:xfrm>
            <a:off x="576360" y="4257720"/>
            <a:ext cx="0" cy="3236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576360" y="4834080"/>
            <a:ext cx="0" cy="3236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1"/>
          <p:cNvSpPr/>
          <p:nvPr/>
        </p:nvSpPr>
        <p:spPr>
          <a:xfrm flipV="1">
            <a:off x="1727280" y="1449000"/>
            <a:ext cx="0" cy="42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2"/>
          <p:cNvSpPr/>
          <p:nvPr/>
        </p:nvSpPr>
        <p:spPr>
          <a:xfrm flipH="1">
            <a:off x="0" y="56624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3"/>
          <p:cNvSpPr/>
          <p:nvPr/>
        </p:nvSpPr>
        <p:spPr>
          <a:xfrm flipH="1">
            <a:off x="0" y="1449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4"/>
          <p:cNvSpPr/>
          <p:nvPr/>
        </p:nvSpPr>
        <p:spPr>
          <a:xfrm>
            <a:off x="2050920" y="2940120"/>
            <a:ext cx="27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UGAR A INTERVEN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7"/>
          <p:cNvSpPr/>
          <p:nvPr/>
        </p:nvSpPr>
        <p:spPr>
          <a:xfrm>
            <a:off x="4824360" y="2960640"/>
            <a:ext cx="468360" cy="432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0" y="730080"/>
            <a:ext cx="212400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ANTECEDENTES PREVIOS COMUNA DE </a:t>
            </a:r>
            <a:r>
              <a:rPr b="1" lang="es-ES_tradnl" sz="1200" spc="-1" strike="noStrike">
                <a:solidFill>
                  <a:srgbClr val="99cc00"/>
                </a:solidFill>
                <a:latin typeface="Century Gothic"/>
                <a:ea typeface="ISOCT2"/>
              </a:rPr>
              <a:t>PUDAHUEL </a:t>
            </a:r>
            <a:r>
              <a:rPr b="1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RIVERA RIO MAPO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entury Gothic"/>
                <a:ea typeface="ISOCT2"/>
              </a:rPr>
              <a:t>VIAS Y AUTOPISTAS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( flujos vehiculares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Necesidad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Lugar de descan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entury Gothic"/>
                <a:ea typeface="ISOCT2"/>
              </a:rPr>
              <a:t>AEROPUERTO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( Flujos aéreos)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Neces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Lugar  de espera  y recre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7"/>
          <p:cNvSpPr/>
          <p:nvPr/>
        </p:nvSpPr>
        <p:spPr>
          <a:xfrm>
            <a:off x="6227640" y="2744640"/>
            <a:ext cx="2916360" cy="1692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0" y="0"/>
            <a:ext cx="9144000" cy="476280"/>
            <a:chOff x="0" y="0"/>
            <a:chExt cx="9144000" cy="476280"/>
          </a:xfrm>
        </p:grpSpPr>
        <p:sp>
          <p:nvSpPr>
            <p:cNvPr id="71" name="Rectangle 9"/>
            <p:cNvSpPr/>
            <p:nvPr/>
          </p:nvSpPr>
          <p:spPr>
            <a:xfrm>
              <a:off x="0" y="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179280" y="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BankGothic Md BT"/>
                </a:rPr>
                <a:t>INTERVENCION PUNTUAL COMUNA DE PUDAHU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6"/>
          <p:cNvGrpSpPr/>
          <p:nvPr/>
        </p:nvGrpSpPr>
        <p:grpSpPr>
          <a:xfrm>
            <a:off x="-541440" y="579600"/>
            <a:ext cx="6172200" cy="6197400"/>
            <a:chOff x="-541440" y="579600"/>
            <a:chExt cx="6172200" cy="6197400"/>
          </a:xfrm>
        </p:grpSpPr>
        <p:graphicFrame>
          <p:nvGraphicFramePr>
            <p:cNvPr id="74" name="Object 13"/>
            <p:cNvGraphicFramePr/>
            <p:nvPr/>
          </p:nvGraphicFramePr>
          <p:xfrm>
            <a:off x="-541440" y="579600"/>
            <a:ext cx="6172200" cy="61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41440" y="579600"/>
                      <a:ext cx="6172200" cy="61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Line 14"/>
            <p:cNvSpPr/>
            <p:nvPr/>
          </p:nvSpPr>
          <p:spPr>
            <a:xfrm>
              <a:off x="-541440" y="3600360"/>
              <a:ext cx="2340000" cy="1440"/>
            </a:xfrm>
            <a:prstGeom prst="line">
              <a:avLst/>
            </a:prstGeom>
            <a:ln w="8892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"/>
            <p:cNvSpPr/>
            <p:nvPr/>
          </p:nvSpPr>
          <p:spPr>
            <a:xfrm>
              <a:off x="1563840" y="3024000"/>
              <a:ext cx="1871640" cy="12236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6"/>
          <p:cNvSpPr/>
          <p:nvPr/>
        </p:nvSpPr>
        <p:spPr>
          <a:xfrm>
            <a:off x="4608360" y="969840"/>
            <a:ext cx="461016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entury Gothic"/>
              </a:rPr>
              <a:t>LUGAR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 Acceso directo al río y mayor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osibilidades de acceso veh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Gran actividad cercana a la rivera ( vías y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eropuerto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Limite íntercomunal      posibilidad de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                               relación intercomu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08360" y="5172120"/>
            <a:ext cx="453564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arle importancia a la ribera del río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Mapo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cceso directo al 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Crear una continuidad entre las </a:t>
            </a:r>
            <a:r>
              <a:rPr b="1" lang="es-ES_tradnl" sz="1200" spc="-1" strike="noStrike">
                <a:solidFill>
                  <a:srgbClr val="000000"/>
                </a:solidFill>
                <a:latin typeface="Century Gothic"/>
              </a:rPr>
              <a:t>OBJETIVOS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comunas a través del río Mapocho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5364000" y="1123920"/>
            <a:ext cx="179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364000" y="1555920"/>
            <a:ext cx="179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5400720" y="202392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7093080" y="202392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5616720" y="533700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5616720" y="576900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5653080" y="623736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6227640" y="2852640"/>
            <a:ext cx="2737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entury Gothic"/>
              </a:rPr>
              <a:t>CARACTERÍ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Se encuentra en la rivera del río. Es un sector eriazo, sin futuras ni actuales edificaciones debido a su cercanía al aeropuerto (vista aérea). Tiene una superficie de </a:t>
            </a:r>
            <a:r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268000m2 aproximadam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6360" y="762120"/>
            <a:ext cx="359892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INTERVENCIÓN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rea de descanso, recreación y pas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reas verdes en el borde rí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Paseos y áreas libres para el flu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reas de permanencia (descan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Tratamiento de suelos, paisajismos, texturas atractivas para la vista aé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Poseerá como actividad jerárquica un JARDIN BOTÁNICO, que hable de la identidad chilena (naturaleza autóctona). Dando alusión al carácter rural de la comu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547640" y="658332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rea de intervencion"/>
          <p:cNvPicPr/>
          <p:nvPr/>
        </p:nvPicPr>
        <p:blipFill>
          <a:blip r:embed="rId1"/>
          <a:stretch/>
        </p:blipFill>
        <p:spPr>
          <a:xfrm>
            <a:off x="3851280" y="692280"/>
            <a:ext cx="5292720" cy="36622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0"/>
          <p:cNvGrpSpPr/>
          <p:nvPr/>
        </p:nvGrpSpPr>
        <p:grpSpPr>
          <a:xfrm>
            <a:off x="0" y="-27000"/>
            <a:ext cx="9144000" cy="476280"/>
            <a:chOff x="0" y="-27000"/>
            <a:chExt cx="9144000" cy="476280"/>
          </a:xfrm>
        </p:grpSpPr>
        <p:sp>
          <p:nvSpPr>
            <p:cNvPr id="92" name="Rectangle 11"/>
            <p:cNvSpPr/>
            <p:nvPr/>
          </p:nvSpPr>
          <p:spPr>
            <a:xfrm>
              <a:off x="0" y="-2700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179280" y="-2700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BankGothic Md BT"/>
                </a:rPr>
                <a:t>INTERVENCION PUNTUAL COMUNA DE PUDAHU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3" descr="2"/>
          <p:cNvPicPr/>
          <p:nvPr/>
        </p:nvPicPr>
        <p:blipFill>
          <a:blip r:embed="rId2"/>
          <a:srcRect l="0" t="0" r="5354" b="0"/>
          <a:stretch/>
        </p:blipFill>
        <p:spPr>
          <a:xfrm>
            <a:off x="0" y="4797360"/>
            <a:ext cx="2519280" cy="177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urb_1"/>
          <p:cNvPicPr/>
          <p:nvPr/>
        </p:nvPicPr>
        <p:blipFill>
          <a:blip r:embed="rId3"/>
          <a:srcRect l="4193" t="0" r="5807" b="38373"/>
          <a:stretch/>
        </p:blipFill>
        <p:spPr>
          <a:xfrm>
            <a:off x="5256360" y="4834080"/>
            <a:ext cx="3887640" cy="1728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urb_4"/>
          <p:cNvPicPr/>
          <p:nvPr/>
        </p:nvPicPr>
        <p:blipFill>
          <a:blip r:embed="rId4"/>
          <a:srcRect l="2579" t="3527" r="5210" b="0"/>
          <a:stretch/>
        </p:blipFill>
        <p:spPr>
          <a:xfrm>
            <a:off x="2629080" y="4834080"/>
            <a:ext cx="2555640" cy="173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7"/>
          <p:cNvSpPr/>
          <p:nvPr/>
        </p:nvSpPr>
        <p:spPr>
          <a:xfrm>
            <a:off x="3816360" y="6583320"/>
            <a:ext cx="50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Proyecto Parque Fundación Puerta, Tecate. Mexic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-36360" y="6597720"/>
            <a:ext cx="356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Asahikawa Riverfront Park, Hokkaido Island, Jap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81 Rectángulo"/>
          <p:cNvSpPr/>
          <p:nvPr/>
        </p:nvSpPr>
        <p:spPr>
          <a:xfrm>
            <a:off x="0" y="6203880"/>
            <a:ext cx="3659040" cy="401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4"/>
          <p:cNvGrpSpPr/>
          <p:nvPr/>
        </p:nvGrpSpPr>
        <p:grpSpPr>
          <a:xfrm>
            <a:off x="3038400" y="692280"/>
            <a:ext cx="6297840" cy="4265640"/>
            <a:chOff x="3038400" y="692280"/>
            <a:chExt cx="6297840" cy="4265640"/>
          </a:xfrm>
        </p:grpSpPr>
        <p:pic>
          <p:nvPicPr>
            <p:cNvPr id="101" name="Picture 6" descr="con enea futuro"/>
            <p:cNvPicPr/>
            <p:nvPr/>
          </p:nvPicPr>
          <p:blipFill>
            <a:blip r:embed="rId1"/>
            <a:stretch/>
          </p:blipFill>
          <p:spPr>
            <a:xfrm>
              <a:off x="3038400" y="692280"/>
              <a:ext cx="6297840" cy="42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Line 7"/>
            <p:cNvSpPr/>
            <p:nvPr/>
          </p:nvSpPr>
          <p:spPr>
            <a:xfrm flipH="1" flipV="1">
              <a:off x="5058720" y="2683080"/>
              <a:ext cx="144720" cy="2314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 flipH="1" flipV="1">
              <a:off x="5406480" y="2567160"/>
              <a:ext cx="85320" cy="115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9"/>
            <p:cNvSpPr/>
            <p:nvPr/>
          </p:nvSpPr>
          <p:spPr>
            <a:xfrm flipV="1">
              <a:off x="4566240" y="2827800"/>
              <a:ext cx="0" cy="289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0"/>
            <p:cNvSpPr/>
            <p:nvPr/>
          </p:nvSpPr>
          <p:spPr>
            <a:xfrm flipH="1" flipV="1">
              <a:off x="4042800" y="3001680"/>
              <a:ext cx="405360" cy="2905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2"/>
            <p:cNvSpPr/>
            <p:nvPr/>
          </p:nvSpPr>
          <p:spPr>
            <a:xfrm flipH="1" flipV="1">
              <a:off x="3664800" y="3553560"/>
              <a:ext cx="348120" cy="201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 flipH="1" flipV="1">
              <a:off x="5900400" y="1028880"/>
              <a:ext cx="57240" cy="405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4"/>
            <p:cNvSpPr/>
            <p:nvPr/>
          </p:nvSpPr>
          <p:spPr>
            <a:xfrm flipH="1" flipV="1">
              <a:off x="3694680" y="3873600"/>
              <a:ext cx="318240" cy="57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 flipH="1" flipV="1">
              <a:off x="6654240" y="1085760"/>
              <a:ext cx="57600" cy="405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6"/>
            <p:cNvSpPr/>
            <p:nvPr/>
          </p:nvSpPr>
          <p:spPr>
            <a:xfrm flipH="1" flipV="1">
              <a:off x="5610960" y="1811880"/>
              <a:ext cx="289080" cy="5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5"/>
          <p:cNvSpPr/>
          <p:nvPr/>
        </p:nvSpPr>
        <p:spPr>
          <a:xfrm>
            <a:off x="581040" y="617400"/>
            <a:ext cx="183672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exist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peaton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vehicula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365040" y="1050840"/>
            <a:ext cx="2174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365040" y="1482840"/>
            <a:ext cx="217440" cy="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365040" y="763560"/>
            <a:ext cx="217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8000" y="6238800"/>
            <a:ext cx="34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istancia de edificación propuesta:     7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1"/>
          <p:cNvGrpSpPr/>
          <p:nvPr/>
        </p:nvGrpSpPr>
        <p:grpSpPr>
          <a:xfrm>
            <a:off x="0" y="0"/>
            <a:ext cx="9144000" cy="476280"/>
            <a:chOff x="0" y="0"/>
            <a:chExt cx="9144000" cy="476280"/>
          </a:xfrm>
        </p:grpSpPr>
        <p:sp>
          <p:nvSpPr>
            <p:cNvPr id="117" name="Rectangle 22"/>
            <p:cNvSpPr/>
            <p:nvPr/>
          </p:nvSpPr>
          <p:spPr>
            <a:xfrm>
              <a:off x="0" y="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179280" y="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BankGothic Md BT"/>
                </a:rPr>
                <a:t>INTERVENCION GENERAL COMUNA DE PUDAHU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5" descr=""/>
          <p:cNvPicPr/>
          <p:nvPr/>
        </p:nvPicPr>
        <p:blipFill>
          <a:blip r:embed="rId2"/>
          <a:stretch/>
        </p:blipFill>
        <p:spPr>
          <a:xfrm>
            <a:off x="4032360" y="5275440"/>
            <a:ext cx="5111640" cy="1393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6"/>
          <p:cNvSpPr/>
          <p:nvPr/>
        </p:nvSpPr>
        <p:spPr>
          <a:xfrm>
            <a:off x="4248000" y="6568920"/>
            <a:ext cx="49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Libro Neufert. “El arte de proyectar en Arquitectura”. Pag.3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7 Conector recto"/>
          <p:cNvSpPr/>
          <p:nvPr/>
        </p:nvSpPr>
        <p:spPr>
          <a:xfrm>
            <a:off x="81000" y="1881360"/>
            <a:ext cx="9828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9 Conector recto"/>
          <p:cNvSpPr/>
          <p:nvPr/>
        </p:nvSpPr>
        <p:spPr>
          <a:xfrm>
            <a:off x="179280" y="1881360"/>
            <a:ext cx="0" cy="72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1 Conector recto"/>
          <p:cNvSpPr/>
          <p:nvPr/>
        </p:nvSpPr>
        <p:spPr>
          <a:xfrm>
            <a:off x="2843280" y="1881360"/>
            <a:ext cx="0" cy="7128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46 Forma libre"/>
          <p:cNvSpPr/>
          <p:nvPr/>
        </p:nvSpPr>
        <p:spPr>
          <a:xfrm>
            <a:off x="179280" y="1882800"/>
            <a:ext cx="2664000" cy="8424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8 Conector recto"/>
          <p:cNvSpPr/>
          <p:nvPr/>
        </p:nvSpPr>
        <p:spPr>
          <a:xfrm>
            <a:off x="227160" y="4451400"/>
            <a:ext cx="9493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50 Conector recto"/>
          <p:cNvSpPr/>
          <p:nvPr/>
        </p:nvSpPr>
        <p:spPr>
          <a:xfrm>
            <a:off x="1176480" y="4451400"/>
            <a:ext cx="0" cy="36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51 Conector recto"/>
          <p:cNvSpPr/>
          <p:nvPr/>
        </p:nvSpPr>
        <p:spPr>
          <a:xfrm>
            <a:off x="1833480" y="4449600"/>
            <a:ext cx="949320" cy="18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2 Conector recto"/>
          <p:cNvSpPr/>
          <p:nvPr/>
        </p:nvSpPr>
        <p:spPr>
          <a:xfrm flipH="1">
            <a:off x="1832040" y="4452840"/>
            <a:ext cx="1440" cy="34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53 Forma libre"/>
          <p:cNvSpPr/>
          <p:nvPr/>
        </p:nvSpPr>
        <p:spPr>
          <a:xfrm>
            <a:off x="1173240" y="4452840"/>
            <a:ext cx="660240" cy="4608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5 Conector recto"/>
          <p:cNvSpPr/>
          <p:nvPr/>
        </p:nvSpPr>
        <p:spPr>
          <a:xfrm flipV="1">
            <a:off x="2927520" y="178596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58 Conector recto"/>
          <p:cNvSpPr/>
          <p:nvPr/>
        </p:nvSpPr>
        <p:spPr>
          <a:xfrm>
            <a:off x="2928960" y="1785960"/>
            <a:ext cx="363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60 Conector recto"/>
          <p:cNvSpPr/>
          <p:nvPr/>
        </p:nvSpPr>
        <p:spPr>
          <a:xfrm>
            <a:off x="2965320" y="1785960"/>
            <a:ext cx="0" cy="1569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62 Conector recto"/>
          <p:cNvSpPr/>
          <p:nvPr/>
        </p:nvSpPr>
        <p:spPr>
          <a:xfrm flipV="1">
            <a:off x="81000" y="178596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63 Conector recto"/>
          <p:cNvSpPr/>
          <p:nvPr/>
        </p:nvSpPr>
        <p:spPr>
          <a:xfrm>
            <a:off x="44280" y="1785960"/>
            <a:ext cx="367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64 Conector recto"/>
          <p:cNvSpPr/>
          <p:nvPr/>
        </p:nvSpPr>
        <p:spPr>
          <a:xfrm flipH="1">
            <a:off x="43920" y="1785960"/>
            <a:ext cx="1800" cy="1569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66 Conector recto"/>
          <p:cNvSpPr/>
          <p:nvPr/>
        </p:nvSpPr>
        <p:spPr>
          <a:xfrm>
            <a:off x="36360" y="3355920"/>
            <a:ext cx="19080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70 Conector recto"/>
          <p:cNvSpPr/>
          <p:nvPr/>
        </p:nvSpPr>
        <p:spPr>
          <a:xfrm flipV="1">
            <a:off x="227160" y="2260080"/>
            <a:ext cx="0" cy="1095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72 Conector recto"/>
          <p:cNvSpPr/>
          <p:nvPr/>
        </p:nvSpPr>
        <p:spPr>
          <a:xfrm>
            <a:off x="227160" y="2260440"/>
            <a:ext cx="2555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3 Conector recto"/>
          <p:cNvSpPr/>
          <p:nvPr/>
        </p:nvSpPr>
        <p:spPr>
          <a:xfrm flipV="1">
            <a:off x="2782800" y="3355560"/>
            <a:ext cx="1810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4 Conector recto"/>
          <p:cNvSpPr/>
          <p:nvPr/>
        </p:nvSpPr>
        <p:spPr>
          <a:xfrm flipV="1">
            <a:off x="2782800" y="2260080"/>
            <a:ext cx="0" cy="1095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85 Conector recto"/>
          <p:cNvSpPr/>
          <p:nvPr/>
        </p:nvSpPr>
        <p:spPr>
          <a:xfrm flipH="1">
            <a:off x="2817360" y="4341960"/>
            <a:ext cx="1800" cy="1569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86 Conector recto"/>
          <p:cNvSpPr/>
          <p:nvPr/>
        </p:nvSpPr>
        <p:spPr>
          <a:xfrm flipV="1">
            <a:off x="2638440" y="5909760"/>
            <a:ext cx="1810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87 Conector recto"/>
          <p:cNvSpPr/>
          <p:nvPr/>
        </p:nvSpPr>
        <p:spPr>
          <a:xfrm flipV="1">
            <a:off x="2637000" y="4998960"/>
            <a:ext cx="0" cy="91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90 Conector recto"/>
          <p:cNvSpPr/>
          <p:nvPr/>
        </p:nvSpPr>
        <p:spPr>
          <a:xfrm>
            <a:off x="190440" y="5911920"/>
            <a:ext cx="1810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91 Conector recto"/>
          <p:cNvSpPr/>
          <p:nvPr/>
        </p:nvSpPr>
        <p:spPr>
          <a:xfrm flipV="1">
            <a:off x="372960" y="4998960"/>
            <a:ext cx="0" cy="91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92 Conector recto"/>
          <p:cNvSpPr/>
          <p:nvPr/>
        </p:nvSpPr>
        <p:spPr>
          <a:xfrm flipH="1">
            <a:off x="189000" y="4343400"/>
            <a:ext cx="1440" cy="1568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94 Conector recto"/>
          <p:cNvSpPr/>
          <p:nvPr/>
        </p:nvSpPr>
        <p:spPr>
          <a:xfrm>
            <a:off x="372960" y="4998960"/>
            <a:ext cx="22640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02 Conector recto"/>
          <p:cNvSpPr/>
          <p:nvPr/>
        </p:nvSpPr>
        <p:spPr>
          <a:xfrm flipV="1">
            <a:off x="2781360" y="434340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03 Conector recto"/>
          <p:cNvSpPr/>
          <p:nvPr/>
        </p:nvSpPr>
        <p:spPr>
          <a:xfrm>
            <a:off x="2782800" y="4341960"/>
            <a:ext cx="367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04 Conector recto"/>
          <p:cNvSpPr/>
          <p:nvPr/>
        </p:nvSpPr>
        <p:spPr>
          <a:xfrm flipV="1">
            <a:off x="227160" y="434340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05 Conector recto"/>
          <p:cNvSpPr/>
          <p:nvPr/>
        </p:nvSpPr>
        <p:spPr>
          <a:xfrm>
            <a:off x="190440" y="4341960"/>
            <a:ext cx="367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11 Conector recto"/>
          <p:cNvSpPr/>
          <p:nvPr/>
        </p:nvSpPr>
        <p:spPr>
          <a:xfrm flipV="1">
            <a:off x="2525760" y="4197240"/>
            <a:ext cx="1440" cy="292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12 Conector recto"/>
          <p:cNvSpPr/>
          <p:nvPr/>
        </p:nvSpPr>
        <p:spPr>
          <a:xfrm flipV="1">
            <a:off x="810360" y="4159080"/>
            <a:ext cx="1800" cy="29232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13 Conector recto"/>
          <p:cNvSpPr/>
          <p:nvPr/>
        </p:nvSpPr>
        <p:spPr>
          <a:xfrm flipV="1">
            <a:off x="518400" y="4012920"/>
            <a:ext cx="36360" cy="43812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15 Elipse"/>
          <p:cNvSpPr/>
          <p:nvPr/>
        </p:nvSpPr>
        <p:spPr>
          <a:xfrm>
            <a:off x="336600" y="3465360"/>
            <a:ext cx="474480" cy="73044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16 Elipse"/>
          <p:cNvSpPr/>
          <p:nvPr/>
        </p:nvSpPr>
        <p:spPr>
          <a:xfrm>
            <a:off x="592200" y="3720960"/>
            <a:ext cx="401400" cy="5842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17 Elipse"/>
          <p:cNvSpPr/>
          <p:nvPr/>
        </p:nvSpPr>
        <p:spPr>
          <a:xfrm>
            <a:off x="2308320" y="3648240"/>
            <a:ext cx="474480" cy="620640"/>
          </a:xfrm>
          <a:prstGeom prst="ellipse">
            <a:avLst/>
          </a:prstGeom>
          <a:noFill/>
          <a:ln w="255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18 Rectángulo"/>
          <p:cNvSpPr/>
          <p:nvPr/>
        </p:nvSpPr>
        <p:spPr>
          <a:xfrm>
            <a:off x="127800" y="5854680"/>
            <a:ext cx="25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peaton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19 Rectángulo"/>
          <p:cNvSpPr/>
          <p:nvPr/>
        </p:nvSpPr>
        <p:spPr>
          <a:xfrm>
            <a:off x="76680" y="3282840"/>
            <a:ext cx="25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vehicula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7 Conector recto"/>
          <p:cNvSpPr/>
          <p:nvPr/>
        </p:nvSpPr>
        <p:spPr>
          <a:xfrm>
            <a:off x="2843280" y="1881360"/>
            <a:ext cx="9828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23842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440000" y="234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771640" y="234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50920" y="234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16000" y="2349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405080" y="2349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735280" y="2349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492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.5 mt.                                 3.5 mt.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50 Conector recto"/>
          <p:cNvSpPr/>
          <p:nvPr/>
        </p:nvSpPr>
        <p:spPr>
          <a:xfrm>
            <a:off x="1177920" y="4451400"/>
            <a:ext cx="0" cy="36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52 Conector recto"/>
          <p:cNvSpPr/>
          <p:nvPr/>
        </p:nvSpPr>
        <p:spPr>
          <a:xfrm flipH="1">
            <a:off x="1833120" y="4452840"/>
            <a:ext cx="1800" cy="34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6000" y="4616280"/>
            <a:ext cx="25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77344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1600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81080" y="45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52000" y="458136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736360" y="458136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3528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800360" y="45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3280" y="46162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.5 mt.                2 mt.                 2.5 mt.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rio mapocho en pudahuel copy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1"/>
          <p:cNvSpPr/>
          <p:nvPr/>
        </p:nvSpPr>
        <p:spPr>
          <a:xfrm>
            <a:off x="700200" y="1504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5"/>
          <p:cNvGrpSpPr/>
          <p:nvPr/>
        </p:nvGrpSpPr>
        <p:grpSpPr>
          <a:xfrm>
            <a:off x="0" y="-27000"/>
            <a:ext cx="9144000" cy="476280"/>
            <a:chOff x="0" y="-27000"/>
            <a:chExt cx="9144000" cy="476280"/>
          </a:xfrm>
        </p:grpSpPr>
        <p:sp>
          <p:nvSpPr>
            <p:cNvPr id="184" name="Rectangle 16"/>
            <p:cNvSpPr/>
            <p:nvPr/>
          </p:nvSpPr>
          <p:spPr>
            <a:xfrm>
              <a:off x="0" y="-2700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7"/>
            <p:cNvSpPr/>
            <p:nvPr/>
          </p:nvSpPr>
          <p:spPr>
            <a:xfrm>
              <a:off x="179280" y="-2700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BankGothic Md BT"/>
                </a:rPr>
                <a:t>CONCLU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8"/>
          <p:cNvSpPr/>
          <p:nvPr/>
        </p:nvSpPr>
        <p:spPr>
          <a:xfrm>
            <a:off x="324000" y="1627200"/>
            <a:ext cx="853272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a fragmentación espacial de las comunas de santiago provocan a su vez un ruptura de la  continuidad de la rivera del río Mapocho a actuado como obstáculo para el desarrollo de proyecto que abarque toda la longitud del r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El río Mapocho actúa como una grieta dividiendo las comunas en norte y sur, esto se marca mas en esta comuna al no haber suficientes puentes que lo atravies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El descuido del río Mapocho por parte de las autoridades a provocado a un olvido del río como opción para nuevos proyectos de desarrollo, y eso a su vez ha producido que los espacios borde río sean vendidos a pr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4:09:05Z</dcterms:created>
  <dc:creator>Lipszyc</dc:creator>
  <dc:description/>
  <dc:language>en-US</dc:language>
  <cp:lastModifiedBy>Lipszyc</cp:lastModifiedBy>
  <dcterms:modified xsi:type="dcterms:W3CDTF">2007-11-29T13:28:52Z</dcterms:modified>
  <cp:revision>13</cp:revision>
  <dc:subject/>
  <dc:title>Diapositiva 1</dc:title>
</cp:coreProperties>
</file>