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4.jpeg" ContentType="image/jpeg"/>
  <Override PartName="/ppt/media/image25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9BF-AEB6-4D7B-9794-8BBBE153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D4B-06F1-4F5A-B5C6-F89D9BA5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4FC-343C-423F-A636-73B62479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581-A184-44C2-B3D8-9A09E8D3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13E-7D77-4F9A-A3CE-384FF574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B68-E055-4009-A03A-144F4415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345-D716-4FB9-A1BF-EB93C1F2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EA9-8911-4CE7-8BDE-8548E505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8FC-8D92-40B0-B592-6D81B2B7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0EE-DD74-4A95-BF1A-A7EF8603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F74-AF13-4238-A54E-40E2C7CA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5A9-624D-4FF2-995A-CE596C47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5F7C-FE49-4F82-A8B3-1D720AECC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778040"/>
            <a:ext cx="5329080" cy="5079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9980000">
            <a:off x="468360" y="2815920"/>
            <a:ext cx="936720" cy="151128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944640"/>
            <a:ext cx="77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ANTECEDENTES DE LA COMUNA DE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Equipo Urbanismo 2 – 2°sem 2007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:  David Lipszyc - Fernanda Sagredo - Aileen Stein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32360" y="2133720"/>
            <a:ext cx="2989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blación comunal en 2002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195.653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royección al 2020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316.409 h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Superficie comun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197,4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Densidad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 991 hab/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Parques en ribera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En proyecto Golf Mapocho, como parte de un proyecto priv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27640" y="180828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96000" y="566100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Fuente: www.enea.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376280"/>
            <a:ext cx="24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ENEA: Proyecto y terr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 rot="3678600">
            <a:off x="610920" y="2284200"/>
            <a:ext cx="381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vialidad enea"/>
          <p:cNvPicPr/>
          <p:nvPr/>
        </p:nvPicPr>
        <p:blipFill>
          <a:blip r:embed="rId1"/>
          <a:stretch/>
        </p:blipFill>
        <p:spPr>
          <a:xfrm>
            <a:off x="0" y="1646280"/>
            <a:ext cx="6948360" cy="5211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7128000" y="1736640"/>
            <a:ext cx="201600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cceso directo al Aeropuerto Internacional de Santiago, a través de un amplio nudo vial de 26 hectá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nea colinda con vías estructurantes concesionadas de Santiago: Ruta 68 hacia Viña del Mar y Valparaíso (Autopistas del Pacifico); Av. Américo Vespucio (Concesionaria Vespucio Norte Express); Av. San Pablo y Costanera Norte, principal eje de conexión con el sector oriente de Santiag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 Título"/>
          <p:cNvSpPr/>
          <p:nvPr/>
        </p:nvSpPr>
        <p:spPr>
          <a:xfrm>
            <a:off x="250920" y="1052640"/>
            <a:ext cx="4614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ialidad en ENEA y estructura de aproxi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1510" t="6250" r="28249" b="4918"/>
          <a:stretch/>
        </p:blipFill>
        <p:spPr>
          <a:xfrm>
            <a:off x="0" y="2058840"/>
            <a:ext cx="3564000" cy="3265560"/>
          </a:xfrm>
          <a:prstGeom prst="rect">
            <a:avLst/>
          </a:prstGeom>
          <a:ln w="0">
            <a:noFill/>
          </a:ln>
        </p:spPr>
      </p:pic>
      <p:sp>
        <p:nvSpPr>
          <p:cNvPr id="128" name="4 Rectángulo"/>
          <p:cNvSpPr/>
          <p:nvPr/>
        </p:nvSpPr>
        <p:spPr>
          <a:xfrm>
            <a:off x="0" y="6643800"/>
            <a:ext cx="9144000" cy="21420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Calibri"/>
              </a:rPr>
              <a:t>Fuente: www.enea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851280" y="1233360"/>
            <a:ext cx="529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8 hectáreas de uso industrial exclus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imita con proyectos habitacio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300720" y="5300640"/>
            <a:ext cx="432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59228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Fa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76720" y="2097000"/>
            <a:ext cx="4572000" cy="3210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985080" y="3176640"/>
            <a:ext cx="936720" cy="111600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rcRect l="12697" t="6250" r="12892" b="10001"/>
          <a:stretch/>
        </p:blipFill>
        <p:spPr>
          <a:xfrm>
            <a:off x="0" y="1546200"/>
            <a:ext cx="4572000" cy="3216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5759280" y="2276640"/>
            <a:ext cx="28814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110 Hect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imita con Av. Américo  Vespucio y Calle San Pabl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yectos habitacio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rcRect l="30130" t="44961" r="60008" b="39921"/>
          <a:stretch/>
        </p:blipFill>
        <p:spPr>
          <a:xfrm>
            <a:off x="216000" y="5084640"/>
            <a:ext cx="1584360" cy="1519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3"/>
          <a:srcRect l="40004" t="44961" r="50137" b="39921"/>
          <a:stretch/>
        </p:blipFill>
        <p:spPr>
          <a:xfrm>
            <a:off x="1979640" y="5084640"/>
            <a:ext cx="1584360" cy="1519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4"/>
          <a:srcRect l="49866" t="44961" r="39856" b="39921"/>
          <a:stretch/>
        </p:blipFill>
        <p:spPr>
          <a:xfrm>
            <a:off x="3780000" y="5084640"/>
            <a:ext cx="1584000" cy="145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5"/>
          <a:srcRect l="59737" t="44961" r="30392" b="39921"/>
          <a:stretch/>
        </p:blipFill>
        <p:spPr>
          <a:xfrm>
            <a:off x="5651640" y="5084640"/>
            <a:ext cx="1584360" cy="1517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6"/>
          <a:srcRect l="69599" t="44980" r="20521" b="39925"/>
          <a:stretch/>
        </p:blipFill>
        <p:spPr>
          <a:xfrm>
            <a:off x="7451640" y="5084640"/>
            <a:ext cx="1513080" cy="1446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9280" y="1160640"/>
            <a:ext cx="30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s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79640" y="3500280"/>
            <a:ext cx="936720" cy="97344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rcRect l="26876" t="7209" r="12892" b="5853"/>
          <a:stretch/>
        </p:blipFill>
        <p:spPr>
          <a:xfrm>
            <a:off x="0" y="2168640"/>
            <a:ext cx="4140360" cy="373356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755640" y="1341360"/>
            <a:ext cx="100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ase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364000" y="765000"/>
            <a:ext cx="122400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537080" y="1484280"/>
            <a:ext cx="4606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menzó a desarrollarse y urbanizar a principios de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uenta con zonas industriales y equipamie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0" y="2781360"/>
            <a:ext cx="4572000" cy="3209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128000" y="3608280"/>
            <a:ext cx="396720" cy="140508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rcRect l="12697" t="6250" r="12892" b="10001"/>
          <a:stretch/>
        </p:blipFill>
        <p:spPr>
          <a:xfrm>
            <a:off x="0" y="1547640"/>
            <a:ext cx="5580000" cy="39261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5940360" y="2349360"/>
            <a:ext cx="288144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181Hect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imita con Av. Américo  Vespucio y Calle San Pabl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ancha de Golf, actualmente abierta al public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arque temático Río Mapoch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entro Deportiv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Área Logística asociada a servicios aeroportuarios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eciento ferial.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1640" y="1233360"/>
            <a:ext cx="30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se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32000" y="1989000"/>
            <a:ext cx="1548000" cy="169236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rcRect l="12697" t="6250" r="12892" b="10001"/>
          <a:stretch/>
        </p:blipFill>
        <p:spPr>
          <a:xfrm>
            <a:off x="0" y="2023920"/>
            <a:ext cx="5580000" cy="3926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5977080" y="2276640"/>
            <a:ext cx="288108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63 hect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yecto Parque Cementerio Camino a Caná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Futuros centros de distribución log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160640"/>
            <a:ext cx="53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se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4400640"/>
            <a:ext cx="1547640" cy="82872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rcRect l="12697" t="6250" r="12892" b="10001"/>
          <a:stretch/>
        </p:blipFill>
        <p:spPr>
          <a:xfrm>
            <a:off x="0" y="1547640"/>
            <a:ext cx="5580000" cy="39261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1"/>
          <p:cNvSpPr/>
          <p:nvPr/>
        </p:nvSpPr>
        <p:spPr>
          <a:xfrm>
            <a:off x="6012000" y="2852640"/>
            <a:ext cx="288108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400 hect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Futura expansión del proyecto inmobili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ntre las empresas: Copec S.A., ESSO Chile. Próximamente Terminal de Transantiago, concesionaria Alsacia.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160640"/>
            <a:ext cx="37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se PDU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4920" y="3357720"/>
            <a:ext cx="2160720" cy="143964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rcRect l="12697" t="6250" r="12892" b="10001"/>
          <a:stretch/>
        </p:blipFill>
        <p:spPr>
          <a:xfrm>
            <a:off x="0" y="1557360"/>
            <a:ext cx="5580000" cy="392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5832360" y="1989000"/>
            <a:ext cx="30243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i="1" lang="es-ES_tradnl" sz="1200" spc="-1" strike="noStrike">
                <a:solidFill>
                  <a:srgbClr val="000000"/>
                </a:solidFill>
                <a:latin typeface="Verdana"/>
              </a:rPr>
              <a:t>Con el objetivo de acercar un deporte considerado de elite a toda la población, el desarrollo inmobiliario ENEA y el Club Deportivo de Golf Mapocho, entidad deportiva sin fines de lucro, suscribieron un acuerdo que permitió iniciar la ejecución de la </a:t>
            </a:r>
            <a:r>
              <a:rPr b="0" i="1" lang="es-ES_tradnl" sz="1200" spc="-1" strike="noStrike" u="sng">
                <a:solidFill>
                  <a:srgbClr val="000000"/>
                </a:solidFill>
                <a:uFillTx/>
                <a:latin typeface="Verdana"/>
              </a:rPr>
              <a:t>primera cancha de golf pública de 18 hoyos de Chile.</a:t>
            </a:r>
            <a:r>
              <a:rPr b="0" i="1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Verdana"/>
              </a:rPr>
              <a:t>Pública significa que en ella puede jugar cualquier persona que posea un mínimo de instrucción para cuidar la cancha y no poner en riesgo de accidentes a otros jugadore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7280" y="5842080"/>
            <a:ext cx="885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Nota: El club de golf es un campo deportivo de actividad programada, por lo tanto, habrá las restricciones que corresponden a un campo depor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920" y="116064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se Club de Golf Mapo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3058800">
            <a:off x="1532520" y="1464120"/>
            <a:ext cx="390240" cy="345600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feña\Documents\Universidad\Urbanismo 2\Dibujo.jpg"/>
          <p:cNvPicPr/>
          <p:nvPr/>
        </p:nvPicPr>
        <p:blipFill>
          <a:blip r:embed="rId1"/>
          <a:srcRect l="21513" t="0" r="0" b="11168"/>
          <a:stretch/>
        </p:blipFill>
        <p:spPr>
          <a:xfrm>
            <a:off x="0" y="549360"/>
            <a:ext cx="7715160" cy="5643360"/>
          </a:xfrm>
          <a:prstGeom prst="rect">
            <a:avLst/>
          </a:prstGeom>
          <a:ln w="0">
            <a:noFill/>
          </a:ln>
        </p:spPr>
      </p:pic>
      <p:sp>
        <p:nvSpPr>
          <p:cNvPr id="177" name="5 Forma libre"/>
          <p:cNvSpPr/>
          <p:nvPr/>
        </p:nvSpPr>
        <p:spPr>
          <a:xfrm>
            <a:off x="1224000" y="5229360"/>
            <a:ext cx="762120" cy="84276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CuadroTexto"/>
          <p:cNvSpPr/>
          <p:nvPr/>
        </p:nvSpPr>
        <p:spPr>
          <a:xfrm>
            <a:off x="468360" y="55166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mas de lo Agui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4000" y="1952640"/>
            <a:ext cx="5580000" cy="2628720"/>
          </a:xfrm>
          <a:custGeom>
            <a:avLst/>
            <a:gdLst/>
            <a:ahLst/>
            <a:rect l="l" t="t" r="r" b="b"/>
            <a:pathLst>
              <a:path w="3515" h="1656">
                <a:moveTo>
                  <a:pt x="3515" y="0"/>
                </a:moveTo>
                <a:lnTo>
                  <a:pt x="3152" y="23"/>
                </a:lnTo>
                <a:lnTo>
                  <a:pt x="2948" y="23"/>
                </a:lnTo>
                <a:lnTo>
                  <a:pt x="2835" y="23"/>
                </a:lnTo>
                <a:lnTo>
                  <a:pt x="2631" y="45"/>
                </a:lnTo>
                <a:lnTo>
                  <a:pt x="2472" y="23"/>
                </a:lnTo>
                <a:lnTo>
                  <a:pt x="2381" y="45"/>
                </a:lnTo>
                <a:lnTo>
                  <a:pt x="2200" y="91"/>
                </a:lnTo>
                <a:lnTo>
                  <a:pt x="1973" y="68"/>
                </a:lnTo>
                <a:lnTo>
                  <a:pt x="1905" y="91"/>
                </a:lnTo>
                <a:lnTo>
                  <a:pt x="1837" y="159"/>
                </a:lnTo>
                <a:lnTo>
                  <a:pt x="1769" y="227"/>
                </a:lnTo>
                <a:lnTo>
                  <a:pt x="1497" y="250"/>
                </a:lnTo>
                <a:lnTo>
                  <a:pt x="1293" y="250"/>
                </a:lnTo>
                <a:lnTo>
                  <a:pt x="1156" y="272"/>
                </a:lnTo>
                <a:lnTo>
                  <a:pt x="998" y="386"/>
                </a:lnTo>
                <a:lnTo>
                  <a:pt x="862" y="522"/>
                </a:lnTo>
                <a:lnTo>
                  <a:pt x="635" y="771"/>
                </a:lnTo>
                <a:lnTo>
                  <a:pt x="544" y="817"/>
                </a:lnTo>
                <a:lnTo>
                  <a:pt x="249" y="953"/>
                </a:lnTo>
                <a:lnTo>
                  <a:pt x="204" y="998"/>
                </a:lnTo>
                <a:lnTo>
                  <a:pt x="91" y="1293"/>
                </a:lnTo>
                <a:lnTo>
                  <a:pt x="0" y="1542"/>
                </a:lnTo>
                <a:lnTo>
                  <a:pt x="22" y="1633"/>
                </a:lnTo>
                <a:lnTo>
                  <a:pt x="68" y="1656"/>
                </a:lnTo>
                <a:lnTo>
                  <a:pt x="136" y="1633"/>
                </a:lnTo>
                <a:lnTo>
                  <a:pt x="113" y="1497"/>
                </a:lnTo>
                <a:lnTo>
                  <a:pt x="227" y="1248"/>
                </a:lnTo>
                <a:lnTo>
                  <a:pt x="272" y="1043"/>
                </a:lnTo>
                <a:lnTo>
                  <a:pt x="385" y="953"/>
                </a:lnTo>
                <a:lnTo>
                  <a:pt x="635" y="862"/>
                </a:lnTo>
                <a:lnTo>
                  <a:pt x="703" y="839"/>
                </a:lnTo>
                <a:lnTo>
                  <a:pt x="794" y="703"/>
                </a:lnTo>
                <a:lnTo>
                  <a:pt x="907" y="499"/>
                </a:lnTo>
                <a:lnTo>
                  <a:pt x="748" y="771"/>
                </a:lnTo>
                <a:lnTo>
                  <a:pt x="998" y="476"/>
                </a:lnTo>
                <a:lnTo>
                  <a:pt x="1156" y="363"/>
                </a:lnTo>
                <a:lnTo>
                  <a:pt x="1315" y="295"/>
                </a:lnTo>
                <a:lnTo>
                  <a:pt x="1769" y="272"/>
                </a:lnTo>
                <a:lnTo>
                  <a:pt x="1860" y="227"/>
                </a:lnTo>
                <a:lnTo>
                  <a:pt x="1973" y="136"/>
                </a:lnTo>
                <a:lnTo>
                  <a:pt x="2245" y="159"/>
                </a:lnTo>
                <a:lnTo>
                  <a:pt x="2495" y="91"/>
                </a:lnTo>
                <a:lnTo>
                  <a:pt x="2653" y="114"/>
                </a:lnTo>
                <a:lnTo>
                  <a:pt x="2903" y="91"/>
                </a:lnTo>
                <a:lnTo>
                  <a:pt x="3515" y="68"/>
                </a:lnTo>
                <a:lnTo>
                  <a:pt x="3515" y="0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149720"/>
            <a:ext cx="7704000" cy="1547640"/>
          </a:xfrm>
          <a:custGeom>
            <a:avLst/>
            <a:gdLst/>
            <a:ahLst/>
            <a:rect l="l" t="t" r="r" b="b"/>
            <a:pathLst>
              <a:path w="4853" h="975">
                <a:moveTo>
                  <a:pt x="4853" y="907"/>
                </a:moveTo>
                <a:lnTo>
                  <a:pt x="862" y="0"/>
                </a:lnTo>
                <a:lnTo>
                  <a:pt x="0" y="272"/>
                </a:lnTo>
                <a:lnTo>
                  <a:pt x="0" y="362"/>
                </a:lnTo>
                <a:lnTo>
                  <a:pt x="862" y="68"/>
                </a:lnTo>
                <a:lnTo>
                  <a:pt x="4853" y="975"/>
                </a:lnTo>
                <a:lnTo>
                  <a:pt x="4853" y="907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6720" y="657360"/>
            <a:ext cx="1908000" cy="6227640"/>
          </a:xfrm>
          <a:custGeom>
            <a:avLst/>
            <a:gdLst/>
            <a:ahLst/>
            <a:rect l="l" t="t" r="r" b="b"/>
            <a:pathLst>
              <a:path w="1202" h="3923">
                <a:moveTo>
                  <a:pt x="589" y="0"/>
                </a:moveTo>
                <a:lnTo>
                  <a:pt x="90" y="521"/>
                </a:lnTo>
                <a:lnTo>
                  <a:pt x="136" y="1270"/>
                </a:lnTo>
                <a:lnTo>
                  <a:pt x="0" y="1973"/>
                </a:lnTo>
                <a:lnTo>
                  <a:pt x="0" y="2154"/>
                </a:lnTo>
                <a:lnTo>
                  <a:pt x="68" y="2313"/>
                </a:lnTo>
                <a:lnTo>
                  <a:pt x="385" y="2835"/>
                </a:lnTo>
                <a:lnTo>
                  <a:pt x="884" y="3334"/>
                </a:lnTo>
                <a:lnTo>
                  <a:pt x="1088" y="3923"/>
                </a:lnTo>
                <a:lnTo>
                  <a:pt x="1202" y="3923"/>
                </a:lnTo>
                <a:lnTo>
                  <a:pt x="929" y="3311"/>
                </a:lnTo>
                <a:lnTo>
                  <a:pt x="430" y="2789"/>
                </a:lnTo>
                <a:lnTo>
                  <a:pt x="68" y="2200"/>
                </a:lnTo>
                <a:lnTo>
                  <a:pt x="45" y="2041"/>
                </a:lnTo>
                <a:lnTo>
                  <a:pt x="68" y="1905"/>
                </a:lnTo>
                <a:lnTo>
                  <a:pt x="204" y="1224"/>
                </a:lnTo>
                <a:lnTo>
                  <a:pt x="158" y="544"/>
                </a:lnTo>
                <a:lnTo>
                  <a:pt x="680" y="0"/>
                </a:lnTo>
                <a:lnTo>
                  <a:pt x="589" y="0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1989000"/>
            <a:ext cx="755640" cy="1224000"/>
          </a:xfrm>
          <a:custGeom>
            <a:avLst/>
            <a:gdLst/>
            <a:ahLst/>
            <a:rect l="l" t="t" r="r" b="b"/>
            <a:pathLst>
              <a:path w="476" h="771">
                <a:moveTo>
                  <a:pt x="476" y="680"/>
                </a:moveTo>
                <a:lnTo>
                  <a:pt x="113" y="453"/>
                </a:lnTo>
                <a:lnTo>
                  <a:pt x="68" y="0"/>
                </a:lnTo>
                <a:lnTo>
                  <a:pt x="0" y="22"/>
                </a:lnTo>
                <a:lnTo>
                  <a:pt x="45" y="499"/>
                </a:lnTo>
                <a:lnTo>
                  <a:pt x="454" y="771"/>
                </a:lnTo>
                <a:lnTo>
                  <a:pt x="476" y="680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51280" y="6273720"/>
            <a:ext cx="2125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43680" y="3176640"/>
            <a:ext cx="4000320" cy="3000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0920" y="98100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Otros proyectos aledaños </a:t>
            </a:r>
            <a:br>
              <a:rPr sz="1200"/>
            </a:b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al río Mapocho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0560" y="1483920"/>
            <a:ext cx="410364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Superficie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: 197 Km</a:t>
            </a:r>
            <a:r>
              <a:rPr b="0" lang="es-CL" sz="1200" spc="-1" strike="noStrike" baseline="30000">
                <a:solidFill>
                  <a:srgbClr val="000000"/>
                </a:solidFill>
                <a:latin typeface="Verdana"/>
                <a:ea typeface="Arial Unicode MS"/>
              </a:rPr>
              <a:t>2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, sólo 13 Km</a:t>
            </a:r>
            <a:r>
              <a:rPr b="0" lang="es-CL" sz="1200" spc="-1" strike="noStrike" baseline="30000">
                <a:solidFill>
                  <a:srgbClr val="000000"/>
                </a:solidFill>
                <a:latin typeface="Verdana"/>
                <a:ea typeface="Arial Unicode MS"/>
              </a:rPr>
              <a:t>2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superficie urba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oblación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194.417 habitantes. (censo 2002)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de los cuales 3.395 viven en la zona rur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Crecimiento de población: 40.9% (construcción masiva de vivienda soc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Longitud del río en Pudahuel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9,8 Kms apr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Ancho del río a la vista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: 8,4 m - 48,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conomí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Agricultura tradicional, agricultura tecnificada, explotación de áridos, industrias, pequeños empresari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Verdana"/>
                <a:ea typeface="Arial Unicode MS"/>
              </a:rPr>
              <a:t>Recursos natur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Las montañas de la Cordillera de la Co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•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Valle de El Novici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•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Red fluvial: </a:t>
            </a: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río Mapocho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, esteros Lampa, Carén y  Las Cru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•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Parque Laguna Caré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•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Suelos de irregular calidad agrícola y abundante agua subterráne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9 CuadroTexto"/>
          <p:cNvSpPr/>
          <p:nvPr/>
        </p:nvSpPr>
        <p:spPr>
          <a:xfrm>
            <a:off x="431640" y="5769000"/>
            <a:ext cx="39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 CODESUP (Corporación para el desarrollo sustentable de Pudahue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 Imagen: www.mpudahuel.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3708360" cy="2291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35640" y="3608280"/>
            <a:ext cx="370836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4329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royecto Lomas de Lo Aguir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284720" y="2565360"/>
          <a:ext cx="4647960" cy="1940040"/>
        </p:xfrm>
        <a:graphic>
          <a:graphicData uri="http://schemas.openxmlformats.org/drawingml/2006/table">
            <a:tbl>
              <a:tblPr/>
              <a:tblGrid>
                <a:gridCol w="1787400"/>
                <a:gridCol w="2860560"/>
              </a:tblGrid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Direcció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f2f2f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Ruta 68 con Costanera Norte (Lo Aguirre), Pudahu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2f2f2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Fecha de entreg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Octubre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Propietari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Inmobiliaria Santa Isabel S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Construy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Concreta S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rquitecto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Judson &amp; Olivos Arquite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88" name="Picture 5" descr="http://www.portalinmobiliario.com/proyimgs/2142_pe.jpg"/>
          <p:cNvPicPr/>
          <p:nvPr/>
        </p:nvPicPr>
        <p:blipFill>
          <a:blip r:embed="rId1"/>
          <a:stretch/>
        </p:blipFill>
        <p:spPr>
          <a:xfrm>
            <a:off x="0" y="1916280"/>
            <a:ext cx="3786120" cy="2933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26920" y="4941720"/>
            <a:ext cx="7417080" cy="3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9 CuadroTexto"/>
          <p:cNvSpPr/>
          <p:nvPr/>
        </p:nvSpPr>
        <p:spPr>
          <a:xfrm>
            <a:off x="5759280" y="4581360"/>
            <a:ext cx="317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</a:t>
            </a: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www.lomasdeloaguirre.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280" y="4941720"/>
            <a:ext cx="813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ipo Valle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3 dormitorios, escritorio o pieza de servicio, 4 baños, terraza en 2º piso, 139,9 m2.construidos </a:t>
            </a:r>
            <a:br>
              <a:rPr sz="1200"/>
            </a:b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ipo Cumbre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3 dormitorios, escritorio o pieza de servicio, 4 baños, de 139,97 m2. </a:t>
            </a:r>
            <a:br>
              <a:rPr sz="1200"/>
            </a:b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ipo Cumbre B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3 dormitorios, 3 baños, sin terraza 2º piso, de 130,2 m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ecios desde UF 4.550 hasta UF 5.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spectos destacables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 9 minutos del Mall de Maipú, a 9 minutos a Estación Metro Las Rejas, 20 minutos Plaza de Armas y acceso directo a Costanera Nor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24000" y="1952640"/>
            <a:ext cx="5580000" cy="2628720"/>
          </a:xfrm>
          <a:custGeom>
            <a:avLst/>
            <a:gdLst/>
            <a:ahLst/>
            <a:rect l="l" t="t" r="r" b="b"/>
            <a:pathLst>
              <a:path w="3515" h="1656">
                <a:moveTo>
                  <a:pt x="3515" y="0"/>
                </a:moveTo>
                <a:lnTo>
                  <a:pt x="3152" y="23"/>
                </a:lnTo>
                <a:lnTo>
                  <a:pt x="2948" y="23"/>
                </a:lnTo>
                <a:lnTo>
                  <a:pt x="2835" y="23"/>
                </a:lnTo>
                <a:lnTo>
                  <a:pt x="2631" y="45"/>
                </a:lnTo>
                <a:lnTo>
                  <a:pt x="2472" y="23"/>
                </a:lnTo>
                <a:lnTo>
                  <a:pt x="2381" y="45"/>
                </a:lnTo>
                <a:lnTo>
                  <a:pt x="2200" y="91"/>
                </a:lnTo>
                <a:lnTo>
                  <a:pt x="1973" y="68"/>
                </a:lnTo>
                <a:lnTo>
                  <a:pt x="1905" y="91"/>
                </a:lnTo>
                <a:lnTo>
                  <a:pt x="1837" y="159"/>
                </a:lnTo>
                <a:lnTo>
                  <a:pt x="1769" y="227"/>
                </a:lnTo>
                <a:lnTo>
                  <a:pt x="1497" y="250"/>
                </a:lnTo>
                <a:lnTo>
                  <a:pt x="1293" y="250"/>
                </a:lnTo>
                <a:lnTo>
                  <a:pt x="1156" y="272"/>
                </a:lnTo>
                <a:lnTo>
                  <a:pt x="998" y="386"/>
                </a:lnTo>
                <a:lnTo>
                  <a:pt x="862" y="522"/>
                </a:lnTo>
                <a:lnTo>
                  <a:pt x="635" y="771"/>
                </a:lnTo>
                <a:lnTo>
                  <a:pt x="544" y="817"/>
                </a:lnTo>
                <a:lnTo>
                  <a:pt x="249" y="953"/>
                </a:lnTo>
                <a:lnTo>
                  <a:pt x="204" y="998"/>
                </a:lnTo>
                <a:lnTo>
                  <a:pt x="91" y="1293"/>
                </a:lnTo>
                <a:lnTo>
                  <a:pt x="0" y="1542"/>
                </a:lnTo>
                <a:lnTo>
                  <a:pt x="22" y="1633"/>
                </a:lnTo>
                <a:lnTo>
                  <a:pt x="68" y="1656"/>
                </a:lnTo>
                <a:lnTo>
                  <a:pt x="136" y="1633"/>
                </a:lnTo>
                <a:lnTo>
                  <a:pt x="113" y="1497"/>
                </a:lnTo>
                <a:lnTo>
                  <a:pt x="227" y="1248"/>
                </a:lnTo>
                <a:lnTo>
                  <a:pt x="272" y="1043"/>
                </a:lnTo>
                <a:lnTo>
                  <a:pt x="385" y="953"/>
                </a:lnTo>
                <a:lnTo>
                  <a:pt x="635" y="862"/>
                </a:lnTo>
                <a:lnTo>
                  <a:pt x="703" y="839"/>
                </a:lnTo>
                <a:lnTo>
                  <a:pt x="794" y="703"/>
                </a:lnTo>
                <a:lnTo>
                  <a:pt x="907" y="499"/>
                </a:lnTo>
                <a:lnTo>
                  <a:pt x="748" y="771"/>
                </a:lnTo>
                <a:lnTo>
                  <a:pt x="998" y="476"/>
                </a:lnTo>
                <a:lnTo>
                  <a:pt x="1156" y="363"/>
                </a:lnTo>
                <a:lnTo>
                  <a:pt x="1315" y="295"/>
                </a:lnTo>
                <a:lnTo>
                  <a:pt x="1769" y="272"/>
                </a:lnTo>
                <a:lnTo>
                  <a:pt x="1860" y="227"/>
                </a:lnTo>
                <a:lnTo>
                  <a:pt x="1973" y="136"/>
                </a:lnTo>
                <a:lnTo>
                  <a:pt x="2245" y="159"/>
                </a:lnTo>
                <a:lnTo>
                  <a:pt x="2495" y="91"/>
                </a:lnTo>
                <a:lnTo>
                  <a:pt x="2653" y="114"/>
                </a:lnTo>
                <a:lnTo>
                  <a:pt x="2903" y="91"/>
                </a:lnTo>
                <a:lnTo>
                  <a:pt x="3515" y="68"/>
                </a:lnTo>
                <a:lnTo>
                  <a:pt x="3515" y="0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1989000"/>
            <a:ext cx="755640" cy="1224000"/>
          </a:xfrm>
          <a:custGeom>
            <a:avLst/>
            <a:gdLst/>
            <a:ahLst/>
            <a:rect l="l" t="t" r="r" b="b"/>
            <a:pathLst>
              <a:path w="476" h="771">
                <a:moveTo>
                  <a:pt x="476" y="680"/>
                </a:moveTo>
                <a:lnTo>
                  <a:pt x="113" y="453"/>
                </a:lnTo>
                <a:lnTo>
                  <a:pt x="68" y="0"/>
                </a:lnTo>
                <a:lnTo>
                  <a:pt x="0" y="22"/>
                </a:lnTo>
                <a:lnTo>
                  <a:pt x="45" y="499"/>
                </a:lnTo>
                <a:lnTo>
                  <a:pt x="454" y="771"/>
                </a:lnTo>
                <a:lnTo>
                  <a:pt x="476" y="680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51280" y="6273720"/>
            <a:ext cx="2125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50920" y="1197000"/>
            <a:ext cx="6708960" cy="4903920"/>
          </a:xfrm>
          <a:prstGeom prst="rect">
            <a:avLst/>
          </a:prstGeom>
          <a:ln w="0">
            <a:noFill/>
          </a:ln>
        </p:spPr>
      </p:pic>
      <p:sp>
        <p:nvSpPr>
          <p:cNvPr id="196" name="8 Forma libre"/>
          <p:cNvSpPr/>
          <p:nvPr/>
        </p:nvSpPr>
        <p:spPr>
          <a:xfrm>
            <a:off x="1150920" y="3249720"/>
            <a:ext cx="1135080" cy="165240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9 CuadroTexto"/>
          <p:cNvSpPr/>
          <p:nvPr/>
        </p:nvSpPr>
        <p:spPr>
          <a:xfrm>
            <a:off x="1258920" y="371628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arque Tecnológico  u.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7 CuadroTexto"/>
          <p:cNvSpPr/>
          <p:nvPr/>
        </p:nvSpPr>
        <p:spPr>
          <a:xfrm>
            <a:off x="3672000" y="6237360"/>
            <a:ext cx="50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Fuente:  www.med.uchile.cl Tomo IV</a:t>
            </a:r>
            <a:r>
              <a:rPr b="0" lang="es-CL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Edición bimensual marzo-abril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9 CuadroTexto"/>
          <p:cNvSpPr/>
          <p:nvPr/>
        </p:nvSpPr>
        <p:spPr>
          <a:xfrm>
            <a:off x="287280" y="1665360"/>
            <a:ext cx="371016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propósito de esta iniciativa es crear un espacio propicio que promueva el desarrollo de la innovación y el intercambio tecnológico, a través del agrupamiento de empresas productivas y de servicios, de institutos tecnológicos tanto nacionales como internacionales, además de unidades académicas de investigación de la Universidad de Chile y de otras instituciones de educación superior que se congreguen en este luga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osee 1.034 hect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Parque Público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: 200 hectáreas : áreas de picnic, rodeo y cancha de go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arque Tecnológico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propiamente tal,  ahí se instalarán empresas e institutos de investigación, tanto públicos como privad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área de soporte, en tanto, brindará los servicios básicos a quienes se ubiquen en Carén.  Incluye la urbanización y un edificio de 9.000 metros cuadrados, diseñado por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arquiteto, Juan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Sabbagh, llamado Centro de Innov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La inversión se aporxima a los US$ 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659640" y="1484280"/>
            <a:ext cx="2484360" cy="1855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896000" y="3789360"/>
            <a:ext cx="4248000" cy="2319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896000" y="350028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Fte.: Echenique &amp;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6360" y="2924280"/>
            <a:ext cx="7993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flex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n la comuna de Pudahuel, la accesibilidad al borde del río Mapocho es casi nula, por lo que no se pudo fotografiar el lu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No posee puentes peatonales que lo crucen, solo vehiculares, en los cuales no se puede detener ni estacion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Hoy en día, el río Mapocho si posee un parque (campo de golf) en su rivera, el cual pertenece a una empresa privada, Enea. Éste lo catalogaron como publico, pero al ser un campo deportivo de actividades programadas, su uso y acceso es muy restring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9280" y="1484280"/>
            <a:ext cx="44640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Conectiv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Ruta 68: conecta a la ciudad de Santiago con la conurbación costera de Valparaí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Aeropuerto Internacional de Pudahuel (el más importante del paí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jes: Avda. Américo Vespucio, Costanera Norte, Av. San Pab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ementos destaca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Centro de Estudios Nucleares de Lo Aguirre, uno de los dos existentes en el paí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Zonas industri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royectos inmobiliarios (viviendas o industriales)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216000" y="5265720"/>
            <a:ext cx="424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 texto: CODESUP (corporación para el desarrollo sustentable de Pudahue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 imagen: Google Earth, www.ENEA.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24360" y="3068640"/>
            <a:ext cx="40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aisajismo carretera al aeropue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6021360"/>
            <a:ext cx="40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yecto inmobiliario Enea (asociación Enersis y familia Guzmá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19640" y="944640"/>
            <a:ext cx="3240000" cy="2152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19640" y="3421080"/>
            <a:ext cx="33130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92000" y="1449360"/>
            <a:ext cx="7177320" cy="5133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9640" y="1808280"/>
            <a:ext cx="43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El río Mapocho en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9885" t="15000" r="25585" b="25937"/>
          <a:stretch/>
        </p:blipFill>
        <p:spPr>
          <a:xfrm>
            <a:off x="755640" y="817560"/>
            <a:ext cx="7286760" cy="6040440"/>
          </a:xfrm>
          <a:prstGeom prst="rect">
            <a:avLst/>
          </a:prstGeom>
          <a:ln w="0">
            <a:noFill/>
          </a:ln>
        </p:spPr>
      </p:pic>
      <p:cxnSp>
        <p:nvCxnSpPr>
          <p:cNvPr id="58" name="30 Conector recto de flecha"/>
          <p:cNvCxnSpPr/>
          <p:nvPr/>
        </p:nvCxnSpPr>
        <p:spPr>
          <a:xfrm flipV="1">
            <a:off x="6858000" y="1642680"/>
            <a:ext cx="72000" cy="2000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33 Conector recto de flecha"/>
          <p:cNvCxnSpPr/>
          <p:nvPr/>
        </p:nvCxnSpPr>
        <p:spPr>
          <a:xfrm flipH="1" flipV="1">
            <a:off x="5928480" y="1571760"/>
            <a:ext cx="143640" cy="2071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36 Conector recto de flecha"/>
          <p:cNvCxnSpPr/>
          <p:nvPr/>
        </p:nvCxnSpPr>
        <p:spPr>
          <a:xfrm flipH="1">
            <a:off x="3142440" y="4142160"/>
            <a:ext cx="1429560" cy="143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1" name="1 Título"/>
          <p:cNvSpPr/>
          <p:nvPr/>
        </p:nvSpPr>
        <p:spPr>
          <a:xfrm>
            <a:off x="1008000" y="1916280"/>
            <a:ext cx="3384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 Unicode MS"/>
              </a:rPr>
              <a:t>Cruces del río Mapocho en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645000"/>
            <a:ext cx="3240000" cy="468360"/>
          </a:xfrm>
          <a:prstGeom prst="rect">
            <a:avLst/>
          </a:prstGeom>
          <a:solidFill>
            <a:srgbClr val="eeece1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8 Rectángulo"/>
          <p:cNvSpPr/>
          <p:nvPr/>
        </p:nvSpPr>
        <p:spPr>
          <a:xfrm>
            <a:off x="4643280" y="3643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uentes: 3 (Vespucio, ruta 68 y carretera al aeropuer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8 CuadroTexto"/>
          <p:cNvSpPr/>
          <p:nvPr/>
        </p:nvSpPr>
        <p:spPr>
          <a:xfrm>
            <a:off x="395280" y="5769000"/>
            <a:ext cx="51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ente: Asesoría Urbana I. Municipalidad de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0 Conector recto"/>
          <p:cNvSpPr/>
          <p:nvPr/>
        </p:nvSpPr>
        <p:spPr>
          <a:xfrm>
            <a:off x="7143840" y="1357200"/>
            <a:ext cx="285840" cy="1800"/>
          </a:xfrm>
          <a:prstGeom prst="line">
            <a:avLst/>
          </a:prstGeom>
          <a:ln w="38160">
            <a:solidFill>
              <a:srgbClr val="061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1 Conector recto"/>
          <p:cNvSpPr/>
          <p:nvPr/>
        </p:nvSpPr>
        <p:spPr>
          <a:xfrm>
            <a:off x="7143840" y="1712880"/>
            <a:ext cx="285840" cy="1800"/>
          </a:xfrm>
          <a:prstGeom prst="line">
            <a:avLst/>
          </a:prstGeom>
          <a:ln w="25560">
            <a:solidFill>
              <a:srgbClr val="5bd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5 Conector recto"/>
          <p:cNvSpPr/>
          <p:nvPr/>
        </p:nvSpPr>
        <p:spPr>
          <a:xfrm>
            <a:off x="7143840" y="2071800"/>
            <a:ext cx="285840" cy="14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6 CuadroTexto"/>
          <p:cNvSpPr/>
          <p:nvPr/>
        </p:nvSpPr>
        <p:spPr>
          <a:xfrm>
            <a:off x="7429680" y="1143000"/>
            <a:ext cx="1714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Limite de la comu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rredores fluvi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alles vehicula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royectos inmobiliari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Zona Urbana act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arque Tecnológico, en construc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2422440"/>
            <a:ext cx="28728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2997360"/>
            <a:ext cx="287280" cy="142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3430440"/>
            <a:ext cx="287280" cy="142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7280" y="1305000"/>
            <a:ext cx="54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Definiciones espaciales dentro de la Comuna de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635120"/>
            <a:ext cx="5219640" cy="3897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76720" y="3933720"/>
            <a:ext cx="539640" cy="719280"/>
          </a:xfrm>
          <a:custGeom>
            <a:avLst/>
            <a:gdLst/>
            <a:ahLst/>
            <a:rect l="l" t="t" r="r" b="b"/>
            <a:pathLst>
              <a:path w="499" h="499">
                <a:moveTo>
                  <a:pt x="454" y="0"/>
                </a:moveTo>
                <a:lnTo>
                  <a:pt x="499" y="91"/>
                </a:lnTo>
                <a:lnTo>
                  <a:pt x="454" y="273"/>
                </a:lnTo>
                <a:lnTo>
                  <a:pt x="454" y="363"/>
                </a:lnTo>
                <a:lnTo>
                  <a:pt x="499" y="454"/>
                </a:lnTo>
                <a:lnTo>
                  <a:pt x="409" y="499"/>
                </a:lnTo>
                <a:lnTo>
                  <a:pt x="0" y="363"/>
                </a:lnTo>
                <a:lnTo>
                  <a:pt x="46" y="273"/>
                </a:lnTo>
                <a:lnTo>
                  <a:pt x="0" y="273"/>
                </a:lnTo>
                <a:lnTo>
                  <a:pt x="46" y="182"/>
                </a:lnTo>
                <a:lnTo>
                  <a:pt x="137" y="182"/>
                </a:lnTo>
                <a:lnTo>
                  <a:pt x="182" y="136"/>
                </a:lnTo>
                <a:lnTo>
                  <a:pt x="273" y="91"/>
                </a:lnTo>
                <a:lnTo>
                  <a:pt x="318" y="0"/>
                </a:lnTo>
                <a:lnTo>
                  <a:pt x="454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12000" y="4508640"/>
            <a:ext cx="27432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feña\Documents\Universidad\Urbanismo 2\Dibujo.jpg"/>
          <p:cNvPicPr/>
          <p:nvPr/>
        </p:nvPicPr>
        <p:blipFill>
          <a:blip r:embed="rId1"/>
          <a:srcRect l="21513" t="0" r="0" b="11168"/>
          <a:stretch/>
        </p:blipFill>
        <p:spPr>
          <a:xfrm>
            <a:off x="0" y="620640"/>
            <a:ext cx="7715160" cy="5643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24000" y="1952640"/>
            <a:ext cx="5580000" cy="2628720"/>
          </a:xfrm>
          <a:custGeom>
            <a:avLst/>
            <a:gdLst/>
            <a:ahLst/>
            <a:rect l="l" t="t" r="r" b="b"/>
            <a:pathLst>
              <a:path w="3515" h="1656">
                <a:moveTo>
                  <a:pt x="3515" y="0"/>
                </a:moveTo>
                <a:lnTo>
                  <a:pt x="3152" y="23"/>
                </a:lnTo>
                <a:lnTo>
                  <a:pt x="2948" y="23"/>
                </a:lnTo>
                <a:lnTo>
                  <a:pt x="2835" y="23"/>
                </a:lnTo>
                <a:lnTo>
                  <a:pt x="2631" y="45"/>
                </a:lnTo>
                <a:lnTo>
                  <a:pt x="2472" y="23"/>
                </a:lnTo>
                <a:lnTo>
                  <a:pt x="2381" y="45"/>
                </a:lnTo>
                <a:lnTo>
                  <a:pt x="2200" y="91"/>
                </a:lnTo>
                <a:lnTo>
                  <a:pt x="1973" y="68"/>
                </a:lnTo>
                <a:lnTo>
                  <a:pt x="1905" y="91"/>
                </a:lnTo>
                <a:lnTo>
                  <a:pt x="1837" y="159"/>
                </a:lnTo>
                <a:lnTo>
                  <a:pt x="1769" y="227"/>
                </a:lnTo>
                <a:lnTo>
                  <a:pt x="1497" y="250"/>
                </a:lnTo>
                <a:lnTo>
                  <a:pt x="1293" y="250"/>
                </a:lnTo>
                <a:lnTo>
                  <a:pt x="1156" y="272"/>
                </a:lnTo>
                <a:lnTo>
                  <a:pt x="998" y="386"/>
                </a:lnTo>
                <a:lnTo>
                  <a:pt x="862" y="522"/>
                </a:lnTo>
                <a:lnTo>
                  <a:pt x="635" y="771"/>
                </a:lnTo>
                <a:lnTo>
                  <a:pt x="544" y="817"/>
                </a:lnTo>
                <a:lnTo>
                  <a:pt x="249" y="953"/>
                </a:lnTo>
                <a:lnTo>
                  <a:pt x="204" y="998"/>
                </a:lnTo>
                <a:lnTo>
                  <a:pt x="91" y="1293"/>
                </a:lnTo>
                <a:lnTo>
                  <a:pt x="0" y="1542"/>
                </a:lnTo>
                <a:lnTo>
                  <a:pt x="22" y="1633"/>
                </a:lnTo>
                <a:lnTo>
                  <a:pt x="68" y="1656"/>
                </a:lnTo>
                <a:lnTo>
                  <a:pt x="136" y="1633"/>
                </a:lnTo>
                <a:lnTo>
                  <a:pt x="113" y="1497"/>
                </a:lnTo>
                <a:lnTo>
                  <a:pt x="227" y="1248"/>
                </a:lnTo>
                <a:lnTo>
                  <a:pt x="272" y="1043"/>
                </a:lnTo>
                <a:lnTo>
                  <a:pt x="385" y="953"/>
                </a:lnTo>
                <a:lnTo>
                  <a:pt x="635" y="862"/>
                </a:lnTo>
                <a:lnTo>
                  <a:pt x="703" y="839"/>
                </a:lnTo>
                <a:lnTo>
                  <a:pt x="794" y="703"/>
                </a:lnTo>
                <a:lnTo>
                  <a:pt x="907" y="499"/>
                </a:lnTo>
                <a:lnTo>
                  <a:pt x="748" y="771"/>
                </a:lnTo>
                <a:lnTo>
                  <a:pt x="998" y="476"/>
                </a:lnTo>
                <a:lnTo>
                  <a:pt x="1156" y="363"/>
                </a:lnTo>
                <a:lnTo>
                  <a:pt x="1315" y="295"/>
                </a:lnTo>
                <a:lnTo>
                  <a:pt x="1769" y="272"/>
                </a:lnTo>
                <a:lnTo>
                  <a:pt x="1860" y="227"/>
                </a:lnTo>
                <a:lnTo>
                  <a:pt x="1973" y="136"/>
                </a:lnTo>
                <a:lnTo>
                  <a:pt x="2245" y="159"/>
                </a:lnTo>
                <a:lnTo>
                  <a:pt x="2495" y="91"/>
                </a:lnTo>
                <a:lnTo>
                  <a:pt x="2653" y="114"/>
                </a:lnTo>
                <a:lnTo>
                  <a:pt x="2903" y="91"/>
                </a:lnTo>
                <a:lnTo>
                  <a:pt x="3515" y="68"/>
                </a:lnTo>
                <a:lnTo>
                  <a:pt x="3515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149720"/>
            <a:ext cx="7704000" cy="1547640"/>
          </a:xfrm>
          <a:custGeom>
            <a:avLst/>
            <a:gdLst/>
            <a:ahLst/>
            <a:rect l="l" t="t" r="r" b="b"/>
            <a:pathLst>
              <a:path w="4853" h="975">
                <a:moveTo>
                  <a:pt x="4853" y="907"/>
                </a:moveTo>
                <a:lnTo>
                  <a:pt x="862" y="0"/>
                </a:lnTo>
                <a:lnTo>
                  <a:pt x="0" y="272"/>
                </a:lnTo>
                <a:lnTo>
                  <a:pt x="0" y="362"/>
                </a:lnTo>
                <a:lnTo>
                  <a:pt x="862" y="68"/>
                </a:lnTo>
                <a:lnTo>
                  <a:pt x="4853" y="975"/>
                </a:lnTo>
                <a:lnTo>
                  <a:pt x="4853" y="907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76720" y="657360"/>
            <a:ext cx="1908000" cy="6227640"/>
          </a:xfrm>
          <a:custGeom>
            <a:avLst/>
            <a:gdLst/>
            <a:ahLst/>
            <a:rect l="l" t="t" r="r" b="b"/>
            <a:pathLst>
              <a:path w="1202" h="3923">
                <a:moveTo>
                  <a:pt x="589" y="0"/>
                </a:moveTo>
                <a:lnTo>
                  <a:pt x="90" y="521"/>
                </a:lnTo>
                <a:lnTo>
                  <a:pt x="136" y="1270"/>
                </a:lnTo>
                <a:lnTo>
                  <a:pt x="0" y="1973"/>
                </a:lnTo>
                <a:lnTo>
                  <a:pt x="0" y="2154"/>
                </a:lnTo>
                <a:lnTo>
                  <a:pt x="68" y="2313"/>
                </a:lnTo>
                <a:lnTo>
                  <a:pt x="385" y="2835"/>
                </a:lnTo>
                <a:lnTo>
                  <a:pt x="884" y="3334"/>
                </a:lnTo>
                <a:lnTo>
                  <a:pt x="1088" y="3923"/>
                </a:lnTo>
                <a:lnTo>
                  <a:pt x="1202" y="3923"/>
                </a:lnTo>
                <a:lnTo>
                  <a:pt x="929" y="3311"/>
                </a:lnTo>
                <a:lnTo>
                  <a:pt x="430" y="2789"/>
                </a:lnTo>
                <a:lnTo>
                  <a:pt x="68" y="2200"/>
                </a:lnTo>
                <a:lnTo>
                  <a:pt x="45" y="2041"/>
                </a:lnTo>
                <a:lnTo>
                  <a:pt x="68" y="1905"/>
                </a:lnTo>
                <a:lnTo>
                  <a:pt x="204" y="1224"/>
                </a:lnTo>
                <a:lnTo>
                  <a:pt x="158" y="544"/>
                </a:lnTo>
                <a:lnTo>
                  <a:pt x="680" y="0"/>
                </a:lnTo>
                <a:lnTo>
                  <a:pt x="58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 CuadroTexto"/>
          <p:cNvSpPr/>
          <p:nvPr/>
        </p:nvSpPr>
        <p:spPr>
          <a:xfrm>
            <a:off x="5977080" y="6345360"/>
            <a:ext cx="29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Fuente de todas las fotos verticales: Google Ea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4000" y="1989000"/>
            <a:ext cx="755640" cy="1224000"/>
          </a:xfrm>
          <a:custGeom>
            <a:avLst/>
            <a:gdLst/>
            <a:ahLst/>
            <a:rect l="l" t="t" r="r" b="b"/>
            <a:pathLst>
              <a:path w="476" h="771">
                <a:moveTo>
                  <a:pt x="476" y="680"/>
                </a:moveTo>
                <a:lnTo>
                  <a:pt x="113" y="453"/>
                </a:lnTo>
                <a:lnTo>
                  <a:pt x="68" y="0"/>
                </a:lnTo>
                <a:lnTo>
                  <a:pt x="0" y="22"/>
                </a:lnTo>
                <a:lnTo>
                  <a:pt x="45" y="499"/>
                </a:lnTo>
                <a:lnTo>
                  <a:pt x="454" y="771"/>
                </a:lnTo>
                <a:lnTo>
                  <a:pt x="476" y="68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4360" y="2421000"/>
            <a:ext cx="1943280" cy="216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88000" y="238428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STANERA N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5111640" y="3860640"/>
            <a:ext cx="1116000" cy="216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03640" y="38242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. VESPU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2555640" y="5013360"/>
            <a:ext cx="934920" cy="216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4976640"/>
            <a:ext cx="9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A 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0800000">
            <a:off x="719280" y="2205000"/>
            <a:ext cx="2520720" cy="216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1877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RETERA AEROPU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24360" y="4652640"/>
            <a:ext cx="7128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396864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22560" y="2097000"/>
            <a:ext cx="1800" cy="3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1800" y="2313000"/>
            <a:ext cx="358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15920"/>
            <a:ext cx="68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Vías</a:t>
            </a: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principales en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7572240" cy="553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873000"/>
            <a:ext cx="7572240" cy="5535720"/>
          </a:xfrm>
          <a:prstGeom prst="rect">
            <a:avLst/>
          </a:prstGeom>
          <a:ln w="0">
            <a:noFill/>
          </a:ln>
        </p:spPr>
      </p:pic>
      <p:sp>
        <p:nvSpPr>
          <p:cNvPr id="97" name="8 Forma libre"/>
          <p:cNvSpPr/>
          <p:nvPr/>
        </p:nvSpPr>
        <p:spPr>
          <a:xfrm>
            <a:off x="0" y="3176640"/>
            <a:ext cx="1135080" cy="165240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9736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arque tecn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9 Forma libre"/>
          <p:cNvSpPr/>
          <p:nvPr/>
        </p:nvSpPr>
        <p:spPr>
          <a:xfrm>
            <a:off x="1150920" y="2600280"/>
            <a:ext cx="2158920" cy="1714680"/>
          </a:xfrm>
          <a:prstGeom prst="pie">
            <a:avLst/>
          </a:prstGeom>
          <a:solidFill>
            <a:srgbClr val="ffff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2 CuadroTexto"/>
          <p:cNvSpPr/>
          <p:nvPr/>
        </p:nvSpPr>
        <p:spPr>
          <a:xfrm>
            <a:off x="1295280" y="314172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ctor agr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11280" y="2529000"/>
            <a:ext cx="3672000" cy="2376360"/>
          </a:xfrm>
          <a:custGeom>
            <a:avLst/>
            <a:gdLst/>
            <a:ahLst/>
            <a:rect l="l" t="t" r="r" b="b"/>
            <a:pathLst>
              <a:path w="2313" h="1497">
                <a:moveTo>
                  <a:pt x="1179" y="0"/>
                </a:moveTo>
                <a:lnTo>
                  <a:pt x="1089" y="272"/>
                </a:lnTo>
                <a:lnTo>
                  <a:pt x="998" y="408"/>
                </a:lnTo>
                <a:lnTo>
                  <a:pt x="907" y="454"/>
                </a:lnTo>
                <a:lnTo>
                  <a:pt x="771" y="454"/>
                </a:lnTo>
                <a:lnTo>
                  <a:pt x="680" y="544"/>
                </a:lnTo>
                <a:lnTo>
                  <a:pt x="590" y="544"/>
                </a:lnTo>
                <a:lnTo>
                  <a:pt x="499" y="590"/>
                </a:lnTo>
                <a:lnTo>
                  <a:pt x="363" y="726"/>
                </a:lnTo>
                <a:lnTo>
                  <a:pt x="272" y="726"/>
                </a:lnTo>
                <a:lnTo>
                  <a:pt x="227" y="771"/>
                </a:lnTo>
                <a:lnTo>
                  <a:pt x="227" y="953"/>
                </a:lnTo>
                <a:lnTo>
                  <a:pt x="0" y="1043"/>
                </a:lnTo>
                <a:lnTo>
                  <a:pt x="91" y="1179"/>
                </a:lnTo>
                <a:lnTo>
                  <a:pt x="227" y="1179"/>
                </a:lnTo>
                <a:lnTo>
                  <a:pt x="317" y="1451"/>
                </a:lnTo>
                <a:lnTo>
                  <a:pt x="1089" y="1451"/>
                </a:lnTo>
                <a:lnTo>
                  <a:pt x="1950" y="1497"/>
                </a:lnTo>
                <a:lnTo>
                  <a:pt x="2223" y="1361"/>
                </a:lnTo>
                <a:lnTo>
                  <a:pt x="2223" y="1134"/>
                </a:lnTo>
                <a:lnTo>
                  <a:pt x="2313" y="1134"/>
                </a:lnTo>
                <a:lnTo>
                  <a:pt x="2313" y="635"/>
                </a:lnTo>
                <a:lnTo>
                  <a:pt x="2223" y="635"/>
                </a:lnTo>
                <a:lnTo>
                  <a:pt x="2268" y="408"/>
                </a:lnTo>
                <a:lnTo>
                  <a:pt x="1905" y="136"/>
                </a:lnTo>
                <a:lnTo>
                  <a:pt x="1678" y="136"/>
                </a:lnTo>
                <a:lnTo>
                  <a:pt x="1678" y="45"/>
                </a:lnTo>
                <a:lnTo>
                  <a:pt x="1179" y="0"/>
                </a:ln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371628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E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0 Forma libre"/>
          <p:cNvSpPr/>
          <p:nvPr/>
        </p:nvSpPr>
        <p:spPr>
          <a:xfrm>
            <a:off x="1438200" y="4311720"/>
            <a:ext cx="1476360" cy="194148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1 CuadroTexto"/>
          <p:cNvSpPr/>
          <p:nvPr/>
        </p:nvSpPr>
        <p:spPr>
          <a:xfrm>
            <a:off x="1800360" y="51926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iñe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5 Forma libre"/>
          <p:cNvSpPr/>
          <p:nvPr/>
        </p:nvSpPr>
        <p:spPr>
          <a:xfrm>
            <a:off x="1187280" y="5373720"/>
            <a:ext cx="762120" cy="84276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uadroTexto"/>
          <p:cNvSpPr/>
          <p:nvPr/>
        </p:nvSpPr>
        <p:spPr>
          <a:xfrm>
            <a:off x="216000" y="5805360"/>
            <a:ext cx="23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Lomas de lo Agui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63817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royectos y polígonos agrícolas y otros aledaños al tramo poniente del río en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vista aerea ENEA2"/>
          <p:cNvPicPr/>
          <p:nvPr/>
        </p:nvPicPr>
        <p:blipFill>
          <a:blip r:embed="rId1"/>
          <a:stretch/>
        </p:blipFill>
        <p:spPr>
          <a:xfrm>
            <a:off x="0" y="1062000"/>
            <a:ext cx="5796000" cy="5796000"/>
          </a:xfrm>
          <a:prstGeom prst="rect">
            <a:avLst/>
          </a:prstGeom>
          <a:ln w="0">
            <a:noFill/>
          </a:ln>
        </p:spPr>
      </p:pic>
      <p:sp>
        <p:nvSpPr>
          <p:cNvPr id="109" name="Oval 6"/>
          <p:cNvSpPr/>
          <p:nvPr/>
        </p:nvSpPr>
        <p:spPr>
          <a:xfrm>
            <a:off x="6877080" y="2349360"/>
            <a:ext cx="1440000" cy="865440"/>
          </a:xfrm>
          <a:prstGeom prst="ellipse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164360" y="2565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5869080" y="620640"/>
            <a:ext cx="1511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083280" y="776160"/>
            <a:ext cx="1079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Ener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7451640" y="620640"/>
            <a:ext cx="144144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7451640" y="657360"/>
            <a:ext cx="1692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milia Guzmán Ni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6804000" y="1773360"/>
            <a:ext cx="36036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7740360" y="1700280"/>
            <a:ext cx="360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6012000" y="3321000"/>
            <a:ext cx="2735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NEA es una empresa inmobiliaria integral cuyo fin es el desarrollo urbanístico de aproximadamente 1.000 hectáreas de la comuna de Pudahuel, adyacentes al Aeropuerto Internacional de Santiago … en donde se integran industrias, oficinas, proyectos habitacionales, área verdes y de recreación, áreas de servicios, áreas de proyectos especiales y zonas de vialidad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48360" y="6370560"/>
            <a:ext cx="24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Fuente: www.enea.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 Título"/>
          <p:cNvSpPr/>
          <p:nvPr/>
        </p:nvSpPr>
        <p:spPr>
          <a:xfrm>
            <a:off x="2411280" y="1376280"/>
            <a:ext cx="2989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nea, Parque de Nego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31:24Z</dcterms:created>
  <dc:creator>feña</dc:creator>
  <dc:description/>
  <dc:language>en-US</dc:language>
  <cp:lastModifiedBy>mpavez</cp:lastModifiedBy>
  <dcterms:modified xsi:type="dcterms:W3CDTF">2008-01-29T14:06:41Z</dcterms:modified>
  <cp:revision>74</cp:revision>
  <dc:subject/>
  <dc:title>Corredor fluvial del Mapocho y sus terrazas urbanas en la comuna de Pudahuel</dc:title>
</cp:coreProperties>
</file>