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152-DD4E-4797-99C7-A1E281E0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A47D-964B-4527-8D2C-A1047610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23D-3ECA-439D-B21C-BAE7728D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7EDD-AF1D-4B83-9356-1503BCC5F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4FF-0198-43C8-8C0C-C1AA4055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066-577B-4783-AF9C-B7C10A437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49B-311A-4425-B59C-B1C41B90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1B5-0AD1-4BF7-BB0D-08BB1B4B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A126-3DC2-4CB6-89C6-2EFDFD32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CD7-2A68-4A9E-8B8C-B77B6B5F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C355-DA01-4302-879E-653D7A1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895-F23C-42B9-89C3-957CDE7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871C-C7C5-45BA-9ABF-28E5619384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778040"/>
            <a:ext cx="5329080" cy="507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9980000">
            <a:off x="468360" y="2815920"/>
            <a:ext cx="936720" cy="151128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44640"/>
            <a:ext cx="77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ANTECEDENTES DE LA COMUNA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Urbanismo 2 – 2°sem 2007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:  David Lipszyc - Fernanda Sagredo - Aileen Stein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2360" y="2133720"/>
            <a:ext cx="2989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95.653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316.409 h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97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991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En proyecto Golf Mapocho, como parte de un proyecto priv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27640" y="180828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96000" y="5661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ente: www.enea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376280"/>
            <a:ext cx="24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NEA: Proyecto y terr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3678600">
            <a:off x="610920" y="2284200"/>
            <a:ext cx="38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vialidad enea"/>
          <p:cNvPicPr/>
          <p:nvPr/>
        </p:nvPicPr>
        <p:blipFill>
          <a:blip r:embed="rId1"/>
          <a:stretch/>
        </p:blipFill>
        <p:spPr>
          <a:xfrm>
            <a:off x="0" y="1646280"/>
            <a:ext cx="6948360" cy="521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128000" y="1736640"/>
            <a:ext cx="201600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ceso directo al Aeropuerto Internacional de Santiago, a través de un amplio nudo vial de 26 hectá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ea colinda con vías estructurantes concesionadas de Santiago: Ruta 68 hacia Viña del Mar y Valparaíso (Autopistas del Pacifico); Av. Américo Vespucio (Concesionaria Vespucio Norte Express); Av. San Pablo y Costanera Norte, principal eje de conexión con el sector oriente de Santi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50920" y="1052640"/>
            <a:ext cx="4614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ialidad en ENEA y estructura de aproxi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1510" t="6250" r="28249" b="4918"/>
          <a:stretch/>
        </p:blipFill>
        <p:spPr>
          <a:xfrm>
            <a:off x="0" y="2058840"/>
            <a:ext cx="356400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4 Rectángulo"/>
          <p:cNvSpPr/>
          <p:nvPr/>
        </p:nvSpPr>
        <p:spPr>
          <a:xfrm>
            <a:off x="0" y="6643800"/>
            <a:ext cx="9144000" cy="21420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Calibri"/>
              </a:rPr>
              <a:t>Fuente: www.enea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851280" y="1233360"/>
            <a:ext cx="529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8 hectáreas de uso industrial exclus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proyectos habit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5300640"/>
            <a:ext cx="432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5922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Fa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76720" y="2097000"/>
            <a:ext cx="4572000" cy="321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85080" y="3176640"/>
            <a:ext cx="936720" cy="111600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620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59280" y="2276640"/>
            <a:ext cx="28814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110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Av. Américo  Vespucio y Calle San Pab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s habit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30130" t="44961" r="60008" b="39921"/>
          <a:stretch/>
        </p:blipFill>
        <p:spPr>
          <a:xfrm>
            <a:off x="216000" y="5084640"/>
            <a:ext cx="1584360" cy="151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rcRect l="40004" t="44961" r="50137" b="39921"/>
          <a:stretch/>
        </p:blipFill>
        <p:spPr>
          <a:xfrm>
            <a:off x="1979640" y="5084640"/>
            <a:ext cx="1584360" cy="1519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4"/>
          <a:srcRect l="49866" t="44961" r="39856" b="39921"/>
          <a:stretch/>
        </p:blipFill>
        <p:spPr>
          <a:xfrm>
            <a:off x="3780000" y="5084640"/>
            <a:ext cx="1584000" cy="145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5"/>
          <a:srcRect l="59737" t="44961" r="30392" b="39921"/>
          <a:stretch/>
        </p:blipFill>
        <p:spPr>
          <a:xfrm>
            <a:off x="5651640" y="5084640"/>
            <a:ext cx="1584360" cy="1517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6"/>
          <a:srcRect l="69599" t="44980" r="20521" b="39925"/>
          <a:stretch/>
        </p:blipFill>
        <p:spPr>
          <a:xfrm>
            <a:off x="7451640" y="5084640"/>
            <a:ext cx="1513080" cy="1446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1160640"/>
            <a:ext cx="30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79640" y="3500280"/>
            <a:ext cx="936720" cy="97344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26876" t="7209" r="12892" b="5853"/>
          <a:stretch/>
        </p:blipFill>
        <p:spPr>
          <a:xfrm>
            <a:off x="0" y="2168640"/>
            <a:ext cx="4140360" cy="373356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755640" y="1341360"/>
            <a:ext cx="100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ase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364000" y="765000"/>
            <a:ext cx="122400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537080" y="1484280"/>
            <a:ext cx="460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menzó a desarrollarse y urbanizar a principios de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enta con zonas industriales y equipami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572000" cy="3209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128000" y="3608280"/>
            <a:ext cx="396720" cy="140508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764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5940360" y="2349360"/>
            <a:ext cx="288144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181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Av. Américo  Vespucio y Calle San Pab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cha de Golf, actualmente abierta al public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arque temático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entro Deportiv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Área Logística asociada a servicios aeroportuario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ciento ferial.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640" y="1233360"/>
            <a:ext cx="30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2000" y="1989000"/>
            <a:ext cx="1548000" cy="169236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202392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5977080" y="2276640"/>
            <a:ext cx="28810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3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 Parque Cementerio Camino a Caná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turos centros de distribución log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160640"/>
            <a:ext cx="53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4400640"/>
            <a:ext cx="1547640" cy="82872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764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6012000" y="2852640"/>
            <a:ext cx="288108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00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tura expansión del proyecto inmobil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tre las empresas: Copec S.A., ESSO Chile. Próximamente Terminal de Transantiago, concesionaria Alsacia.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160640"/>
            <a:ext cx="37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PD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4920" y="3357720"/>
            <a:ext cx="2160720" cy="143964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57360"/>
            <a:ext cx="5580000" cy="392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5832360" y="1989000"/>
            <a:ext cx="30243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Con el objetivo de acercar un deporte considerado de elite a toda la población, el desarrollo inmobiliario ENEA y el Club Deportivo de Golf Mapocho, entidad deportiva sin fines de lucro, suscribieron un acuerdo que permitió iniciar la ejecución de la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Verdana"/>
              </a:rPr>
              <a:t>primera cancha de golf pública de 18 hoyos de Chile.</a:t>
            </a: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Pública significa que en ella puede jugar cualquier persona que posea un mínimo de instrucción para cuidar la cancha y no poner en riesgo de accidentes a otros jugadore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5842080"/>
            <a:ext cx="88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Nota: El club de golf es un campo deportivo de actividad programada, por lo tanto, habrá las restricciones que corresponden a un campo depor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920" y="116064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Club de Golf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058800">
            <a:off x="1532520" y="1464120"/>
            <a:ext cx="390240" cy="345600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feña\Documents\Universidad\Urbanismo 2\Dibujo.jpg"/>
          <p:cNvPicPr/>
          <p:nvPr/>
        </p:nvPicPr>
        <p:blipFill>
          <a:blip r:embed="rId1"/>
          <a:srcRect l="21513" t="0" r="0" b="11168"/>
          <a:stretch/>
        </p:blipFill>
        <p:spPr>
          <a:xfrm>
            <a:off x="0" y="549360"/>
            <a:ext cx="7715160" cy="5643360"/>
          </a:xfrm>
          <a:prstGeom prst="rect">
            <a:avLst/>
          </a:prstGeom>
          <a:ln w="0">
            <a:noFill/>
          </a:ln>
        </p:spPr>
      </p:pic>
      <p:sp>
        <p:nvSpPr>
          <p:cNvPr id="177" name="5 Forma libre"/>
          <p:cNvSpPr/>
          <p:nvPr/>
        </p:nvSpPr>
        <p:spPr>
          <a:xfrm>
            <a:off x="1224000" y="5229360"/>
            <a:ext cx="762120" cy="84276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CuadroTexto"/>
          <p:cNvSpPr/>
          <p:nvPr/>
        </p:nvSpPr>
        <p:spPr>
          <a:xfrm>
            <a:off x="468360" y="55166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mas de lo Agui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149720"/>
            <a:ext cx="7704000" cy="1547640"/>
          </a:xfrm>
          <a:custGeom>
            <a:avLst/>
            <a:gdLst/>
            <a:ahLst/>
            <a:rect l="l" t="t" r="r" b="b"/>
            <a:pathLst>
              <a:path w="4853" h="975">
                <a:moveTo>
                  <a:pt x="4853" y="907"/>
                </a:moveTo>
                <a:lnTo>
                  <a:pt x="862" y="0"/>
                </a:lnTo>
                <a:lnTo>
                  <a:pt x="0" y="272"/>
                </a:lnTo>
                <a:lnTo>
                  <a:pt x="0" y="362"/>
                </a:lnTo>
                <a:lnTo>
                  <a:pt x="862" y="68"/>
                </a:lnTo>
                <a:lnTo>
                  <a:pt x="4853" y="975"/>
                </a:lnTo>
                <a:lnTo>
                  <a:pt x="4853" y="907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6720" y="657360"/>
            <a:ext cx="1908000" cy="6227640"/>
          </a:xfrm>
          <a:custGeom>
            <a:avLst/>
            <a:gdLst/>
            <a:ahLst/>
            <a:rect l="l" t="t" r="r" b="b"/>
            <a:pathLst>
              <a:path w="1202" h="3923">
                <a:moveTo>
                  <a:pt x="589" y="0"/>
                </a:moveTo>
                <a:lnTo>
                  <a:pt x="90" y="521"/>
                </a:lnTo>
                <a:lnTo>
                  <a:pt x="136" y="1270"/>
                </a:lnTo>
                <a:lnTo>
                  <a:pt x="0" y="1973"/>
                </a:lnTo>
                <a:lnTo>
                  <a:pt x="0" y="2154"/>
                </a:lnTo>
                <a:lnTo>
                  <a:pt x="68" y="2313"/>
                </a:lnTo>
                <a:lnTo>
                  <a:pt x="385" y="2835"/>
                </a:lnTo>
                <a:lnTo>
                  <a:pt x="884" y="3334"/>
                </a:lnTo>
                <a:lnTo>
                  <a:pt x="1088" y="3923"/>
                </a:lnTo>
                <a:lnTo>
                  <a:pt x="1202" y="3923"/>
                </a:lnTo>
                <a:lnTo>
                  <a:pt x="929" y="3311"/>
                </a:lnTo>
                <a:lnTo>
                  <a:pt x="430" y="2789"/>
                </a:lnTo>
                <a:lnTo>
                  <a:pt x="68" y="2200"/>
                </a:lnTo>
                <a:lnTo>
                  <a:pt x="45" y="2041"/>
                </a:lnTo>
                <a:lnTo>
                  <a:pt x="68" y="1905"/>
                </a:lnTo>
                <a:lnTo>
                  <a:pt x="204" y="1224"/>
                </a:lnTo>
                <a:lnTo>
                  <a:pt x="158" y="544"/>
                </a:lnTo>
                <a:lnTo>
                  <a:pt x="680" y="0"/>
                </a:lnTo>
                <a:lnTo>
                  <a:pt x="589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51280" y="6273720"/>
            <a:ext cx="21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3680" y="317664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9810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Otros proyectos aledaños </a:t>
            </a:r>
            <a:br>
              <a:rPr sz="1200"/>
            </a:b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al río Mapocho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560" y="1483920"/>
            <a:ext cx="410364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perficie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197 Km</a:t>
            </a:r>
            <a:r>
              <a:rPr b="0" lang="es-CL" sz="12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, sólo 13 Km</a:t>
            </a:r>
            <a:r>
              <a:rPr b="0" lang="es-CL" sz="12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perficie urb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oblación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194.417 habitantes. (censo 2002)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de los cuales 3.395 viven en la zona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cimiento de población: 40.9% (construcción masiva de vivienda soc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ongitud del río en Pudahuel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9,8 Kms a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Ancho del río a la vista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: 8,4 m - 48,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conomí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Agricultura tradicional, agricultura tecnificada, explotación de áridos, industrias, pequeños empresar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Verdana"/>
                <a:ea typeface="Arial Unicode MS"/>
              </a:rPr>
              <a:t>Recursos natur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as montañas de la Cordillera de la Co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Valle de El Novici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ed fluvial: </a:t>
            </a: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ío Mapoch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, esteros Lampa, Carén y  Las Cru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arque Laguna Caré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elos de irregular calidad agrícola y abundante agua subterráne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9 CuadroTexto"/>
          <p:cNvSpPr/>
          <p:nvPr/>
        </p:nvSpPr>
        <p:spPr>
          <a:xfrm>
            <a:off x="431640" y="5769000"/>
            <a:ext cx="39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CODESUP (Corporación para el desarrollo sustentable de Pudahue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Imagen: www.mpudahuel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3708360" cy="229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3608280"/>
            <a:ext cx="3708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4329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yecto Lomas de Lo Aguir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284720" y="2565360"/>
          <a:ext cx="4647960" cy="1940040"/>
        </p:xfrm>
        <a:graphic>
          <a:graphicData uri="http://schemas.openxmlformats.org/drawingml/2006/table">
            <a:tbl>
              <a:tblPr/>
              <a:tblGrid>
                <a:gridCol w="1787400"/>
                <a:gridCol w="2860560"/>
              </a:tblGrid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Direcció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2f2f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Ruta 68 con Costanera Norte (Lo Aguirre), Pudah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2f2f2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Fecha de entreg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Octubr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Propietari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mobiliaria Santa Isabel S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Construy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Concreta S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rquitecto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udson &amp; Olivos Arquit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8" name="Picture 5" descr="http://www.portalinmobiliario.com/proyimgs/2142_pe.jpg"/>
          <p:cNvPicPr/>
          <p:nvPr/>
        </p:nvPicPr>
        <p:blipFill>
          <a:blip r:embed="rId1"/>
          <a:stretch/>
        </p:blipFill>
        <p:spPr>
          <a:xfrm>
            <a:off x="0" y="1916280"/>
            <a:ext cx="3786120" cy="2933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26920" y="4941720"/>
            <a:ext cx="741708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9 CuadroTexto"/>
          <p:cNvSpPr/>
          <p:nvPr/>
        </p:nvSpPr>
        <p:spPr>
          <a:xfrm>
            <a:off x="5759280" y="4581360"/>
            <a:ext cx="317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</a:t>
            </a: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www.lomasdeloaguirre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280" y="4941720"/>
            <a:ext cx="813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Valle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escritorio o pieza de servicio, 4 baños, terraza en 2º piso, 139,9 m2.construidos </a:t>
            </a:r>
            <a:br>
              <a:rPr sz="1200"/>
            </a:b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Cumbre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escritorio o pieza de servicio, 4 baños, de 139,97 m2. </a:t>
            </a:r>
            <a:br>
              <a:rPr sz="1200"/>
            </a:b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Cumbre B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3 baños, sin terraza 2º piso, de 130,2 m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ecios desde UF 4.550 hasta UF 5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spectos destacables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 9 minutos del Mall de Maipú, a 9 minutos a Estación Metro Las Rejas, 20 minutos Plaza de Armas y acceso directo a Costanera N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1280" y="6273720"/>
            <a:ext cx="21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50920" y="1197000"/>
            <a:ext cx="6708960" cy="4903920"/>
          </a:xfrm>
          <a:prstGeom prst="rect">
            <a:avLst/>
          </a:prstGeom>
          <a:ln w="0">
            <a:noFill/>
          </a:ln>
        </p:spPr>
      </p:pic>
      <p:sp>
        <p:nvSpPr>
          <p:cNvPr id="196" name="8 Forma libre"/>
          <p:cNvSpPr/>
          <p:nvPr/>
        </p:nvSpPr>
        <p:spPr>
          <a:xfrm>
            <a:off x="1150920" y="3249720"/>
            <a:ext cx="1135080" cy="16524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9 CuadroTexto"/>
          <p:cNvSpPr/>
          <p:nvPr/>
        </p:nvSpPr>
        <p:spPr>
          <a:xfrm>
            <a:off x="1258920" y="371628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arque Tecnológico  u.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7 CuadroTexto"/>
          <p:cNvSpPr/>
          <p:nvPr/>
        </p:nvSpPr>
        <p:spPr>
          <a:xfrm>
            <a:off x="3672000" y="623736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Fuente:  www.med.uchile.cl Tomo IV</a:t>
            </a:r>
            <a:r>
              <a:rPr b="0" lang="es-CL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dición bimensual marzo-abril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9 CuadroTexto"/>
          <p:cNvSpPr/>
          <p:nvPr/>
        </p:nvSpPr>
        <p:spPr>
          <a:xfrm>
            <a:off x="287280" y="1665360"/>
            <a:ext cx="37101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ropósito de esta iniciativa es crear un espacio propicio que promueva el desarrollo de la innovación y el intercambio tecnológico, a través del agrupamiento de empresas productivas y de servicios, de institutos tecnológicos tanto nacionales como internacionales, además de unidades académicas de investigación de la Universidad de Chile y de otras instituciones de educación superior que se congreguen en este luga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osee 1.034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arque Públic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200 hectáreas : áreas de picnic, rodeo y cancha de go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arque Tecnológic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propiamente tal,  ahí se instalarán empresas e institutos de investigación, tanto públicos como privad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área de soporte, en tanto, brindará los servicios básicos a quienes se ubiquen en Carén.  Incluye la urbanización y un edificio de 9.000 metros cuadrados, diseñado por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arquiteto, Juan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abbagh, llamado Centro de Innov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a inversión se aporxima a los US$ 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4360" cy="185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896000" y="3789360"/>
            <a:ext cx="4248000" cy="2319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896000" y="350028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te.: Echenique &amp;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6360" y="2924280"/>
            <a:ext cx="79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flex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 la comuna de Pudahuel, la accesibilidad al borde del río Mapocho es casi nula, por lo que no se pudo fotografiar el lu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No posee puentes peatonales que lo crucen, solo vehiculares, en los cuales no se puede detener ni estacion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Hoy en día, el río Mapocho si posee un parque (campo de golf) en su rivera, el cual pertenece a una empresa privada, Enea. Éste lo catalogaron como publico, pero al ser un campo deportivo de actividades programadas, su uso y acceso es muy restring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1484280"/>
            <a:ext cx="44640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ectiv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uta 68: conecta a la ciudad de Santiago con la conurbación costera de Valparaí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Aeropuerto Internacional de Pudahuel (el más importante del paí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jes: Avda. Américo Vespucio, Costanera Norte, Av. San Pab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ementos destac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 de Estudios Nucleares de Lo Aguirre, uno de los dos existentes en el paí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Zonas industri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yectos inmobiliarios (viviendas o industriales)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216000" y="526572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texto: CODESUP (corporación para el desarrollo sustentable de Pudahue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imagen: Google Earth, www.ENEA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24360" y="3068640"/>
            <a:ext cx="40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aisajismo carretera al aero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6021360"/>
            <a:ext cx="40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 inmobiliario Enea (asociación Enersis y familia Guzmá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19640" y="944640"/>
            <a:ext cx="3240000" cy="215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9640" y="3421080"/>
            <a:ext cx="33130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000" y="1449360"/>
            <a:ext cx="7177320" cy="513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180828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l río Mapoch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9885" t="15000" r="25585" b="25937"/>
          <a:stretch/>
        </p:blipFill>
        <p:spPr>
          <a:xfrm>
            <a:off x="755640" y="817560"/>
            <a:ext cx="7286760" cy="6040440"/>
          </a:xfrm>
          <a:prstGeom prst="rect">
            <a:avLst/>
          </a:prstGeom>
          <a:ln w="0">
            <a:noFill/>
          </a:ln>
        </p:spPr>
      </p:pic>
      <p:cxnSp>
        <p:nvCxnSpPr>
          <p:cNvPr id="58" name="30 Conector recto de flecha"/>
          <p:cNvCxnSpPr/>
          <p:nvPr/>
        </p:nvCxnSpPr>
        <p:spPr>
          <a:xfrm flipV="1">
            <a:off x="6858000" y="1642680"/>
            <a:ext cx="72000" cy="2000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33 Conector recto de flecha"/>
          <p:cNvCxnSpPr/>
          <p:nvPr/>
        </p:nvCxnSpPr>
        <p:spPr>
          <a:xfrm flipH="1" flipV="1">
            <a:off x="5928480" y="1571760"/>
            <a:ext cx="143640" cy="2071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36 Conector recto de flecha"/>
          <p:cNvCxnSpPr/>
          <p:nvPr/>
        </p:nvCxnSpPr>
        <p:spPr>
          <a:xfrm flipH="1">
            <a:off x="3142440" y="4142160"/>
            <a:ext cx="1429560" cy="143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" name="1 Título"/>
          <p:cNvSpPr/>
          <p:nvPr/>
        </p:nvSpPr>
        <p:spPr>
          <a:xfrm>
            <a:off x="1008000" y="1916280"/>
            <a:ext cx="338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 Unicode MS"/>
              </a:rPr>
              <a:t>Cruces del río Mapoch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645000"/>
            <a:ext cx="3240000" cy="468360"/>
          </a:xfrm>
          <a:prstGeom prst="rect">
            <a:avLst/>
          </a:prstGeom>
          <a:solidFill>
            <a:srgbClr val="eeece1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8 Rectángulo"/>
          <p:cNvSpPr/>
          <p:nvPr/>
        </p:nvSpPr>
        <p:spPr>
          <a:xfrm>
            <a:off x="4643280" y="3643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uentes: 3 (Vespucio, ruta 68 y carretera al aeropuer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8 CuadroTexto"/>
          <p:cNvSpPr/>
          <p:nvPr/>
        </p:nvSpPr>
        <p:spPr>
          <a:xfrm>
            <a:off x="395280" y="576900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ente: Asesoría Urbana I. Municipalidad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Conector recto"/>
          <p:cNvSpPr/>
          <p:nvPr/>
        </p:nvSpPr>
        <p:spPr>
          <a:xfrm>
            <a:off x="7143840" y="1357200"/>
            <a:ext cx="285840" cy="1800"/>
          </a:xfrm>
          <a:prstGeom prst="line">
            <a:avLst/>
          </a:prstGeom>
          <a:ln w="38160">
            <a:solidFill>
              <a:srgbClr val="061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1 Conector recto"/>
          <p:cNvSpPr/>
          <p:nvPr/>
        </p:nvSpPr>
        <p:spPr>
          <a:xfrm>
            <a:off x="7143840" y="1712880"/>
            <a:ext cx="285840" cy="1800"/>
          </a:xfrm>
          <a:prstGeom prst="line">
            <a:avLst/>
          </a:prstGeom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5 Conector recto"/>
          <p:cNvSpPr/>
          <p:nvPr/>
        </p:nvSpPr>
        <p:spPr>
          <a:xfrm>
            <a:off x="7143840" y="2071800"/>
            <a:ext cx="285840" cy="1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6 CuadroTexto"/>
          <p:cNvSpPr/>
          <p:nvPr/>
        </p:nvSpPr>
        <p:spPr>
          <a:xfrm>
            <a:off x="7429680" y="1143000"/>
            <a:ext cx="171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imite de la comu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rredores fluv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lles vehicul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yectos inmobiliari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Zona Urbana act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rque Tecnológico, en construc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2422440"/>
            <a:ext cx="28728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2997360"/>
            <a:ext cx="287280" cy="142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3430440"/>
            <a:ext cx="28728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305000"/>
            <a:ext cx="54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Definiciones espaciales dentro de la Comuna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635120"/>
            <a:ext cx="5219640" cy="3897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76720" y="3933720"/>
            <a:ext cx="539640" cy="71928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454" y="0"/>
                </a:moveTo>
                <a:lnTo>
                  <a:pt x="499" y="91"/>
                </a:lnTo>
                <a:lnTo>
                  <a:pt x="454" y="273"/>
                </a:lnTo>
                <a:lnTo>
                  <a:pt x="454" y="363"/>
                </a:lnTo>
                <a:lnTo>
                  <a:pt x="499" y="454"/>
                </a:lnTo>
                <a:lnTo>
                  <a:pt x="409" y="499"/>
                </a:lnTo>
                <a:lnTo>
                  <a:pt x="0" y="363"/>
                </a:lnTo>
                <a:lnTo>
                  <a:pt x="46" y="273"/>
                </a:lnTo>
                <a:lnTo>
                  <a:pt x="0" y="273"/>
                </a:lnTo>
                <a:lnTo>
                  <a:pt x="46" y="182"/>
                </a:lnTo>
                <a:lnTo>
                  <a:pt x="137" y="182"/>
                </a:lnTo>
                <a:lnTo>
                  <a:pt x="182" y="136"/>
                </a:lnTo>
                <a:lnTo>
                  <a:pt x="273" y="91"/>
                </a:lnTo>
                <a:lnTo>
                  <a:pt x="318" y="0"/>
                </a:lnTo>
                <a:lnTo>
                  <a:pt x="454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2000" y="4508640"/>
            <a:ext cx="27432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feña\Documents\Universidad\Urbanismo 2\Dibujo.jpg"/>
          <p:cNvPicPr/>
          <p:nvPr/>
        </p:nvPicPr>
        <p:blipFill>
          <a:blip r:embed="rId1"/>
          <a:srcRect l="21513" t="0" r="0" b="11168"/>
          <a:stretch/>
        </p:blipFill>
        <p:spPr>
          <a:xfrm>
            <a:off x="0" y="620640"/>
            <a:ext cx="7715160" cy="5643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149720"/>
            <a:ext cx="7704000" cy="1547640"/>
          </a:xfrm>
          <a:custGeom>
            <a:avLst/>
            <a:gdLst/>
            <a:ahLst/>
            <a:rect l="l" t="t" r="r" b="b"/>
            <a:pathLst>
              <a:path w="4853" h="975">
                <a:moveTo>
                  <a:pt x="4853" y="907"/>
                </a:moveTo>
                <a:lnTo>
                  <a:pt x="862" y="0"/>
                </a:lnTo>
                <a:lnTo>
                  <a:pt x="0" y="272"/>
                </a:lnTo>
                <a:lnTo>
                  <a:pt x="0" y="362"/>
                </a:lnTo>
                <a:lnTo>
                  <a:pt x="862" y="68"/>
                </a:lnTo>
                <a:lnTo>
                  <a:pt x="4853" y="975"/>
                </a:lnTo>
                <a:lnTo>
                  <a:pt x="4853" y="907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76720" y="657360"/>
            <a:ext cx="1908000" cy="6227640"/>
          </a:xfrm>
          <a:custGeom>
            <a:avLst/>
            <a:gdLst/>
            <a:ahLst/>
            <a:rect l="l" t="t" r="r" b="b"/>
            <a:pathLst>
              <a:path w="1202" h="3923">
                <a:moveTo>
                  <a:pt x="589" y="0"/>
                </a:moveTo>
                <a:lnTo>
                  <a:pt x="90" y="521"/>
                </a:lnTo>
                <a:lnTo>
                  <a:pt x="136" y="1270"/>
                </a:lnTo>
                <a:lnTo>
                  <a:pt x="0" y="1973"/>
                </a:lnTo>
                <a:lnTo>
                  <a:pt x="0" y="2154"/>
                </a:lnTo>
                <a:lnTo>
                  <a:pt x="68" y="2313"/>
                </a:lnTo>
                <a:lnTo>
                  <a:pt x="385" y="2835"/>
                </a:lnTo>
                <a:lnTo>
                  <a:pt x="884" y="3334"/>
                </a:lnTo>
                <a:lnTo>
                  <a:pt x="1088" y="3923"/>
                </a:lnTo>
                <a:lnTo>
                  <a:pt x="1202" y="3923"/>
                </a:lnTo>
                <a:lnTo>
                  <a:pt x="929" y="3311"/>
                </a:lnTo>
                <a:lnTo>
                  <a:pt x="430" y="2789"/>
                </a:lnTo>
                <a:lnTo>
                  <a:pt x="68" y="2200"/>
                </a:lnTo>
                <a:lnTo>
                  <a:pt x="45" y="2041"/>
                </a:lnTo>
                <a:lnTo>
                  <a:pt x="68" y="1905"/>
                </a:lnTo>
                <a:lnTo>
                  <a:pt x="204" y="1224"/>
                </a:lnTo>
                <a:lnTo>
                  <a:pt x="158" y="544"/>
                </a:lnTo>
                <a:lnTo>
                  <a:pt x="680" y="0"/>
                </a:lnTo>
                <a:lnTo>
                  <a:pt x="58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5977080" y="6345360"/>
            <a:ext cx="29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Fuente de todas las fotos verticales: Google Ea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4360" y="2421000"/>
            <a:ext cx="194328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88000" y="238428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STANERA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5111640" y="3860640"/>
            <a:ext cx="111600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3640" y="38242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 VESPU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2555640" y="5013360"/>
            <a:ext cx="93492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976640"/>
            <a:ext cx="9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A 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719280" y="2205000"/>
            <a:ext cx="252072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187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RETERA AEROPU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24360" y="4652640"/>
            <a:ext cx="7128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396864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22560" y="2097000"/>
            <a:ext cx="1800" cy="3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1800" y="2313000"/>
            <a:ext cx="358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15920"/>
            <a:ext cx="68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Vías</a:t>
            </a: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principales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7572240" cy="553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873000"/>
            <a:ext cx="7572240" cy="5535720"/>
          </a:xfrm>
          <a:prstGeom prst="rect">
            <a:avLst/>
          </a:prstGeom>
          <a:ln w="0">
            <a:noFill/>
          </a:ln>
        </p:spPr>
      </p:pic>
      <p:sp>
        <p:nvSpPr>
          <p:cNvPr id="97" name="8 Forma libre"/>
          <p:cNvSpPr/>
          <p:nvPr/>
        </p:nvSpPr>
        <p:spPr>
          <a:xfrm>
            <a:off x="0" y="3176640"/>
            <a:ext cx="1135080" cy="16524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97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arqu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Forma libre"/>
          <p:cNvSpPr/>
          <p:nvPr/>
        </p:nvSpPr>
        <p:spPr>
          <a:xfrm>
            <a:off x="1150920" y="2600280"/>
            <a:ext cx="2158920" cy="1714680"/>
          </a:xfrm>
          <a:prstGeom prst="pie">
            <a:avLst/>
          </a:prstGeom>
          <a:solidFill>
            <a:srgbClr val="ffff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2 CuadroTexto"/>
          <p:cNvSpPr/>
          <p:nvPr/>
        </p:nvSpPr>
        <p:spPr>
          <a:xfrm>
            <a:off x="1295280" y="314172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ctor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1280" y="2529000"/>
            <a:ext cx="3672000" cy="2376360"/>
          </a:xfrm>
          <a:custGeom>
            <a:avLst/>
            <a:gdLst/>
            <a:ahLst/>
            <a:rect l="l" t="t" r="r" b="b"/>
            <a:pathLst>
              <a:path w="2313" h="1497">
                <a:moveTo>
                  <a:pt x="1179" y="0"/>
                </a:moveTo>
                <a:lnTo>
                  <a:pt x="1089" y="272"/>
                </a:lnTo>
                <a:lnTo>
                  <a:pt x="998" y="408"/>
                </a:lnTo>
                <a:lnTo>
                  <a:pt x="907" y="454"/>
                </a:lnTo>
                <a:lnTo>
                  <a:pt x="771" y="454"/>
                </a:lnTo>
                <a:lnTo>
                  <a:pt x="680" y="544"/>
                </a:lnTo>
                <a:lnTo>
                  <a:pt x="590" y="544"/>
                </a:lnTo>
                <a:lnTo>
                  <a:pt x="499" y="590"/>
                </a:lnTo>
                <a:lnTo>
                  <a:pt x="363" y="726"/>
                </a:lnTo>
                <a:lnTo>
                  <a:pt x="272" y="726"/>
                </a:lnTo>
                <a:lnTo>
                  <a:pt x="227" y="771"/>
                </a:lnTo>
                <a:lnTo>
                  <a:pt x="227" y="953"/>
                </a:lnTo>
                <a:lnTo>
                  <a:pt x="0" y="1043"/>
                </a:lnTo>
                <a:lnTo>
                  <a:pt x="91" y="1179"/>
                </a:lnTo>
                <a:lnTo>
                  <a:pt x="227" y="1179"/>
                </a:lnTo>
                <a:lnTo>
                  <a:pt x="317" y="1451"/>
                </a:lnTo>
                <a:lnTo>
                  <a:pt x="1089" y="1451"/>
                </a:lnTo>
                <a:lnTo>
                  <a:pt x="1950" y="1497"/>
                </a:lnTo>
                <a:lnTo>
                  <a:pt x="2223" y="1361"/>
                </a:lnTo>
                <a:lnTo>
                  <a:pt x="2223" y="1134"/>
                </a:lnTo>
                <a:lnTo>
                  <a:pt x="2313" y="1134"/>
                </a:lnTo>
                <a:lnTo>
                  <a:pt x="2313" y="635"/>
                </a:lnTo>
                <a:lnTo>
                  <a:pt x="2223" y="635"/>
                </a:lnTo>
                <a:lnTo>
                  <a:pt x="2268" y="408"/>
                </a:lnTo>
                <a:lnTo>
                  <a:pt x="1905" y="136"/>
                </a:lnTo>
                <a:lnTo>
                  <a:pt x="1678" y="136"/>
                </a:lnTo>
                <a:lnTo>
                  <a:pt x="1678" y="45"/>
                </a:lnTo>
                <a:lnTo>
                  <a:pt x="1179" y="0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371628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0 Forma libre"/>
          <p:cNvSpPr/>
          <p:nvPr/>
        </p:nvSpPr>
        <p:spPr>
          <a:xfrm>
            <a:off x="1438200" y="4311720"/>
            <a:ext cx="1476360" cy="194148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1 CuadroTexto"/>
          <p:cNvSpPr/>
          <p:nvPr/>
        </p:nvSpPr>
        <p:spPr>
          <a:xfrm>
            <a:off x="1800360" y="5192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iñe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Forma libre"/>
          <p:cNvSpPr/>
          <p:nvPr/>
        </p:nvSpPr>
        <p:spPr>
          <a:xfrm>
            <a:off x="1187280" y="5373720"/>
            <a:ext cx="762120" cy="84276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uadroTexto"/>
          <p:cNvSpPr/>
          <p:nvPr/>
        </p:nvSpPr>
        <p:spPr>
          <a:xfrm>
            <a:off x="216000" y="5805360"/>
            <a:ext cx="23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omas de lo Agui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63817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royectos y polígonos agrícolas y otros aledaños al tramo poniente del rí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vista aerea ENEA2"/>
          <p:cNvPicPr/>
          <p:nvPr/>
        </p:nvPicPr>
        <p:blipFill>
          <a:blip r:embed="rId1"/>
          <a:stretch/>
        </p:blipFill>
        <p:spPr>
          <a:xfrm>
            <a:off x="0" y="1062000"/>
            <a:ext cx="5796000" cy="579600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6877080" y="2349360"/>
            <a:ext cx="1440000" cy="865440"/>
          </a:xfrm>
          <a:prstGeom prst="ellipse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164360" y="2565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5869080" y="620640"/>
            <a:ext cx="1511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083280" y="776160"/>
            <a:ext cx="1079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Ener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7451640" y="620640"/>
            <a:ext cx="144144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451640" y="657360"/>
            <a:ext cx="1692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milia Guzmán Ni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6804000" y="1773360"/>
            <a:ext cx="360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7740360" y="170028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6012000" y="3321000"/>
            <a:ext cx="2735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NEA es una empresa inmobiliaria integral cuyo fin es el desarrollo urbanístico de aproximadamente 1.000 hectáreas de la comuna de Pudahuel, adyacentes al Aeropuerto Internacional de Santiago … en donde se integran industrias, oficinas, proyectos habitacionales, área verdes y de recreación, áreas de servicios, áreas de proyectos especiales y zonas de vialidad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8360" y="6370560"/>
            <a:ext cx="24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uente: www.enea.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 Título"/>
          <p:cNvSpPr/>
          <p:nvPr/>
        </p:nvSpPr>
        <p:spPr>
          <a:xfrm>
            <a:off x="2411280" y="1376280"/>
            <a:ext cx="2989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ea, Parque de 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31:24Z</dcterms:created>
  <dc:creator>feña</dc:creator>
  <dc:description/>
  <dc:language>en-US</dc:language>
  <cp:lastModifiedBy>mpavez</cp:lastModifiedBy>
  <dcterms:modified xsi:type="dcterms:W3CDTF">2008-01-29T14:06:41Z</dcterms:modified>
  <cp:revision>74</cp:revision>
  <dc:subject/>
  <dc:title>Corredor fluvial del Mapocho y sus terrazas urbanas en la comuna de Pudahuel</dc:title>
</cp:coreProperties>
</file>