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40B-E89C-4CA6-BF13-BA14D2A3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A81-B523-4B60-A7FA-C353834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FC9-5C87-41F5-AF10-73F165D9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442-8498-4AC7-B93D-7D340D5A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4ED-25FB-4925-B8EF-2913CED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658-D4B9-47FD-A9CF-6D893147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2FA-7164-42BE-8799-0823E88A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86C-A224-47B1-B463-59C73C5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494-DD88-47E1-A8CE-7619B5BA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55D-2F53-4677-85E3-19F61C5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B81-F19E-42F7-9533-EF01028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41D-617E-4E0A-86B5-CF0A3A4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709A-7FD7-47E4-B9E2-7F09C83BC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65000"/>
            <a:ext cx="7920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ANTECEDENTES COMUNA DE SANTIAGO (COMUNA CENT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5184720" cy="494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3068640"/>
            <a:ext cx="64944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1484280"/>
            <a:ext cx="29527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200.792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28.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22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963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sur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de los Reyes (antiguos Estadio Servicio de Seguro Social  y Parque Centenario de la Independencia de Chi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Forestal (antiguos Plaza Venezuela-Parque Recoleta-Parque Forestal Ponien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052640"/>
            <a:ext cx="28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620640"/>
            <a:ext cx="842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2498760"/>
            <a:ext cx="6769080" cy="320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1125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spacios Ve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10280" cy="315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094280"/>
            <a:ext cx="4572000" cy="157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12952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de Los Rey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x “Parque Centenari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4083120"/>
            <a:ext cx="3429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00680" y="170028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657600" cy="236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5589720"/>
            <a:ext cx="403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lacio de Bellas Artes, sobre el Parque Forestal (existen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974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ntigua laguna artificial parte del parque Forestal, hoy inexist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4330800"/>
            <a:ext cx="36576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73480"/>
            <a:ext cx="7021440" cy="302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148428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l mercado central histó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246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4708440"/>
            <a:ext cx="5105520" cy="2149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2895840" cy="199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19920" y="448776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nterior de la ex estación de trenes Mapocho, actual Centro Cultural Mapoc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505320" cy="180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3500280"/>
            <a:ext cx="36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sta del río Mapocho y  “puente-restaurante” próximo a Plaza Baquedano y frente a Parque Forestal (desechos directo al Mapoch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140360" cy="277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15000" y="609588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ío Mapocho y Parque Forestal, frente al centro de Santi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143240"/>
            <a:ext cx="414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7871" r="0" b="8726"/>
          <a:stretch/>
        </p:blipFill>
        <p:spPr>
          <a:xfrm>
            <a:off x="0" y="404640"/>
            <a:ext cx="7740720" cy="602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7236000" y="5445000"/>
            <a:ext cx="649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64560" y="530064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ío No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804000" y="4941720"/>
            <a:ext cx="108108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64560" y="4581360"/>
            <a:ext cx="127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Ex vial, teatro “El Puent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84720" y="4292640"/>
            <a:ext cx="180036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35840" y="22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43320" y="400536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urís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16360" y="3500280"/>
            <a:ext cx="3240360" cy="165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256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6720" y="321300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Lore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851280" y="2781000"/>
            <a:ext cx="4033800" cy="20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87840" y="2467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2520" y="1844640"/>
            <a:ext cx="95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Recol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71640" y="1989000"/>
            <a:ext cx="5113440" cy="24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17120" y="256536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atron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63640" y="907920"/>
            <a:ext cx="6193080" cy="316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91640" y="692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La P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95640" y="1268280"/>
            <a:ext cx="5761080" cy="309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92720" y="1122480"/>
            <a:ext cx="80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Los Car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549360"/>
            <a:ext cx="6769080" cy="34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33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Pte. P. Hu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10031" r="55523" b="12759"/>
          <a:stretch/>
        </p:blipFill>
        <p:spPr>
          <a:xfrm>
            <a:off x="4211640" y="2421000"/>
            <a:ext cx="4932360" cy="20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8353"/>
          <a:stretch/>
        </p:blipFill>
        <p:spPr>
          <a:xfrm>
            <a:off x="0" y="83664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24110" r="0" b="15675"/>
          <a:stretch/>
        </p:blipFill>
        <p:spPr>
          <a:xfrm>
            <a:off x="0" y="465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2600" y="105264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PIO NONO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2766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2800" y="2565360"/>
            <a:ext cx="13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PURÍS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462744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LORE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08360" y="4724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8360" y="2421000"/>
            <a:ext cx="3311640" cy="204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3880" y="256536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TEATRO EL PU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04:39Z</dcterms:created>
  <dc:creator>mpavez</dc:creator>
  <dc:description/>
  <dc:language>en-US</dc:language>
  <cp:lastModifiedBy>mpavez</cp:lastModifiedBy>
  <dcterms:modified xsi:type="dcterms:W3CDTF">2008-01-29T14:03:40Z</dcterms:modified>
  <cp:revision>12</cp:revision>
  <dc:subject/>
  <dc:title>Diapositiva 1</dc:title>
</cp:coreProperties>
</file>