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C4B-AD96-49C4-A9F7-62A93569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B9E-4415-4A38-B117-0BCCA7BB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2AE-F822-43C8-B32B-130CB6F9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957-7160-4839-9970-784807E2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325-D419-464E-B3A2-CE463B48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199-86FA-4B5C-8CEE-DB5C5065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9B0-0DC4-4BB6-8B26-94C90EB6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D74-F20C-4B27-89C8-CF5D785A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A7D-95AE-425E-8FD2-8C525D82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AB4-8945-4332-B94C-3EAB6FC9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FE7-9FAB-49E9-BCF9-35469557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335-634D-45C1-8CF3-0AA305D4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D4BD-23DE-4794-81A8-795A25EF3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2381400"/>
            <a:ext cx="4248360" cy="404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3357720"/>
            <a:ext cx="432000" cy="358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1197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TECEDENTES DE LA COMUNA DE IN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2276640"/>
            <a:ext cx="2880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65.479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39.190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7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 actu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8.848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Km lineales borde rí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2 km x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 del rí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r ribera norte del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Bandas verdes Costanera N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laza Tirso de M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1628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4513320" cy="3198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0360" y="907920"/>
            <a:ext cx="22320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 observa (al norte y sur del río) espacios parque reservados entre par-costaneras, como proyectos viales derivados del Plan Intercomunal de 1960-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También se observa que aún se conserva antiguo estadio, hoy de Chilectra próximo al rí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8961480" cy="384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152600" cy="1992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476280"/>
            <a:ext cx="360036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ituación en 1997 (iz.) donde se observa un espacio parque practicable ya plantado entre costanera del Plan 1960-1994 y calle de servicio, (Foto por gentileza de Claudio Monteneg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Abajo,  situación actual luego del paso de una nueva costanera con características de autopista (Costanera Norte), dejando sólo bandas verdes decorativas no practic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8:38:35Z</dcterms:created>
  <dc:creator>mpavez</dc:creator>
  <dc:description/>
  <dc:language>en-US</dc:language>
  <cp:lastModifiedBy>mpavez</cp:lastModifiedBy>
  <dcterms:modified xsi:type="dcterms:W3CDTF">2008-01-29T14:03:00Z</dcterms:modified>
  <cp:revision>6</cp:revision>
  <dc:subject/>
  <dc:title>Diapositiva 1</dc:title>
</cp:coreProperties>
</file>