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88F-5C04-4F94-B4D0-EAADCFFF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C07-6F77-4346-98F8-76BAEFBF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827-3398-4315-9258-600EBB16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3B0-39F3-4021-AD01-7DB2AB85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885-11AA-4CC1-AE48-353B43CF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1C1-45E4-4215-8B46-C0F0E6DB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01E-DEA2-4D0A-B9C1-A3375AA8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503-93D1-46A9-8284-80DE5EC8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033-D9F6-4FA6-A2D8-55A8C3E7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6D7-7797-410A-83D5-37C81B7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78B-430A-4E47-BC70-4366C1C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A8F-ABA7-454D-8FA1-CEA79451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B2FC-361F-4AD7-AB2D-327853FA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2381400"/>
            <a:ext cx="4248360" cy="404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357720"/>
            <a:ext cx="432000" cy="358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TECEDENTES DE LA COMUNA DE IN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276640"/>
            <a:ext cx="28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65.479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39.19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 actu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848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Km lineales borde rí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2 km 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 del rí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Bandas verdes Costanera N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Tirso de M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628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4513320" cy="319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907920"/>
            <a:ext cx="22320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 observa (al norte y sur del río) espacios parque reservados entre par-costaneras, como proyectos viales derivados del Plan Intercomunal de 1960-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ambién se observa que aún se conserva antiguo estadio, hoy de Chilectra próximo a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96148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52600" cy="19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76280"/>
            <a:ext cx="3600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ituación en 1997 (iz.) donde se observa un espacio parque practicable ya plantado entre costanera del Plan 1960-1994 y calle de servicio, (Foto por gentileza de Claudio Monteneg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bajo,  situación actual luego del paso de una nueva costanera con características de autopista (Costanera Norte), dejando sólo bandas verdes decorativas no practic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38:35Z</dcterms:created>
  <dc:creator>mpavez</dc:creator>
  <dc:description/>
  <dc:language>en-US</dc:language>
  <cp:lastModifiedBy>mpavez</cp:lastModifiedBy>
  <dcterms:modified xsi:type="dcterms:W3CDTF">2008-01-29T14:03:00Z</dcterms:modified>
  <cp:revision>6</cp:revision>
  <dc:subject/>
  <dc:title>Diapositiva 1</dc:title>
</cp:coreProperties>
</file>