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121-4D86-43B0-AD40-DEECC2F2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AFA0-A313-4546-8214-9B5CA42F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5B5-DFBB-400F-B083-461EA6FAA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7A0-06B6-4C92-9795-DFCB95D7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CD3E-1284-4085-A5BA-A362BA25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D0B1-8147-4456-94F8-529014BC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3D75-957C-4A2D-AB0D-9EB228D2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B90D-7C6C-42D6-B21C-476B2DCC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982-DA9E-477C-9FCB-4145E797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0C1-896A-4ADE-8E25-D7AB5805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C4A-F98B-4294-955E-71EF3867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5E6-A3B0-4B63-B3F1-20B83345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B6EB-3D77-4EAA-AD0A-E8B9C75DB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2381400"/>
            <a:ext cx="4248360" cy="404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50920" y="3357720"/>
            <a:ext cx="432000" cy="35856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1197000"/>
            <a:ext cx="777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NTECEDENTES DE LA COMUNA DE IN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24360" y="2276640"/>
            <a:ext cx="2880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65.479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39.190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7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 actu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8.848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Km lineales borde rí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2 km 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 del rí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r ribera norte del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Bandas verdes Costanera No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-Plaza Tirso de Mol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1628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4513320" cy="3198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40360" y="907920"/>
            <a:ext cx="22320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e observa (al norte y sur del río) espacios parque reservados entre par-costaneras, como proyectos viales derivados del Plan Intercomunal de 1960-199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También se observa que aún se conserva antiguo estadio, hoy de Chilectra próximo al rí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8961480" cy="3849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152600" cy="1992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788000" y="476280"/>
            <a:ext cx="360036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Situación en 1997 (iz.) donde se observa un espacio parque practicable ya plantado entre costanera del Plan 1960-1994 y calle de servicio, (Foto por gentileza de Claudio Monteneg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Abajo,  situación actual luego del paso de una nueva costanera con características de autopista (Costanera Norte), dejando sólo bandas verdes decorativas no practic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8:38:35Z</dcterms:created>
  <dc:creator>mpavez</dc:creator>
  <dc:description/>
  <dc:language>en-US</dc:language>
  <cp:lastModifiedBy>mpavez</cp:lastModifiedBy>
  <dcterms:modified xsi:type="dcterms:W3CDTF">2008-01-29T14:03:00Z</dcterms:modified>
  <cp:revision>6</cp:revision>
  <dc:subject/>
  <dc:title>Diapositiva 1</dc:title>
</cp:coreProperties>
</file>