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7E9-A5E6-4A15-8137-804550AC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33F-17A7-437D-9573-4CAC8545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14E6-DFF3-46B5-8A74-FC43A346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D58-F1BE-46E3-8168-A941FAA6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89B-8AD9-4D49-AF28-04088587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510-712A-4516-83BC-DE44018D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B5BB-FD17-49A9-8EDB-FC2C4167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3BA-0526-4FBD-BB86-DBA34439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A6C-3593-4FEA-A1FC-3E15A050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23C-7F90-44A7-BB16-EB3F49A6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52C-3143-4313-8153-C1E5982F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3AE-76C0-4DF6-A878-20A2E27D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681D-489F-4862-83DA-07A80138C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620640"/>
            <a:ext cx="669780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ANTECEDENTES DE LA COMUNA DE PROVID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Equipo do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5087880" cy="4849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2708280"/>
            <a:ext cx="720720" cy="71928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360" y="1268280"/>
            <a:ext cx="223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blación comunal en 2002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120.874 h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royección al 2020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124.530 h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Superficie comunal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14,4 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Densidad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 8.394 hab/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Parques en riber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r ribera norte del río Mapoch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Plaza de la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Parque Pedro de Valdivia-De las escultu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r ribera sur del río Mapoch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Parque Providencia-Balmace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Parque Urugu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643040"/>
            <a:ext cx="5724360" cy="2046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02160" y="3817800"/>
            <a:ext cx="4641840" cy="304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12000" y="2852640"/>
            <a:ext cx="26636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Parque Providencia, vistas hacia el poniente (iz.) y oriente (der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9700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Parque Providencia (“Japonés”), en ribera sur (iz.). Vista hacia la Plaza Baqued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51280"/>
            <a:ext cx="40672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435640" y="1557360"/>
            <a:ext cx="33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laza Baquedano con la convergencia de las Comunas de Providencia, Santiago y Recoleta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, y los parques: Bustamante, Providencia, Forestal y Gómez Rojas, junto al río Mapoch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295880" cy="5257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00720" y="2924280"/>
            <a:ext cx="4378320" cy="3139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27640" y="155736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616572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171440"/>
            <a:ext cx="3995640" cy="273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6400800" cy="236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77080" y="443700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Plaza Baquedano 20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638680" y="1700280"/>
            <a:ext cx="35053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272360" cy="3601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549360"/>
            <a:ext cx="640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El río Mapocho marca la línea de edificación en altura permitida hacia el sur, por la existencia del primer subcentro metropolitano Provid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620640"/>
            <a:ext cx="72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Providencia en el primer sub-centro metropolitano formado, y comenzando una etapa de renovación urbana, que elevará su altura considerablemente. En la foto, costanera norte en construcción (ya terminad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3635280" cy="2497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508720" y="4724280"/>
            <a:ext cx="2438280" cy="166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771640" y="4724280"/>
            <a:ext cx="2362320" cy="1627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76360" y="476280"/>
            <a:ext cx="426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Rivera norte, Parque Pedro de Valdivia y de las Esculturas, luego de la construcción de la nueva Costanera Norte, en parte en la caja del rí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1628640"/>
            <a:ext cx="51832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53000" cy="5611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067280" y="2128680"/>
            <a:ext cx="5076720" cy="3463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067280" y="1125360"/>
            <a:ext cx="41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Parque Pedro de Valdivia con la nueva costanera norte en construcción y terminada. Vista al pon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594560" cy="4610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71640" y="620640"/>
            <a:ext cx="619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Nuevo puente La Concepción que comunica con la Avda. Providencia y Estación de metro Pedro de Valdiv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6516720" cy="2990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620640"/>
            <a:ext cx="54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Parque  “Uruguay”, vista al poniente, ribera sur del Mapoc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157720"/>
            <a:ext cx="338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4680000"/>
            <a:ext cx="57988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6156360" cy="3194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400800" y="1989000"/>
            <a:ext cx="2743200" cy="1805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5445000"/>
            <a:ext cx="79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Los vecinos de P. de Valdivia Norte, han solicitado que el nuevo túnel El Salto-Kennedy sólo entre en funciones cuando la nueva Costanera Sur haya sido construida, pues de lo contrario provocaría aún más grandes atochamientos que los que existen en la actual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268280"/>
            <a:ext cx="669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Túnel El Salto-Kennedy en construcción, acometiendo por el sur en la comuna de Providen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716360" cy="27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4500360" cy="2621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5445000"/>
            <a:ext cx="468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A la iz. Posición de acometida del nuevo túnel; a la der. Acometida del canal San Carlos en el río Mapoc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82000" y="2565360"/>
            <a:ext cx="1962000" cy="1328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164360" y="4005360"/>
            <a:ext cx="19796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9:43:38Z</dcterms:created>
  <dc:creator>mpavez</dc:creator>
  <dc:description/>
  <dc:language>en-US</dc:language>
  <cp:lastModifiedBy>mpavez</cp:lastModifiedBy>
  <dcterms:modified xsi:type="dcterms:W3CDTF">2008-01-29T14:01:43Z</dcterms:modified>
  <cp:revision>19</cp:revision>
  <dc:subject/>
  <dc:title>Diapositiva 1</dc:title>
</cp:coreProperties>
</file>