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3.jpeg" ContentType="image/jpeg"/>
  <Override PartName="/ppt/media/image15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1.jpeg" ContentType="image/jpeg"/>
  <Override PartName="/ppt/media/image20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2.jpeg" ContentType="image/jpeg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01A1-C68E-4A4E-9EB3-2DD6B7A2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18BF-02D1-4326-A0DF-60C2A0BD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0667-308A-45DB-82A5-CCDF1F1C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3B3C-A5B7-4E9A-9A9E-49DF3342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551A-86B0-4113-9BD1-17717FE9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6028-CC6F-439F-A90C-EB6DEB54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103-D467-4950-BE68-BE5E745E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06AA-6A99-4C61-A628-537E9A5F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448D-F739-446B-A716-9A0171C6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EE7C-4B03-4DC9-BBD0-F9DADA04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9BCC-B0A8-4305-8746-36BD4BDD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B427-B0D6-4452-8744-8F51FE3C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3D4D-DFCA-43A1-8641-83982CEBB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tección contra la acción del fu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Ventajas de la protección ac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tinción oportuna del fu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ero a la v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292640"/>
            <a:ext cx="82296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igencia de mantenimiento permanente del func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sencia de elementos “extra” en la arquite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314172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Des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Ventajas de la protección pas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n exigencia de mantenimiento mecá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aja exigencia de mantenimiento fí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ajo c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3933720"/>
            <a:ext cx="82296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cultan el ac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314172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Des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321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incen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elulósico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madera, tejidos, papel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Hidrocarburo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petróleo, gas, aceite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de el punto de vista de la protección al fuego, se distinguen por el tiempo que toman en alcanzar su temperatura máxima: los hidrocarburos llegan a 900°C en 8 min; los celulósicos en 60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793800"/>
            <a:ext cx="914400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st de producto de protección pas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producto debe mantenerse adher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piedades inhere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bust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elocidad de propagación de la ll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tribución a la propagación del fu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Revestimientos pasto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úmedos: en base a cemento o y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cos: en base a lana mi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sistemas húmedos son premezclados con agua formando una pasta que se proyecta a presión sobre la estructura por medio de la inyección de aire comprim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sistema secos consisten en la aplicación directa, sin premezclado, del compuesto, proyectándolo sobre la estructura con aire comprimido y un pequeño aporte de agua pulveri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Pinturas intumesc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uestos en base de agua o solvente y pueden ser aplicados por presión de aire, brocha o rodi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pinturas intumescentes reaccionan a temperaturas entre 270 y 300°C, inflándose hasta 20 veces su espesor aplicado. Es este espesor inflado (carbono) el que aporta la capacidad aisl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71640" y="33480"/>
            <a:ext cx="7200720" cy="67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Paneles y ensamblaj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neles de lana mi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neles de yeso reforzado con lana de vid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neles de vermiculita o silicato de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aislación al fuego es obtenida al momento de completar la instalación del panel, y se mantiene mientras el panel conserve su integ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03640" y="4149720"/>
            <a:ext cx="2736720" cy="2487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516720" y="4149720"/>
            <a:ext cx="1552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5976720" cy="2657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16000" y="4005360"/>
            <a:ext cx="78645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6337080" cy="2013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63640" y="3573360"/>
            <a:ext cx="6964560" cy="22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2593800" cy="3744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73360" y="476280"/>
            <a:ext cx="3043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3081240" cy="4005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35760" y="1989000"/>
            <a:ext cx="31082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Protección ac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stemas mecanizados de accionamiento automático, basados en una acción de “extinción del fuego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ociadores (sprinkl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yección de gas (FM-200, CO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, Haló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yección de esp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cionamiento de barreras automá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238040" cy="1981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53240" y="0"/>
            <a:ext cx="2390760" cy="2867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4365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059280" y="4365720"/>
            <a:ext cx="261936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772240" y="2708280"/>
            <a:ext cx="337176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2195640" y="1916280"/>
            <a:ext cx="2076480" cy="1971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1908000" y="0"/>
            <a:ext cx="25657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124160" cy="308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24360" y="2435400"/>
            <a:ext cx="4249800" cy="3211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4076640"/>
            <a:ext cx="3201840" cy="2343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32360" y="4762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stema con FM-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Protección pa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stemas incorporados a la arquitectura o a la estructura de acción permanente, basados en una “resisencia a la acción del fuego”, medida en tiemp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vestimientos past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inturas intumesc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neles y ensambla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21:39:44Z</dcterms:created>
  <dc:creator>Alberto Montealegre B.</dc:creator>
  <dc:description/>
  <dc:language>en-US</dc:language>
  <cp:lastModifiedBy>Alberto Montealegre B.</cp:lastModifiedBy>
  <dcterms:modified xsi:type="dcterms:W3CDTF">2005-10-17T02:55:03Z</dcterms:modified>
  <cp:revision>4</cp:revision>
  <dc:subject/>
  <dc:title>Acero</dc:title>
</cp:coreProperties>
</file>