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3.jpeg" ContentType="image/jpeg"/>
  <Override PartName="/ppt/media/image1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1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2.jpeg" ContentType="image/jpeg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5BA-07A5-4596-A9CE-03C0087B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226C-7C43-48A1-A6ED-AD97F272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9FCF-367F-4607-B25B-A879932A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AB5-3C42-4476-8B80-CC051EA9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112-4CFD-4F35-82F2-9622A986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827-114A-4931-8993-0075161E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0BE-52A8-4DBC-9345-0FD167ED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3E0F-9548-4CFB-B70F-E54B9526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944-F274-4D46-80BC-1F8FCA50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8C2-73BE-4A08-A500-F47D38EB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0D2-7F5E-4297-BD5C-9E06893F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B50E-5125-477A-9E74-AD6BE212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8C20-E562-4644-9EB9-12239A3B1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tección contra la acción del fu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Ventajas de la protección a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tinción oportuna del fu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ero a la v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292640"/>
            <a:ext cx="8229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gencia de mantenimiento permanente del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sencia de elementos “extra” en la arquit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314172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Des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Ventajas de la protección pas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 exigencia de mantenimiento mec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aja exigencia de mantenimiento fí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ajo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3933720"/>
            <a:ext cx="8229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cultan el ac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314172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Des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321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incen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elulósic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madera, tejidos, papel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idrocarbur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petróleo, gas, aceite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de el punto de vista de la protección al fuego, se distinguen por el tiempo que toman en alcanzar su temperatura máxima: los hidrocarburos llegan a 900°C en 8 min; los celulósicos en 6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793800"/>
            <a:ext cx="91440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st de producto de protección pas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roducto debe mantenerse adher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piedades inher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bust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locidad de propagación de la ll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tribución a la propagación del fu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Revestimientos pasto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úmedos: en base a cemento o y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cos: en base a lana mi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sistemas húmedos son premezclados con agua formando una pasta que se proyecta a presión sobre la estructura por medio de la inyección de aire comprim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sistema secos consisten en la aplicación directa, sin premezclado, del compuesto, proyectándolo sobre la estructura con aire comprimido y un pequeño aporte de agua pulver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inturas intumesc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uestos en base de agua o solvente y pueden ser aplicados por presión de aire, brocha o rodi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pinturas intumescentes reaccionan a temperaturas entre 270 y 300°C, inflándose hasta 20 veces su espesor aplicado. Es este espesor inflado (carbono) el que aporta la capacidad aisl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71640" y="33480"/>
            <a:ext cx="7200720" cy="67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aneles y ensamblaj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neles de lana mi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neles de yeso reforzado con lana de vid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neles de vermiculita o silicato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islación al fuego es obtenida al momento de completar la instalación del panel, y se mantiene mientras el panel conserve su integ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03640" y="4149720"/>
            <a:ext cx="2736720" cy="2487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516720" y="4149720"/>
            <a:ext cx="1552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5976720" cy="2657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16000" y="4005360"/>
            <a:ext cx="78645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6337080" cy="2013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63640" y="3573360"/>
            <a:ext cx="696456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2593800" cy="3744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73360" y="476280"/>
            <a:ext cx="304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3081240" cy="4005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35760" y="1989000"/>
            <a:ext cx="31082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rotección a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stemas mecanizados de accionamiento automático, basados en una acción de “extinción del fuego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ociadores (sprinkl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yección de gas (FM-200, CO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, Haló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yección de esp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cionamiento de barreras autom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23804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53240" y="0"/>
            <a:ext cx="2390760" cy="2867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4365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59280" y="4365720"/>
            <a:ext cx="261936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772240" y="2708280"/>
            <a:ext cx="337176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195640" y="1916280"/>
            <a:ext cx="2076480" cy="1971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1908000" y="0"/>
            <a:ext cx="25657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124160" cy="30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24360" y="2435400"/>
            <a:ext cx="4249800" cy="3211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4076640"/>
            <a:ext cx="3201840" cy="2343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32360" y="476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 con FM-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rotección pa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stemas incorporados a la arquitectura o a la estructura de acción permanente, basados en una “resisencia a la acción del fuego”, medida en tiemp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vestimientos past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inturas intumes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neles y ensambla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21:39:44Z</dcterms:created>
  <dc:creator>Alberto Montealegre B.</dc:creator>
  <dc:description/>
  <dc:language>en-US</dc:language>
  <cp:lastModifiedBy>Alberto Montealegre B.</cp:lastModifiedBy>
  <dcterms:modified xsi:type="dcterms:W3CDTF">2005-10-17T02:55:03Z</dcterms:modified>
  <cp:revision>4</cp:revision>
  <dc:subject/>
  <dc:title>Acero</dc:title>
</cp:coreProperties>
</file>