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307-A629-4A36-8982-4371F1DD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524-8FD7-4BF6-9A22-4E7DF011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3F6-330F-4D36-9414-93CDCB16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E93-5276-4882-AA75-661C56B5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D98-FB0F-4967-A02D-E3CFF5EE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7B1-E1E2-444B-97A3-A0C9E578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73B-69ED-402E-BD1D-D067788F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F89-C54F-4BCE-826A-DAA8DF38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A69-A4F9-4745-AE16-E5D5EA7B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A77-4E73-4167-946D-75E0BA2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A2F-DACA-44FF-A5CB-578F0E0E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A7D-72A6-49F7-AA1B-850BDD17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A13E-C656-4EFA-8D62-C88631226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tección contra la acción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Ventajas de la 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tinción oportuna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ero a la 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29264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gencia de mantenimiento permanente del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cia de elementos “extra” en la 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Ventajas de la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 exigencia de mantenimiento mec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a exigencia de mantenimien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93372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ltan el ac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21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incen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lulósic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madera, tejidos, pape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idrocarbur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etróleo, gas, aceit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de el punto de vista de la protección al fuego, se distinguen por el tiempo que toman en alcanzar su temperatura máxima: los hidrocarburos llegan a 900°C en 8 min; los celulósicos en 6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st de producto de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ducto debe mantenerse adhe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piedades inh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ust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locidad de propagación de la l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ribución a la propagación del f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Revestimientos past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úmedos: en base a cemento o y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cos: en base a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s húmedos son premezclados con agua formando una pasta que se proyecta a presión sobre la estructura por medio de la inyección de aire comprim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 secos consisten en la aplicación directa, sin premezclado, del compuesto, proyectándolo sobre la estructura con aire comprimido y un pequeño aporte de agua pulver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inturas intumesc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estos en base de agua o solvente y pueden ser aplicados por presión de aire, brocha o rod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pinturas intumescentes reaccionan a temperaturas entre 270 y 300°C, inflándose hasta 20 veces su espesor aplicado. Es este espesor inflado (carbono) el que aporta la capacidad aisl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71640" y="33480"/>
            <a:ext cx="7200720" cy="67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aneles y ensambla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yeso reforzado con lana de vid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vermiculita o silicato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islación al fuego es obtenida al momento de completar la instalación del panel, y se mantiene mientras el panel conserve su integ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736720" cy="248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552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5976720" cy="265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7864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337080" cy="2013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96456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593800" cy="374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73360" y="476280"/>
            <a:ext cx="304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3081240" cy="400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35760" y="1989000"/>
            <a:ext cx="31082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mecanizados de accionamiento automático, basados en una acción de “extinción del fueg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ciadores (sprinkl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gas (FM-200, 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Haló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esp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cionamiento de barreras auto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2380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286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59280" y="4365720"/>
            <a:ext cx="261936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772240" y="2708280"/>
            <a:ext cx="337176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195640" y="1916280"/>
            <a:ext cx="2076480" cy="197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908000" y="0"/>
            <a:ext cx="2565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124160" cy="30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24360" y="2435400"/>
            <a:ext cx="4249800" cy="321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3201840" cy="234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476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con FM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pa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incorporados a la arquitectura o a la estructura de acción permanente, basados en una “resisencia a la acción del fuego”, medida en tiem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estimientos past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nturas intumes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neles y ensambl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1:39:44Z</dcterms:created>
  <dc:creator>Alberto Montealegre B.</dc:creator>
  <dc:description/>
  <dc:language>en-US</dc:language>
  <cp:lastModifiedBy>Alberto Montealegre B.</cp:lastModifiedBy>
  <dcterms:modified xsi:type="dcterms:W3CDTF">2005-10-17T02:55:03Z</dcterms:modified>
  <cp:revision>4</cp:revision>
  <dc:subject/>
  <dc:title>Acero</dc:title>
</cp:coreProperties>
</file>