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2.jpeg" ContentType="image/jpeg"/>
  <Override PartName="/ppt/media/image13.png" ContentType="image/png"/>
  <Override PartName="/ppt/media/image11.png" ContentType="image/pn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4.jpeg" ContentType="image/jpeg"/>
  <Override PartName="/ppt/media/image3.jpeg" ContentType="image/jpeg"/>
  <Override PartName="/ppt/media/image15.png" ContentType="image/png"/>
  <Override PartName="/ppt/media/image27.wmf" ContentType="image/x-wmf"/>
  <Override PartName="/ppt/media/image16.png" ContentType="image/png"/>
  <Override PartName="/ppt/media/image26.wmf" ContentType="image/x-wmf"/>
  <Override PartName="/ppt/media/image24.wmf" ContentType="image/x-wmf"/>
  <Override PartName="/ppt/media/image23.png" ContentType="image/png"/>
  <Override PartName="/ppt/media/image22.png" ContentType="image/png"/>
  <Override PartName="/ppt/media/image1.jpeg" ContentType="image/jpeg"/>
  <Override PartName="/ppt/media/image20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2.jpeg" ContentType="image/jpeg"/>
  <Override PartName="/ppt/media/image2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EFF1-E88E-48B9-B603-642CAA171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1170-208E-4C99-A141-8C9308149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91EA-B996-45D5-95D4-394A8E2B3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F630-5F82-4BDA-B562-12375C102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B2BC-9B1C-4C33-AEF7-896683408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C549-ED6D-457E-AD1D-5F533FE8F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7212-B2EC-43EB-8101-96DADEDF4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C46B-1C92-4CB3-BFA5-D075FCCBF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DF88-5932-49F9-BE12-7C2D37C94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4CA0-967C-4531-A727-5B56C4450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4BF7-A0E5-4B15-B31B-7C1B451D4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91BD-5206-4388-A64A-BC24D78F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6d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DF74A-3D05-4584-826A-77822FFBAB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pn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6d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ce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95280" y="2924280"/>
            <a:ext cx="82296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Protección contra la acción del fue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6d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Ventajas de la protección act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xtinción oportuna del fue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cero a la vi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9640" y="4292640"/>
            <a:ext cx="822960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xigencia de mantenimiento permanente del funcion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resencia de elementos “extra” en la arquitec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3141720"/>
            <a:ext cx="82296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Desventaj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6d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Ventajas de la protección pasi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in exigencia de mantenimiento mecá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Baja exigencia de mantenimiento fís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Bajo co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9640" y="3933720"/>
            <a:ext cx="822960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Ocultan el ac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3141720"/>
            <a:ext cx="82296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Desventaj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6d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411280" y="1268280"/>
            <a:ext cx="432144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6d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Tipos de incend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elulósicos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madera, tejidos, papel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Hidrocarburos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petróleo, gas, aceites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de el punto de vista de la protección al fuego, se distinguen por el tiempo que toman en alcanzar su temperatura máxima: los hidrocarburos llegan a 900°C en 8 min; los celulósicos en 60 m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6d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793800"/>
            <a:ext cx="9144000" cy="52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6d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Test de producto de protección pasi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l producto debe mantenerse adheri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ropiedades inheren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mbusti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Velocidad de propagación de la ll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ntribución a la propagación del fue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6d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Revestimientos pastos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Húmedos: en base a cemento o ye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ecos: en base a lana min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os sistemas húmedos son premezclados con agua formando una pasta que se proyecta a presión sobre la estructura por medio de la inyección de aire comprimi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os sistema secos consisten en la aplicación directa, sin premezclado, del compuesto, proyectándolo sobre la estructura con aire comprimido y un pequeño aporte de agua pulveriz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6d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6d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Pinturas intumesce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ompuestos en base de agua o solvente y pueden ser aplicados por presión de aire, brocha o rodil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s pinturas intumescentes reaccionan a temperaturas entre 270 y 300°C, inflándose hasta 20 veces su espesor aplicado. Es este espesor inflado (carbono) el que aporta la capacidad aisla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6d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971640" y="33480"/>
            <a:ext cx="7200720" cy="67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6d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6d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Paneles y ensamblaj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aneles de lana min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aneles de yeso reforzado con lana de vid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aneles de vermiculita o silicato de cal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aislación al fuego es obtenida al momento de completar la instalación del panel, y se mantiene mientras el panel conserve su integr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203640" y="4149720"/>
            <a:ext cx="2736720" cy="24876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516720" y="4149720"/>
            <a:ext cx="15526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6d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5976720" cy="26575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116000" y="4005360"/>
            <a:ext cx="78645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6d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6337080" cy="2013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763640" y="3573360"/>
            <a:ext cx="6964560" cy="22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6d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6d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2593800" cy="3744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573360" y="476280"/>
            <a:ext cx="30434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6d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71640" y="0"/>
            <a:ext cx="3081240" cy="4005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035760" y="1989000"/>
            <a:ext cx="310824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6d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Protección act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istemas mecanizados de accionamiento automático, basados en una acción de “extinción del fuego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ociadores (sprinkl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yección de gas (FM-200, CO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, Haló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yección de espu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ccionamiento de barreras automát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6d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1238040" cy="1981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753240" y="0"/>
            <a:ext cx="2390760" cy="2867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0" y="436572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3059280" y="4365720"/>
            <a:ext cx="2619360" cy="20574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5772240" y="2708280"/>
            <a:ext cx="3371760" cy="2448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2195640" y="1916280"/>
            <a:ext cx="2076480" cy="1971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1908000" y="0"/>
            <a:ext cx="25657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6d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4124160" cy="30859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924360" y="2435400"/>
            <a:ext cx="4249800" cy="32112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0" y="4076640"/>
            <a:ext cx="3201840" cy="23432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932360" y="47628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stema con FM-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6d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Protección pas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istemas incorporados a la arquitectura o a la estructura de acción permanente, basados en una “resisencia a la acción del fuego”, medida en tiemp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vestimientos pasto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inturas intumesc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aneles y ensamblaj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6T21:39:44Z</dcterms:created>
  <dc:creator>Alberto Montealegre B.</dc:creator>
  <dc:description/>
  <dc:language>en-US</dc:language>
  <cp:lastModifiedBy>Alberto Montealegre B.</cp:lastModifiedBy>
  <dcterms:modified xsi:type="dcterms:W3CDTF">2005-10-17T02:55:03Z</dcterms:modified>
  <cp:revision>4</cp:revision>
  <dc:subject/>
  <dc:title>Acero</dc:title>
</cp:coreProperties>
</file>