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D66-0487-4A2D-A794-B3EDB28A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EA0-4679-4C43-B8D5-2243F29C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B26-1480-4CE6-8A77-0D378947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078-37CF-44A6-ADE9-CE53D456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3DA-7394-417F-9EF0-58C73D8C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74E-B9E1-4888-8476-E0C0A9D3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40D-4A7C-479E-B6B1-F7A3E074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AB6-FD4A-40BC-874F-43031235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114-FBAC-41C3-B2F7-1829C971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691-0164-499C-BA0E-E747768D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08A-0CF4-4B21-9F97-C73B5B2B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BF9-1870-4DFE-BDAA-1F294A1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842D-72C8-4592-B00C-F1EACBA50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tección contra la acción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Ventajas de la 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tinción oportuna del f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ero a la 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29264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gencia de mantenimiento permanente del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cia de elementos “extra” en la arquit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Ventajas de la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 exigencia de mantenimiento mec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a exigencia de mantenimiento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93372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ltan el ac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1417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s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21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incen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lulósic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madera, tejidos, papel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idrocarbur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etróleo, gas, aceit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de el punto de vista de la protección al fuego, se distinguen por el tiempo que toman en alcanzar su temperatura máxima: los hidrocarburos llegan a 900°C en 8 min; los celulósicos en 6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st de producto de protección pa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ducto debe mantenerse adhe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piedades inher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ust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locidad de propagación de la l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ibución a la propagación del f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Revestimientos past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úmedos: en base a cemento o y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cos: en base a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s húmedos son premezclados con agua formando una pasta que se proyecta a presión sobre la estructura por medio de la inyección de aire comprim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sistema secos consisten en la aplicación directa, sin premezclado, del compuesto, proyectándolo sobre la estructura con aire comprimido y un pequeño aporte de agua pulver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inturas intumesc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estos en base de agua o solvente y pueden ser aplicados por presión de aire, brocha o rod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inturas intumescentes reaccionan a temperaturas entre 270 y 300°C, inflándose hasta 20 veces su espesor aplicado. Es este espesor inflado (carbono) el que aporta la capacidad ais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71640" y="33480"/>
            <a:ext cx="7200720" cy="67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aneles y ensambla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lana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yeso reforzado con lana de vid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neles de vermiculita o silicato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islación al fuego es obtenida al momento de completar la instalación del panel, y se mantiene mientras el panel conserve su integ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736720" cy="248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1552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5976720" cy="265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78645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337080" cy="2013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96456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593800" cy="374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73360" y="476280"/>
            <a:ext cx="304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3081240" cy="400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35760" y="1989000"/>
            <a:ext cx="31082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a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mecanizados de accionamiento automático, basados en una acción de “extinción del fueg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ciadores (sprinkl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gas (FM-200, 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Haló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yección de esp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cionamiento de barreras auto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2380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59280" y="4365720"/>
            <a:ext cx="261936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772240" y="2708280"/>
            <a:ext cx="337176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195640" y="1916280"/>
            <a:ext cx="2076480" cy="197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908000" y="0"/>
            <a:ext cx="2565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124160" cy="30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24360" y="2435400"/>
            <a:ext cx="4249800" cy="321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201840" cy="234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476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con FM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rotección pa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stemas incorporados a la arquitectura o a la estructura de acción permanente, basados en una “resisencia a la acción del fuego”, medida en tiem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vestimientos past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nturas intumes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neles y ensambl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1:39:44Z</dcterms:created>
  <dc:creator>Alberto Montealegre B.</dc:creator>
  <dc:description/>
  <dc:language>en-US</dc:language>
  <cp:lastModifiedBy>Alberto Montealegre B.</cp:lastModifiedBy>
  <dcterms:modified xsi:type="dcterms:W3CDTF">2005-10-17T02:55:03Z</dcterms:modified>
  <cp:revision>4</cp:revision>
  <dc:subject/>
  <dc:title>Acero</dc:title>
</cp:coreProperties>
</file>