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C32E-4CA7-4768-8DAE-97CD62C05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6BE5-73C2-4AD9-85BD-7D0AD23F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CD4A-6A4A-48C3-96F1-33744F320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B05C-31EE-4165-AB88-65E6FBDE1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BF4B-1740-4B19-ABCD-AE56AA239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97B1-C2BF-41F2-AABA-80874349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4BE3-00DB-436D-A050-73F43359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BCFB-5044-41CC-82E0-1F952C95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DA17-1D9E-43D0-9527-0ECF4E83E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11107-29A1-4C68-8D3C-21FF363C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BD29-DB38-4F9E-B560-47D088CA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633E-60A3-4C51-846D-C9376DA8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1ECD-5EC1-4732-A736-CE113B99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D032-0B1C-4812-A337-A7C0B675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7F53A-F42A-4B8F-99C1-BB111B75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F6A9-EBD5-4E1F-8022-5F8D9A1DC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85BD-C043-4085-BD01-13490E1EA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3A05-4C0F-4824-B313-2963F092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723C-72D7-4B9A-A5AA-2E763E20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D783-3820-4CBE-A93E-225565CB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697D-5975-4F8A-9720-591F5FC7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A4CD-7B86-4BFD-BEF7-688CC651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0C1A-DE09-4692-BFC5-D4DFBB05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7CA4-93F4-49AC-90BD-12BA0790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2E0A-6369-467D-AEE7-4A3D354D72B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0C3E-F7D0-4733-8855-8761E15273A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TEORIA DE LA ARQUITECTURA 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ROFESORA: PILAR BARB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YUDANTE: CRISTIAN RAYNAU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Actividades de la clas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Notas y correc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Formar 10 grupo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Programación del semest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Control de lectura de B. Zev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1522440" y="136512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440" y="136512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1627200" y="498600"/>
          <a:ext cx="5891040" cy="5860800"/>
        </p:xfrm>
        <a:graphic>
          <a:graphicData uri="http://schemas.openxmlformats.org/drawingml/2006/table">
            <a:tbl>
              <a:tblPr/>
              <a:tblGrid>
                <a:gridCol w="614520"/>
                <a:gridCol w="1008000"/>
                <a:gridCol w="1763640"/>
                <a:gridCol w="2504880"/>
              </a:tblGrid>
              <a:tr h="33732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GUNDO SEMESTRE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V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5 DE JUL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 HISTO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TIGÜEDAD RENACIMIEN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01 DE AGO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 HISTO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RROCO AL SIGLO XVI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08 DE AGO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 HISTO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LOS XIX Y 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15 DE AGO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RIAD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2 DE AG0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UEBA HISTO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9 DE AGO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- VANGUARD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EXPRESIONISMO-CUBISMO-FUTURIS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05 DE SE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- VANGUARD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CONSTRUCTIVISMO-DADA-SURREALIS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12 DE SE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- VANGUARD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 STIJL-POP 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19 DE SE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RIADO DE FIESTAS PATR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6 DE SE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NTESIS VANGUARD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LLER DE ESCRITURA-ENSAY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03 DE O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UEBA VANGUARD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10 DE O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OSICI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SCHUMI - ROG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17 DE OCTU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OSICI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YNE - FOS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4 DE O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OSICI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SENMAN - TOYO I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31 DE O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OSICI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UROKAWA - HERZOG&amp;DE MEUR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07 DE N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OSICI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BESKIND - KOOLHA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14 DE N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TREGA DE TRABAJOS FIN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4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1 DE N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OSICIÓN DE LOS MEJORES TRABAJOS Y ENTREGA DE NO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8  DE N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A DE TALL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Evalu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2 pruebas 30% (15% cada una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Exposición grupal 15%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Visitas a exposiciones 10% (21/11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Carpeta de tareas 10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Trabajo individual final 25%. Sólo se aceptarán trabajos que hayan sido corregidos en el taller de ensayos (26 de septiembre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Autoevaluación 5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Asistencia 5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Tare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Ficha iglesia de Los Benedictinos: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29/0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ontrol de lectura B. Zevi: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26/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omentario crítico de una noticia: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03/1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omentario crítico del Seminari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Arquitectura+Vanguardia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(2 pág.):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10/1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Ficha Centro de Justicia de Santiago: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07/1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LAS TAREAS SE ENTREGARAN EN FORMATO CARTA ESCRITAS EN COMPUTADOR, CORCHETEADAS. EN LA PRIMERA PÁGINA SE INDICARÁ NOMBRE DEL TRABAJO, DEL ALUMNO Y FECHA</a:t>
            </a: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03:28:31Z</dcterms:created>
  <dc:creator>Pilar Barba</dc:creator>
  <dc:description/>
  <dc:language>en-US</dc:language>
  <cp:lastModifiedBy>Pilar Barba</cp:lastModifiedBy>
  <dcterms:modified xsi:type="dcterms:W3CDTF">2007-07-25T16:11:54Z</dcterms:modified>
  <cp:revision>17</cp:revision>
  <dc:subject/>
  <dc:title>TEORIA DE LA ARQUITECTURA I</dc:title>
</cp:coreProperties>
</file>