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2FE8-F5E3-44B9-80E6-406CAFB5E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2D0-6CC7-4E28-AE77-B6E3EB07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066-6C8E-47AA-B98C-30172C97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BB18-6B65-4F54-96C6-1210839C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4A3A-64F1-43B7-BCDB-79FF9F00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99A9-634E-4E51-B28E-6AD50E7B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3FC7-6418-46DA-979D-D3DDB469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59AA-48FD-480A-89A5-281F5AFC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D8CA-61FC-4FB7-814C-25DF6670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9939-48C3-438A-8006-DF61F1AE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1DD5-284E-458F-AB64-81537A8E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A00A-AAAB-4693-84B0-36E854AF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97BD-3E44-45A1-BB8E-516F80A6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AD97-61B5-4D76-9D35-FE83D5E2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1C58-26DE-4459-B84F-2E0FF425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16FC-4E03-4B51-9DF1-18428B9C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C8EB-7E73-4E8A-B9E3-D88B6E43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19A3-6E28-4D19-8D59-14B3B8AD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AD08-328B-43C5-92F7-5BF735EF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328-7ACC-4CEA-8412-25F1A37E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6D14-F7DC-4DCE-8C98-2040A98B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A499-0C78-4F5E-979A-A2BD6873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6529-1B18-4E71-B9CC-2FCED615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9197-3459-4061-A6A1-ADA6CD8B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3C93-6415-4B23-A60E-C4C6124E19E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567A-BA03-4DBB-B830-192792A91A8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Verdana"/>
              </a:rPr>
              <a:t>TEORIA DE LA ARQUITECTURA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PROFESORA: PILAR BARB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AYUDANTE: CRISTIAN RAYNAU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Actividades de la cla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Notas y correc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Formar 10 grupo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ogramación del semest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Control de lectura de B. Zev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522440" y="136512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440" y="13651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1627200" y="498600"/>
          <a:ext cx="5891040" cy="5860800"/>
        </p:xfrm>
        <a:graphic>
          <a:graphicData uri="http://schemas.openxmlformats.org/drawingml/2006/table">
            <a:tbl>
              <a:tblPr/>
              <a:tblGrid>
                <a:gridCol w="614520"/>
                <a:gridCol w="1008000"/>
                <a:gridCol w="1763640"/>
                <a:gridCol w="2504880"/>
              </a:tblGrid>
              <a:tr h="33732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GUNDO SEMESTRE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5 DE 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TIGÜEDAD RENACIMI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1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ROCO AL SIGLO XVII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8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LOS XIX Y X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5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IAD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2 DE AG0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UEBA HIST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9 DE AGO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-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EXPRESIONISMO-CUBISMO-FUTURIS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5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-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CONSTRUCTIVISMO-DADA-SURREALIS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2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-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DE STIJL-POP 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9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RIADO DE FIESTAS PAT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6 DE SEP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NTESIS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LLER DE ESCRITURA-ENS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3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UEBA VANGUAR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0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SCHUMI - ROG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7 DE OCTU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YNE - FO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4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ISENMAN - TOYO I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31 DE O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UROKAWA - HERZOG&amp;DE MEUR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07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O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BESKIND - KOOLHA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14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REGA DE TRABAJOS FI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4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1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OSICIÓN DE LOS MEJORES TRABAJOS Y ENTREGA DE NO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28  DE N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NA DE TALL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2 pruebas 30% (15% cada una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Exposición grupal 15%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Visitas a exposiciones 10% (21/11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Carpeta de tareas 10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Trabajo individual final 25%. Sólo se aceptarán trabajos que hayan sido corregidos en el taller de ensayos (26 de septiembre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utoevaluación 5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Asistencia 5%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873000"/>
            <a:ext cx="80010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Tare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6200" y="167652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cha iglesia de Los Benedictinos: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29/0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ntrol de lectura B. Zevi: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26/0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mentario crítico de una noticia: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03/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Comentario crítico del Seminari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Arquitectura+Vanguardia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(2 pág.): 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10/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Ficha Centro de Justicia de Santiago: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07/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LAS TAREAS SE ENTREGARAN EN FORMATO CARTA ESCRITAS EN COMPUTADOR, CORCHETEADAS. EN LA PRIMERA PÁGINA SE INDICARÁ NOMBRE DEL TRABAJO, DEL ALUMNO Y FECHA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03:28:31Z</dcterms:created>
  <dc:creator>Pilar Barba</dc:creator>
  <dc:description/>
  <dc:language>en-US</dc:language>
  <cp:lastModifiedBy>Pilar Barba</cp:lastModifiedBy>
  <dcterms:modified xsi:type="dcterms:W3CDTF">2007-07-25T16:11:54Z</dcterms:modified>
  <cp:revision>17</cp:revision>
  <dc:subject/>
  <dc:title>TEORIA DE LA ARQUITECTURA I</dc:title>
</cp:coreProperties>
</file>