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1BE-3792-4AC8-A7A5-80924F68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CB6-5369-48EE-9150-A304DAF4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463-D833-447C-93C2-AF619FF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ECE-6446-42B0-AC0D-D72AF2C2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64F6-45A3-497C-8F03-73537BE5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7E09-2828-42EB-A91A-6FADFCE2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86AA-571C-415C-9AC7-82C05D1A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A52-6A37-4E0F-8E48-0E00E40B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C47E-64C0-4506-8D27-898D1079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8060-7E97-44AF-B48E-9E821FDF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46DB-4BFF-4871-8481-2071FC99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215-85CD-4CC8-A352-5E3FE36B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45B7-F9F5-4E25-A13F-2348A49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9D53-E490-4FAF-A4E0-2689216E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A0DD-DF21-4DA9-9B3E-DD45C40B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F8C6-412E-4659-B4D1-01A6E72E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B9E-679F-40C5-86A7-83D32BB6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0F1-6B2E-4071-AE0C-261B3C74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AE2-4026-4C92-AA69-07EA4401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6F5-ADF0-4CF5-BC16-DA08CA80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924-EFBF-4709-95BE-BBE949E1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9C8-A10B-4707-94A7-28375723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783-9305-48A3-B70D-F0DACD9C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2FA-6642-4FE7-ABCD-3EFE072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3EE2-AF4C-46A0-8FB4-86521DFF3D8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8358-683E-4CBA-B709-4A4ED74BE1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ctividades de l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otas y corr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rmar 10 grup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gramación del semest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trol de lectura de B. Zev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22440" y="136512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440" y="13651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627200" y="498600"/>
          <a:ext cx="5891040" cy="5860800"/>
        </p:xfrm>
        <a:graphic>
          <a:graphicData uri="http://schemas.openxmlformats.org/drawingml/2006/table">
            <a:tbl>
              <a:tblPr/>
              <a:tblGrid>
                <a:gridCol w="614520"/>
                <a:gridCol w="1008000"/>
                <a:gridCol w="1763640"/>
                <a:gridCol w="2504880"/>
              </a:tblGrid>
              <a:tr h="337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UNDO SEMESTRE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5 DE 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ÜEDAD RENA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1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ROCO AL SIGLO XV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8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LOS XIX Y 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5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2 DE AG0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9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XPRESIONISMO-CUBISMO-FU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5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ONSTRUCTIVISMO-DADA-SURREAL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2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 STIJL-POP 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9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DE FIESTAS PAT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6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TESIS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LLER DE ESCRITURA-ENS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3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0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CHUMI - RO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7 DE 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NE - FO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4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ENMAN - TOYO 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1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ROKAWA - HERZOG&amp;DE ME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7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SKIND - KOOLHA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4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GA DE TRABAJOS FI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1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ÓN DE LOS MEJORES TRABAJOS Y ENTREGA DE NO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8 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A DE TA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2 pruebas 30% (15% cada un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posición grupal 15%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Visitas a exposiciones 10% (21/11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arpeta de tareas 1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Trabajo individual final 25%. Sólo se aceptarán trabajos que hayan sido corregidos en el taller de ensayos (26 de septiembr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utoevaluación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sistencia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iglesia de Los Benedictinos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9/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trol de lectura B. Zevi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6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 una noticia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3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l Seminar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Arquitectura+Vanguardia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(2 pág.)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Centro de Justicia de Santiago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7/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AS TAREAS SE ENTREGARAN EN FORMATO CARTA ESCRITAS EN COMPUTADOR, CORCHETEADAS. EN LA PRIMERA PÁGINA SE INDICARÁ NOMBRE DEL TRABAJO, DEL ALUMNO Y FECHA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7-25T16:11:54Z</dcterms:modified>
  <cp:revision>17</cp:revision>
  <dc:subject/>
  <dc:title>TEORIA DE LA ARQUITECTURA I</dc:title>
</cp:coreProperties>
</file>