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5E2-12C0-43F5-9547-06327C54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BBB-E32E-4A57-839F-46A3BC8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78D-5935-4234-B7B0-EAF345AD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DB7-9C09-42FD-AC10-0E308E1C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8025-2E46-4818-A524-9E7138C7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4D11-58D0-4EF6-AF7E-370DE81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01C3-1FD3-4D79-883F-87809B4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A91-86B0-4B85-9056-33FB1DF2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F77A-E2A2-41C4-9FEB-A325156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24D-7051-4A6E-BEB2-C2D06848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3B38-4954-4074-A18F-A4017EF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5D3-99AD-44C7-A26B-5B19354B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A1E1-255C-4390-8590-6DC52CD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E586-6006-495B-94B2-E652C16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1F0A-EB02-4AD7-BC83-7988C089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4C82-4BEE-43ED-BD30-6728EF2F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F834-60F2-4DEB-A4C4-D1C4A376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2CB-C3A4-46CD-B463-A1D716D3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A58-99BC-4020-94FD-6A0E74DC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1A1-E531-433F-A746-B380FE6F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39D-1D18-4D61-B401-1DDE9874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42A-3BED-412C-8079-EDFF8D0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6E6-E9DF-4309-84E4-2BEACD1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950-5801-448B-BF2B-8F1C17A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2FC4-906F-40C7-A60E-DFA6E5D0E6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BE08-9855-422A-AF2F-5C2D4CA978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otas y corr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10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trol de lectura de B. Ze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27200" y="498600"/>
          <a:ext cx="5891040" cy="5860800"/>
        </p:xfrm>
        <a:graphic>
          <a:graphicData uri="http://schemas.openxmlformats.org/drawingml/2006/table">
            <a:tbl>
              <a:tblPr/>
              <a:tblGrid>
                <a:gridCol w="614520"/>
                <a:gridCol w="1008000"/>
                <a:gridCol w="1763640"/>
                <a:gridCol w="250488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NDO SEMESTRE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 DE 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ÜEDAD RENA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1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OCO AL SIGLO XV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8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LOS XIX Y 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5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2 DE AG0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XPRESIONISMO-CUBISMO-FU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5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NSTRUCTIVISMO-DADA-SURREAL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2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 STIJL-POP 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9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DE FIESTAS PAT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6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TESIS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ER DE ESCRITURA-ENS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3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CHUMI - RO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7 DE 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NE - F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ENMAN - TOYO 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ROKAWA - HERZOG&amp;DE ME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7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SKIND - KOOLHA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4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GA DE TRABAJOS FI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1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ÓN DE LOS MEJORES TRABAJOS Y ENTREGA DE NO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8 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A DE TA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2 pruebas 30% (15% cada un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isitas a exposiciones 10% (21/11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arpeta de tareas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rabajo individual final 25%. Sólo se aceptarán trabajos que hayan sido corregidos en el taller de ensayos (26 de septiembr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utoevaluación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stencia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iglesia de Los Benedictinos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9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rol de lectura B. Zevi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6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 una noticia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3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l Semin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Arquitectura+Vanguardia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2 pág.)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Centro de Justicia de Santiago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7/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AS TAREAS SE ENTREGARAN EN FORMATO CARTA ESCRITAS EN COMPUTADOR, CORCHETEADAS. EN LA PRIMERA PÁGINA SE INDICARÁ NOMBRE DEL TRABAJO, DEL ALUMNO Y FECHA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7-25T16:11:54Z</dcterms:modified>
  <cp:revision>17</cp:revision>
  <dc:subject/>
  <dc:title>TEORIA DE LA ARQUITECTURA I</dc:title>
</cp:coreProperties>
</file>