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4.jpeg" ContentType="image/jpeg"/>
  <Override PartName="/ppt/media/image2.png" ContentType="image/png"/>
  <Override PartName="/ppt/media/image6.jpeg" ContentType="image/jpeg"/>
  <Override PartName="/ppt/media/image9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2.png" ContentType="image/png"/>
  <Override PartName="/ppt/media/image26.png" ContentType="image/pn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692360" y="476280"/>
            <a:ext cx="496872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Walter Gropius (1883-196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1905120" cy="275292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2987640" y="1341360"/>
            <a:ext cx="59054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quitecto Alemá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907-1910 se une al estudio de Peter Behr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911 se une a  la Deutscher Werkb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919 funda la Staatliches Bauha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928 abandona el cargo de director de la Bauhaus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934 abandona Alema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938-1952 es el director del departamento de arquitectura de la universidad de Harva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946 forma Architects Collaborati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067280" y="2708280"/>
            <a:ext cx="1726920" cy="1616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116000" y="3068640"/>
            <a:ext cx="2700360" cy="1773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276720" y="4365720"/>
            <a:ext cx="2950920" cy="2212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2195640" y="1341360"/>
            <a:ext cx="4286160" cy="1419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6012000" y="3500280"/>
            <a:ext cx="2376360" cy="1783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19280" y="404640"/>
            <a:ext cx="2808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uha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436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 de estudios de la arquitectu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32625" t="13171" r="22515" b="21652"/>
          <a:stretch/>
        </p:blipFill>
        <p:spPr>
          <a:xfrm>
            <a:off x="1692360" y="1052640"/>
            <a:ext cx="626436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42920" y="2133720"/>
            <a:ext cx="70214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er ciclo: estudio de los mate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undo ciclo: teoría de mate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cer ciclo: constr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 de estudios de la arquitectu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24537" t="16441" r="18455" b="15118"/>
          <a:stretch/>
        </p:blipFill>
        <p:spPr>
          <a:xfrm>
            <a:off x="1692360" y="1700280"/>
            <a:ext cx="6767280" cy="4230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8436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 de estudios de la arquitectu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436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 de estudios de la arquitectu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1600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ciésemos haber olvidado que existe la oportunidad de hacer historia arquitectónica con nuestras manos y de contar con edificios proyectados conforme a los términos inequívocos de nuestro propio perio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3280" y="4292640"/>
            <a:ext cx="2953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er Grop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1600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existe finalidad en la arquitectura – solo continua renovaci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3280" y="4292640"/>
            <a:ext cx="2953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er Grop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19280" y="71280"/>
            <a:ext cx="55450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Finalidad del Arquite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5619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rbanismo y vivi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560" y="5157720"/>
            <a:ext cx="792036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creación de belleza y la formación de valores y normas constituyen el deseo más intimo de todo ser humano, y esto le conmueve más profunda y duraderamente que la satisfacción de comodidad. En nuestra lucha cotidiana por colocar ese techo sin goteras sobre las cabezas de millones de personas sin alojamientos, olvidamos muy fácilmente lo ultim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484360" y="1125360"/>
            <a:ext cx="4897440" cy="36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6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remisas sociológicas para la vivienda míni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00000" y="2204640"/>
            <a:ext cx="440208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era del parentesco y la ley tri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era de la familia y la ley famil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era del individuo y la ley del individ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futura era de las cooperativas y la ley comu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77080" y="1916280"/>
            <a:ext cx="1825560" cy="2734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292720" y="4581360"/>
            <a:ext cx="142884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71280" y="1844280"/>
            <a:ext cx="771516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pa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u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través de los hechos sociológicos podemos determinar el ideal mínimo de una necesidad vital como la vivienda, y su costo mínimo de produ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708360" y="1197000"/>
            <a:ext cx="460872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sas unifamiliares v/s departamentos con servicios central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580000" y="2708280"/>
            <a:ext cx="2340000" cy="3119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116000" y="2708280"/>
            <a:ext cx="409572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26920" y="1844640"/>
            <a:ext cx="36738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mania es derrotada en la 1° Guerra Mund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pueblo se subleva porque el gobierno no acepta negociar para poner fin a la gu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43280" y="1197000"/>
            <a:ext cx="4040280" cy="2419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508720" y="3716280"/>
            <a:ext cx="2928960" cy="2189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19280" y="0"/>
            <a:ext cx="4968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exto Histór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076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lanificación de una vecindad orgán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68360" y="2349360"/>
            <a:ext cx="4896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roblemas del Núcleo (centro comun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5472360" cy="3009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340720" y="4869000"/>
            <a:ext cx="49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industria de la Vivi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26920" y="2708280"/>
            <a:ext cx="3457800" cy="29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ción política luego de la derro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amblea constituyente; Republica de Weim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84720" y="1827360"/>
            <a:ext cx="4572000" cy="4078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19280" y="0"/>
            <a:ext cx="4968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exto Histór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08000" y="1341360"/>
            <a:ext cx="5616720" cy="3963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19280" y="0"/>
            <a:ext cx="4968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exto Histór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00120" y="5373720"/>
            <a:ext cx="76438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íciles condiciones producto del tratado de Versal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00000" y="2060640"/>
            <a:ext cx="33228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stabilización política producto de la crisis econó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ensión del naz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140360" y="1989000"/>
            <a:ext cx="4300200" cy="3009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19280" y="0"/>
            <a:ext cx="4968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exto Histór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4319640" cy="2967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292720" y="1773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abrica Fagus 19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19280" y="0"/>
            <a:ext cx="1655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283440" y="2924280"/>
            <a:ext cx="2400120" cy="3467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67280" y="573408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dificio Werkbund 19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5616720" cy="3764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480000" y="1989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dificio Bauhaus (Dessau) 19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904000" y="4764240"/>
            <a:ext cx="3240000" cy="2093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95640" y="5734080"/>
            <a:ext cx="18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sa maestros de la Bauhaus 19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19280" y="0"/>
            <a:ext cx="1655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43280" y="1052640"/>
            <a:ext cx="4319640" cy="2779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340000" y="155736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sa de Gropius 19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0"/>
            <a:ext cx="1655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116000" y="3860640"/>
            <a:ext cx="4321080" cy="2697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580000" y="407664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ntro de graduados, Universidad de Harva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9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619280" y="0"/>
            <a:ext cx="16556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2301840" cy="3210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619280" y="155736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dificio Metlife 19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381480" y="3438360"/>
            <a:ext cx="5762520" cy="3419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143960" y="6021360"/>
            <a:ext cx="22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mbajada de EEU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grecia) 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7640" y="2708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iversidad de Bagdad 19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156360" y="1197000"/>
            <a:ext cx="26668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02:29:51Z</dcterms:created>
  <dc:creator>usuario</dc:creator>
  <dc:description/>
  <dc:language>en-US</dc:language>
  <cp:lastModifiedBy>usuario</cp:lastModifiedBy>
  <dcterms:modified xsi:type="dcterms:W3CDTF">2007-06-13T07:53:37Z</dcterms:modified>
  <cp:revision>8</cp:revision>
  <dc:subject/>
  <dc:title>Diapositiva 1</dc:title>
</cp:coreProperties>
</file>