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Universidad de Ch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286A-A2C0-4E58-A3C2-761DAF3792F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Universidad de Ch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3 Marcador de encabezado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Universidad de Ch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5D19-D843-4639-95B4-CC25BF1AFB34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622A-45A5-4E71-A68B-DABE5B806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F73A-1BF1-4FBA-85BB-68170E11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3C75-ED57-4B93-B320-139CE6EB3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E4D9-4AC2-4760-82B9-5DEBBFF23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6422-6C49-4215-9AC6-6324A664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A078-E3A2-4E39-BFB8-C94D37B4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113C-161B-4DCC-A399-FC2479E5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ED26-9F32-4996-9E4A-BDF56E7A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70D8-338D-4D34-B589-B8C86E22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63F3-B69C-4F05-B765-B94A9090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44DC-998E-49A5-A661-8A2D85BA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53E4-9343-4E12-B48B-37E5240C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2AD4-AC0B-4E64-92A2-A5B044678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javascript:void(window.open(&apos;http://www.plataformaarquitectura.cl/cpgarq/displayimage.php?pid=131&amp;fullsize=1&apos;,&apos;&apos;,&apos;toolbar=no,status=no,resizable=yes,width=2068,height=1556&apos;))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javascript:void(window.open(&apos;http://www.plataformaarquitectura.cl/cpgarq/displayimage.php?pid=131&amp;fullsize=1&apos;,&apos;&apos;,&apos;toolbar=no,status=no,resizable=yes,width=2068,height=1556&apos;))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javascript:void(window.open(&apos;http://www.plataformaarquitectura.cl/cpgarq/displayimage.php?pid=131&amp;fullsize=1&apos;,&apos;&apos;,&apos;toolbar=no,status=no,resizable=yes,width=2068,height=1556&apos;))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javascript:void(window.open(&apos;http://www.plataformaarquitectura.cl/cpgarq/displayimage.php?pid=131&amp;fullsize=1&apos;,&apos;&apos;,&apos;toolbar=no,status=no,resizable=yes,width=2068,height=1556&apos;))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javascript:void(window.open(&apos;http://www.plataformaarquitectura.cl/cpgarq/displayimage.php?pid=131&amp;fullsize=1&apos;,&apos;&apos;,&apos;toolbar=no,status=no,resizable=yes,width=2068,height=1556&apos;))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javascript:void(window.open(&apos;http://www.plataformaarquitectura.cl/cpgarq/displayimage.php?pid=131&amp;fullsize=1&apos;,&apos;&apos;,&apos;toolbar=no,status=no,resizable=yes,width=2068,height=1556&apos;))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javascript:void(window.open(&apos;http://www.plataformaarquitectura.cl/cpgarq/displayimage.php?pid=131&amp;fullsize=1&apos;,&apos;&apos;,&apos;toolbar=no,status=no,resizable=yes,width=2068,height=1556&apos;))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javascript:void(window.open(&apos;http://www.plataformaarquitectura.cl/cpgarq/displayimage.php?pid=131&amp;fullsize=1&apos;,&apos;&apos;,&apos;toolbar=no,status=no,resizable=yes,width=2068,height=1556&apos;))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javascript:void(window.open(&apos;http://www.plataformaarquitectura.cl/cpgarq/displayimage.php?pid=131&amp;fullsize=1&apos;,&apos;&apos;,&apos;toolbar=no,status=no,resizable=yes,width=2068,height=1556&apos;))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javascript:void(window.open(&apos;http://www.plataformaarquitectura.cl/cpgarq/displayimage.php?pid=131&amp;fullsize=1&apos;,&apos;&apos;,&apos;toolbar=no,status=no,resizable=yes,width=2068,height=1556&apos;))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javascript:void(window.open(&apos;http://www.plataformaarquitectura.cl/cpgarq/displayimage.php?pid=131&amp;fullsize=1&apos;,&apos;&apos;,&apos;toolbar=no,status=no,resizable=yes,width=2068,height=1556&apos;))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javascript:void(window.open(&apos;http://www.plataformaarquitectura.cl/cpgarq/displayimage.php?pid=131&amp;fullsize=1&apos;,&apos;&apos;,&apos;toolbar=no,status=no,resizable=yes,width=2068,height=1556&apos;))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javascript:void(window.open(&apos;http://www.plataformaarquitectura.cl/cpgarq/displayimage.php?pid=131&amp;fullsize=1&apos;,&apos;&apos;,&apos;toolbar=no,status=no,resizable=yes,width=2068,height=1556&apos;))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javascript:void(window.open(&apos;http://www.plataformaarquitectura.cl/cpgarq/displayimage.php?pid=131&amp;fullsize=1&apos;,&apos;&apos;,&apos;toolbar=no,status=no,resizable=yes,width=2068,height=1556&apos;))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javascript:void(window.open(&apos;http://www.plataformaarquitectura.cl/cpgarq/displayimage.php?pid=131&amp;fullsize=1&apos;,&apos;&apos;,&apos;toolbar=no,status=no,resizable=yes,width=2068,height=1556&apos;))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javascript:void(window.open(&apos;http://www.plataformaarquitectura.cl/cpgarq/displayimage.php?pid=131&amp;fullsize=1&apos;,&apos;&apos;,&apos;toolbar=no,status=no,resizable=yes,width=2068,height=1556&apos;))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javascript:void(window.open(&apos;http://www.plataformaarquitectura.cl/cpgarq/displayimage.php?pid=131&amp;fullsize=1&apos;,&apos;&apos;,&apos;toolbar=no,status=no,resizable=yes,width=2068,height=1556&apos;))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alk Institute de Louis Kahn - Click para agrand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095480" y="928800"/>
            <a:ext cx="678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84360" y="105264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Louis Isidore Kah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2247840" y="1073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3132000" y="2997360"/>
            <a:ext cx="288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3203640" y="2997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1901 - 19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0" y="0"/>
            <a:ext cx="37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5492880" y="5248440"/>
            <a:ext cx="235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umn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scar Agui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ernardo Gallegui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omás Cor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rick Kru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3"/>
          <p:cNvSpPr/>
          <p:nvPr/>
        </p:nvSpPr>
        <p:spPr>
          <a:xfrm>
            <a:off x="472320" y="0"/>
            <a:ext cx="403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iversidad de Ch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acultad de Arquitectura y urban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oría de la Arquite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Salk Institute de Louis Kahn - Click para agrand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3348000" y="981000"/>
            <a:ext cx="4967280" cy="4464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06000" y="5176800"/>
            <a:ext cx="233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Salk Institute La jol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-California 19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Salk Institute de Louis Kahn - Click para agrand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900000" y="765000"/>
            <a:ext cx="2664000" cy="2167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MYARCH6"/>
          <p:cNvPicPr/>
          <p:nvPr/>
        </p:nvPicPr>
        <p:blipFill>
          <a:blip r:embed="rId4"/>
          <a:stretch/>
        </p:blipFill>
        <p:spPr>
          <a:xfrm>
            <a:off x="4716360" y="3573360"/>
            <a:ext cx="3333960" cy="2505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97600" y="5753160"/>
            <a:ext cx="39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Biblioteca de Exeter –new Hampsh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19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36920" y="2513160"/>
            <a:ext cx="38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entro Yale de arte británico-197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Salk Institute de Louis Kahn - Click para agrandar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419640" y="1268280"/>
            <a:ext cx="5186160" cy="4214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36520" y="50324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chards medical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nnsylvania 1958-6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Salk Institute de Louis Kahn - Click para agrandar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50920" y="620640"/>
            <a:ext cx="8424720" cy="4122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051080" y="5032440"/>
            <a:ext cx="45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imbell art museum Fort Wort- Texas 19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Salk Institute de Louis Kahn - Click para agrand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254160" y="0"/>
            <a:ext cx="345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itas del au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6200" y="1000080"/>
            <a:ext cx="24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250920" y="981000"/>
            <a:ext cx="10602720" cy="86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-"El espacio de un edificio debe p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leerse como una armonía de espacios iluminad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Cada espacio debe ser definido por su estructura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por el carácter de su iluminación natu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Aún un espacio concebido para permanecer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oscuras  debe tener la luz suficiente  proveniente de                         alguna misteriosa abertura que n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muestre cuán oscuro es en realidad"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Salk Institute de Louis Kahn - Click para agrand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592560" y="299880"/>
            <a:ext cx="8658720" cy="85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-"No puedo definir al espacio como tal si no ti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luz natural"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"Un edificio debe comenzar con lo inconmensurabl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luego someterse a medios mensurables, cuando 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halla en la etapa de diseño, y al final debe 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nuevamente inconmensurable"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"La elección de la estructura es sinónimo de 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elección de la luz que da forma a ese espacio. La lu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artificial es sólo un breve momento estático de la luz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es la luz de la noche y nunca puede igualar a l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matices creados por las horas del día y la marav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de las estaciones"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Salk Institute de Louis Kahn - Click para agrand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468360" y="836640"/>
            <a:ext cx="820728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Ante todo debo decir que la arquitectura no existe. Existe una obra de arquitectura. Y una obra de arquitectura es una oferta a la arquitectura en la esperanza de que ésta obra pueda convertirse en parte del tesoro de la arquitectura. No todos los edificios son arquitectura (...) El programa que se recibe y la traducción arquitectónica que se le da deben venir del espíritu del hombre y no de las instrucciones material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uis Kahn-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nferencia en el Politécnico de Milán,19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Salk Institute de Louis Kahn - Click para agrand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410040" y="-316080"/>
            <a:ext cx="8735040" cy="58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¿Qué nos deja Kah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odemos decir que Kahn nos enseñ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 modo de hacer Arquitectura en 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ual cada espacio se define a b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 la luz natural.Humanamente nos enseñ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 estar en constante aprendizaje 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eguntarnos si realmente estam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aciendo las cosas bien,al igual como el lo hi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l compararse con Le Corbusi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Salk Institute de Louis Kahn - Click para agrand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MYARCH1"/>
          <p:cNvPicPr/>
          <p:nvPr/>
        </p:nvPicPr>
        <p:blipFill>
          <a:blip r:embed="rId3"/>
          <a:stretch/>
        </p:blipFill>
        <p:spPr>
          <a:xfrm>
            <a:off x="250920" y="404640"/>
            <a:ext cx="2246040" cy="2808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895480" y="496800"/>
            <a:ext cx="5734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y Architec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película sobre Kah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rigida por Nathaniel Kah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ducida por Susan Rose Behr y Nathaniel Kah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I ARQUITECTO es una historia de amor y arte,de traición y perdón,en la qué el hijo ilegítimo de un artista legendario emprende una explo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undial para entender a su padre muer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Salk Institute de Louis Kahn - Click para agrand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468360" y="189000"/>
            <a:ext cx="7704000" cy="69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Bibliograf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-Forma y diseño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 Louis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Kahn) –ed. Nueva visión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-Conversaciones con estudiantes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 Louis Kahn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–ed. Madrid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-Louis Kahn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Romaldo Giurgola) –ed. GG.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Salk Institute de Louis Kahn - Click para agrand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324000" y="0"/>
            <a:ext cx="882000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la siguiente disertación, abordaremos distintas temáticas referentes a uno de los arquitectos modernos más importantes del último tiem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uis Kahn es sin duda un personaje que por su contemporaneidad puede y debe servirnos para abordar las distintas instancias y problemá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sentes en la arquitectura de los últimos tiemp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Salk Institute de Louis Kahn - Click para agrand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326520" y="0"/>
            <a:ext cx="221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Biograf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95280" y="907920"/>
            <a:ext cx="83534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ació el 20 de febrero de 1901 en la isla de Osel (Estoni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904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migró junto a su familia a Estados Un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 1924 obtuvo el título de arquitecto por la Universidad de Pennsylvania y dedicó los veinte años posteriores a colaborar con otros colegas en diversas obras, sobre todo de carácter residen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 proyecto en equipo para la Carver Court War Housing (1942-1943) en Coatsworth (Pennsylvania) fue uno de los primeros en obtener un amplio reconocimi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urió el 17 de marzo de 1974 en Nueva Y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Salk Institute de Louis Kahn - Click para agrand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179280" y="189000"/>
            <a:ext cx="7483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ext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gran depresión de 19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2° Guerra Mund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viendas socia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Salk Institute de Louis Kahn - Click para agrand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471960" y="0"/>
            <a:ext cx="42422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Influenci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J.Liberty Tad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aul Philippe Cr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e Corbusi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Salk Institute de Louis Kahn - Click para agrand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257040" y="0"/>
            <a:ext cx="888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¿Cómo define Kahn la Arquitectu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3 CuadroTexto"/>
          <p:cNvSpPr/>
          <p:nvPr/>
        </p:nvSpPr>
        <p:spPr>
          <a:xfrm>
            <a:off x="0" y="85716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ra Kahn, la arquitectura se convirtió 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 búsqueda de la verdad y de edificios como cosas vivas. Él estaba encariñado con decir,”le pregunto al ladrillo...que quieres ser?, y el ladrillo contesta ‘ yo quiero ser arquitectura” . Kahn también fue obsesionado con la luz natural; el la uso como ningún otro arquitecto moder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Salk Institute de Louis Kahn - Click para agrand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149400" y="0"/>
            <a:ext cx="899244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¿Cuál es el rol del Arquitec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Las temáticas principales y fundamentales, según Kah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de la Arquitectura son  el espacio y la luz, Kahn 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plantea dos puntos fundamentales dentro de 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Arquitectura que el usa en sus diseños, como lo 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la ocupación de la luz natural para definir ca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espacio y el uso intencionado de materia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Kahn  definió su trabajo como 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construcción reflexiva de espacio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3 CuadroTexto"/>
          <p:cNvSpPr/>
          <p:nvPr/>
        </p:nvSpPr>
        <p:spPr>
          <a:xfrm>
            <a:off x="0" y="100008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Salk Institute de Louis Kahn - Click para agrand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405720" y="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Obr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3 Rectángulo"/>
          <p:cNvSpPr/>
          <p:nvPr/>
        </p:nvSpPr>
        <p:spPr>
          <a:xfrm>
            <a:off x="0" y="85716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laboratorios Richards (1958-1961) de la Universidad de Pennsylvania (Filadelfi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Instituto Salk (1965) en La Jolla (Californi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Instituto indio de empresa (1975), en Ahmedabad (India) y sus proyectos de la década de 1960 para Dhaka, la capital de Bangladesh, como el edificio de la Asamblea N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tras de sus obras más relevantes son el Instituto Salk en La Jolla (California, 1965), el Kimbell Art Museum en Fort Worth (Texas, 1972) y el conjunto de la Asamblea Nacional en Dhaka (1965-1974), la nueva capital de Banglades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Salk Institute de Louis Kahn - Click para agrand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056200" y="553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6193080" cy="48020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289400" y="5445000"/>
            <a:ext cx="38322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alería de Arte Universidad de Y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ew Heaven, Connectic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1951 - 19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21:17:54Z</dcterms:created>
  <dc:creator>WINDOWS</dc:creator>
  <dc:description/>
  <dc:language>en-US</dc:language>
  <cp:lastModifiedBy>Pilar Barba</cp:lastModifiedBy>
  <dcterms:modified xsi:type="dcterms:W3CDTF">2007-06-13T16:03:23Z</dcterms:modified>
  <cp:revision>27</cp:revision>
  <dc:subject/>
  <dc:title>Diapositiva 1</dc:title>
</cp:coreProperties>
</file>