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88B6-22F2-460F-B304-62FF419090A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B799-6690-41C8-BE65-7C74EA63529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4FB-64A3-42BA-9427-914F569D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6CA-F55B-4A9E-938B-E7982BE1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8FA-D829-4002-9890-DFBBD91E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AE7-9957-4F9D-8811-15A9A430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2C2-A4FB-4009-A5F8-5655E1E0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CF7-AFB1-4A93-97C9-58B62F01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1BD-F25C-43D0-9C79-818F7C40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15D-4B43-42F0-8205-1C864467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5D61-CC5F-4941-B829-6A885EC6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C62-DEEC-4298-B075-0057485F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076-6B48-478E-BA20-4F0F3195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93DF-3C36-4C4A-82DF-7A64AC68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BF7B-7A0F-4884-B5FC-BA415471B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095480" y="928800"/>
            <a:ext cx="678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4360" y="10526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ouis Isidore Kah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247840" y="107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3132000" y="2997360"/>
            <a:ext cx="28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3203640" y="2997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1901 - 19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0" y="0"/>
            <a:ext cx="37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5492880" y="5248440"/>
            <a:ext cx="235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umn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scar Agui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rnardo Gallegu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más Cor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rick Kru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472320" y="0"/>
            <a:ext cx="40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versidad de Ch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cultad de Arquitectura y urban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oría de la Arquit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348000" y="981000"/>
            <a:ext cx="4967280" cy="4464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6000" y="5176800"/>
            <a:ext cx="23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alk Institute La jo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-California 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900000" y="765000"/>
            <a:ext cx="2664000" cy="2167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MYARCH6"/>
          <p:cNvPicPr/>
          <p:nvPr/>
        </p:nvPicPr>
        <p:blipFill>
          <a:blip r:embed="rId4"/>
          <a:stretch/>
        </p:blipFill>
        <p:spPr>
          <a:xfrm>
            <a:off x="4716360" y="3573360"/>
            <a:ext cx="3333960" cy="2505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97600" y="57531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Biblioteca de Exeter –new Hampsh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36920" y="251316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ntro Yale de arte británico-197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Salk Institute de Louis Kahn - Click para agrand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19640" y="1268280"/>
            <a:ext cx="5186160" cy="4214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520" y="50324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hards medical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nsylvania 1958-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Salk Institute de Louis Kahn - Click para agrand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8424720" cy="4122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051080" y="5032440"/>
            <a:ext cx="45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imbell art museum Fort Wort- Texas 19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254160" y="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tas del au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6200" y="1000080"/>
            <a:ext cx="24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50920" y="981000"/>
            <a:ext cx="10602720" cy="86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-"El espacio de un edificio debe 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leerse como una armonía de espacios ilumina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Cada espacio debe ser definido por su estructura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por el carácter de su iluminación nat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Aún un espacio concebido para permanecer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oscuras  debe tener la luz suficiente  proveniente de                         alguna misteriosa abertura que 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muestre cuán oscuro es en realidad"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592560" y="299880"/>
            <a:ext cx="8658720" cy="85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-"No puedo definir al espacio como tal si no ti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luz natural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"Un edificio debe comenzar con lo inconmensurab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luego someterse a medios mensurables, cuando 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halla en la etapa de diseño, y al final debe 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nuevamente inconmensurable"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"La elección de la estructura es sinónimo d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lección de la luz que da forma a ese espacio. La lu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artificial es sólo un breve momento estático de la lu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s la luz de la noche y nunca puede igualar a l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matices creados por las horas del día y la marav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e las estaciones"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468360" y="836640"/>
            <a:ext cx="820728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Ante todo debo decir que la arquitectura no existe. Existe una obra de arquitectura. Y una obra de arquitectura es una oferta a la arquitectura en la esperanza de que ésta obra pueda convertirse en parte del tesoro de la arquitectura. No todos los edificios son arquitectura (...) El programa que se recibe y la traducción arquitectónica que se le da deben venir del espíritu del hombre y no de las instrucciones materi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uis Kahn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erencia en el Politécnico de Milán,19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410040" y="-316080"/>
            <a:ext cx="873504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nos deja Kah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demos decir que Kahn nos ense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modo de hacer Arquitectura en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l cada espacio se define a 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 la luz natural.Humanamente nos enseñ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 estar en constante aprendizaje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guntarnos si realmente estam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ciendo las cosas bien,al igual como el lo hi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 compararse con Le Corbusi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MYARCH1"/>
          <p:cNvPicPr/>
          <p:nvPr/>
        </p:nvPicPr>
        <p:blipFill>
          <a:blip r:embed="rId3"/>
          <a:stretch/>
        </p:blipFill>
        <p:spPr>
          <a:xfrm>
            <a:off x="250920" y="404640"/>
            <a:ext cx="2246040" cy="2808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895480" y="496800"/>
            <a:ext cx="5734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y Archit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elícula sobre Kah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rigida por Nathaniel K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ida por Susan Rose Behr y Nathaniel Kah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 ARQUITECTO es una historia de amor y arte,de traición y perdón,en la qué el hijo ilegítimo de un artista legendario emprende una explo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ndial para entender a su padre muer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68360" y="189000"/>
            <a:ext cx="7704000" cy="69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Forma y diseño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 Loui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Kahn) –ed. Nueva visión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Conversaciones con estudiantes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 Louis Kahn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–ed. Madrid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Louis Kahn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Romaldo Giurgola) –ed. GG.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324000" y="0"/>
            <a:ext cx="88200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la siguiente disertación, abordaremos distintas temáticas referentes a uno de los arquitectos modernos más importantes del último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uis Kahn es sin duda un personaje que por su contemporaneidad puede y debe servirnos para abordar las distintas instancias y problem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entes en la arquitectura de los últimos tiemp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26520" y="0"/>
            <a:ext cx="22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iograf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95280" y="907920"/>
            <a:ext cx="83534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ació el 20 de febrero de 1901 en la isla de Osel (Eston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90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migró junto a su familia a Estados U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1924 obtuvo el título de arquitecto por la Universidad de Pennsylvania y dedicó los veinte años posteriores a colaborar con otros colegas en diversas obras, sobre todo de carácter residen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 proyecto en equipo para la Carver Court War Housing (1942-1943) en Coatsworth (Pennsylvania) fue uno de los primeros en obtener un amplio reconocimi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rió el 17 de marzo de 1974 en Nueva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79280" y="189000"/>
            <a:ext cx="7483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x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ran depresión de 19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2° Guerra Mund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viendas socia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71960" y="0"/>
            <a:ext cx="42422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fluenci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J.Liberty Ta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aul Philippe Cr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 Corbus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57040" y="0"/>
            <a:ext cx="888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Cómo define Kahn la Arquitectu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3 CuadroTexto"/>
          <p:cNvSpPr/>
          <p:nvPr/>
        </p:nvSpPr>
        <p:spPr>
          <a:xfrm>
            <a:off x="0" y="85716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a Kahn, la arquitectura se convirtió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 búsqueda de la verdad y de edificios como cosas vivas. Él estaba encariñado con decir,”le pregunto al ladrillo...que quieres ser?, y el ladrillo contesta ‘ yo quiero ser arquitectura” . Kahn también fue obsesionado con la luz natural; el la uso como ningún otro arquitecto moder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149400" y="0"/>
            <a:ext cx="89924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Cuál es el rol del Arquitec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Las temáticas principales y fundamentales, según K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de la Arquitectura son  el espacio y la luz, Kahn 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plantea dos puntos fundamentales dentro de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Arquitectura que el usa en sus diseños, como lo 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la ocupación de la luz natural para definir c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espacio y el uso intencionado de materi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Kahn  definió su trabajo como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construcción reflexiva de espacio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3 CuadroTexto"/>
          <p:cNvSpPr/>
          <p:nvPr/>
        </p:nvSpPr>
        <p:spPr>
          <a:xfrm>
            <a:off x="0" y="10000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405720" y="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br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 Rectángulo"/>
          <p:cNvSpPr/>
          <p:nvPr/>
        </p:nvSpPr>
        <p:spPr>
          <a:xfrm>
            <a:off x="0" y="85716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laboratorios Richards (1958-1961) de la Universidad de Pennsylvania (Filadelf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Instituto Salk (1965) en La Jolla (Californi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Instituto indio de empresa (1975), en Ahmedabad (India) y sus proyectos de la década de 1960 para Dhaka, la capital de Bangladesh, como el edificio de la Asamblea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tras de sus obras más relevantes son el Instituto Salk en La Jolla (California, 1965), el Kimbell Art Museum en Fort Worth (Texas, 1972) y el conjunto de la Asamblea Nacional en Dhaka (1965-1974), la nueva capital de Banglade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056200" y="55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193080" cy="4802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289400" y="5445000"/>
            <a:ext cx="38322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lería de Arte Universidad de Y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ew Heaven, Connecti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951 - 19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21:17:54Z</dcterms:created>
  <dc:creator>WINDOWS</dc:creator>
  <dc:description/>
  <dc:language>en-US</dc:language>
  <cp:lastModifiedBy>Pilar Barba</cp:lastModifiedBy>
  <dcterms:modified xsi:type="dcterms:W3CDTF">2007-06-13T16:03:23Z</dcterms:modified>
  <cp:revision>27</cp:revision>
  <dc:subject/>
  <dc:title>Diapositiva 1</dc:title>
</cp:coreProperties>
</file>